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65E-E4F1-4773-8A0B-E24055D3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80A-CB55-4EA6-98F8-C6367732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E9F-D03D-4570-B0CE-288AFC8E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C77-41D2-43AC-A90B-1CA9E547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D87-ECF1-45B6-8584-C330D2CA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CDB-8176-42BA-9929-F065206A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5EE-A59E-447B-8DD0-A60A6A55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194-A1FD-4EA3-8E6A-4598CCDB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FB5-B485-4AA9-9600-441BDCD3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EC0-4E15-498C-97F8-7C232516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001-FDE5-421E-AB1D-FA56094C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C16-A8D9-4B1F-B765-B3E92EF3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8102-6EC2-4453-AFF8-67E825E6F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The equation of the vibrations of the note F above middle C is represented b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5 sin 69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π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Determine the amplitude and period for the function.  Explain why it would be difficult to graph this function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co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si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00200"/>
          <a:ext cx="34974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3497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3885840" y="3124080"/>
            <a:ext cx="5257800" cy="1274760"/>
            <a:chOff x="3885840" y="3124080"/>
            <a:chExt cx="5257800" cy="1274760"/>
          </a:xfrm>
        </p:grpSpPr>
        <p:sp>
          <p:nvSpPr>
            <p:cNvPr id="173" name=""/>
            <p:cNvSpPr/>
            <p:nvPr/>
          </p:nvSpPr>
          <p:spPr>
            <a:xfrm>
              <a:off x="5486400" y="312408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85840" y="367020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224080" y="2581200"/>
            <a:ext cx="1303200" cy="1303560"/>
          </a:xfrm>
          <a:custGeom>
            <a:avLst/>
            <a:gdLst/>
            <a:ahLst/>
            <a:rect l="l" t="t" r="r" b="b"/>
            <a:pathLst>
              <a:path w="3623" h="3622">
                <a:moveTo>
                  <a:pt x="6251" y="10790"/>
                </a:moveTo>
                <a:cubicBezTo>
                  <a:pt x="6379" y="10790"/>
                  <a:pt x="6502" y="10780"/>
                  <a:pt x="6623" y="10765"/>
                </a:cubicBezTo>
                <a:cubicBezTo>
                  <a:pt x="7004" y="10719"/>
                  <a:pt x="7408" y="10771"/>
                  <a:pt x="7789" y="10740"/>
                </a:cubicBezTo>
                <a:cubicBezTo>
                  <a:pt x="8344" y="10695"/>
                  <a:pt x="9265" y="10940"/>
                  <a:pt x="9773" y="10716"/>
                </a:cubicBezTo>
                <a:cubicBezTo>
                  <a:pt x="9798" y="10716"/>
                  <a:pt x="9806" y="10716"/>
                  <a:pt x="9798" y="10691"/>
                </a:cubicBezTo>
              </a:path>
              <a:path w="3623" h="3622">
                <a:moveTo>
                  <a:pt x="6300" y="10740"/>
                </a:moveTo>
                <a:cubicBezTo>
                  <a:pt x="6318" y="10713"/>
                  <a:pt x="6312" y="10746"/>
                  <a:pt x="6325" y="10716"/>
                </a:cubicBezTo>
                <a:cubicBezTo>
                  <a:pt x="6338" y="10688"/>
                  <a:pt x="6361" y="10661"/>
                  <a:pt x="6375" y="10641"/>
                </a:cubicBezTo>
                <a:cubicBezTo>
                  <a:pt x="6422" y="10572"/>
                  <a:pt x="6449" y="10563"/>
                  <a:pt x="6499" y="10492"/>
                </a:cubicBezTo>
                <a:cubicBezTo>
                  <a:pt x="6522" y="10459"/>
                  <a:pt x="6587" y="10393"/>
                  <a:pt x="6623" y="10344"/>
                </a:cubicBezTo>
                <a:cubicBezTo>
                  <a:pt x="6681" y="10265"/>
                  <a:pt x="6750" y="10184"/>
                  <a:pt x="6821" y="10120"/>
                </a:cubicBezTo>
                <a:cubicBezTo>
                  <a:pt x="6903" y="10047"/>
                  <a:pt x="6948" y="9982"/>
                  <a:pt x="7020" y="9897"/>
                </a:cubicBezTo>
                <a:cubicBezTo>
                  <a:pt x="7098" y="9805"/>
                  <a:pt x="7187" y="9712"/>
                  <a:pt x="7268" y="9624"/>
                </a:cubicBezTo>
                <a:cubicBezTo>
                  <a:pt x="7374" y="9509"/>
                  <a:pt x="7487" y="9418"/>
                  <a:pt x="7590" y="9302"/>
                </a:cubicBezTo>
                <a:cubicBezTo>
                  <a:pt x="7696" y="9183"/>
                  <a:pt x="7820" y="9096"/>
                  <a:pt x="7938" y="9004"/>
                </a:cubicBezTo>
                <a:cubicBezTo>
                  <a:pt x="8036" y="8928"/>
                  <a:pt x="8106" y="8818"/>
                  <a:pt x="8186" y="8731"/>
                </a:cubicBezTo>
                <a:cubicBezTo>
                  <a:pt x="8264" y="8646"/>
                  <a:pt x="8350" y="8563"/>
                  <a:pt x="8434" y="8483"/>
                </a:cubicBezTo>
                <a:cubicBezTo>
                  <a:pt x="8497" y="8423"/>
                  <a:pt x="8577" y="8396"/>
                  <a:pt x="8632" y="8334"/>
                </a:cubicBezTo>
                <a:cubicBezTo>
                  <a:pt x="8665" y="8296"/>
                  <a:pt x="8685" y="8237"/>
                  <a:pt x="8731" y="8210"/>
                </a:cubicBezTo>
                <a:cubicBezTo>
                  <a:pt x="8708" y="8233"/>
                  <a:pt x="8700" y="8237"/>
                  <a:pt x="8706" y="8260"/>
                </a:cubicBezTo>
              </a:path>
              <a:path w="3623" h="3622">
                <a:moveTo>
                  <a:pt x="6251" y="10740"/>
                </a:moveTo>
                <a:cubicBezTo>
                  <a:pt x="6236" y="10690"/>
                  <a:pt x="6238" y="10648"/>
                  <a:pt x="6226" y="10592"/>
                </a:cubicBezTo>
                <a:cubicBezTo>
                  <a:pt x="6208" y="10504"/>
                  <a:pt x="6201" y="10435"/>
                  <a:pt x="6201" y="10344"/>
                </a:cubicBezTo>
                <a:cubicBezTo>
                  <a:pt x="6201" y="10215"/>
                  <a:pt x="6190" y="10096"/>
                  <a:pt x="6176" y="9971"/>
                </a:cubicBezTo>
                <a:cubicBezTo>
                  <a:pt x="6151" y="9750"/>
                  <a:pt x="6186" y="9517"/>
                  <a:pt x="6201" y="9302"/>
                </a:cubicBezTo>
                <a:cubicBezTo>
                  <a:pt x="6217" y="9081"/>
                  <a:pt x="6214" y="8854"/>
                  <a:pt x="6226" y="8632"/>
                </a:cubicBezTo>
                <a:cubicBezTo>
                  <a:pt x="6233" y="8497"/>
                  <a:pt x="6251" y="8371"/>
                  <a:pt x="6251" y="8235"/>
                </a:cubicBezTo>
                <a:cubicBezTo>
                  <a:pt x="6251" y="8114"/>
                  <a:pt x="6264" y="7985"/>
                  <a:pt x="6276" y="7863"/>
                </a:cubicBezTo>
                <a:cubicBezTo>
                  <a:pt x="6290" y="7718"/>
                  <a:pt x="6300" y="7586"/>
                  <a:pt x="6300" y="7441"/>
                </a:cubicBezTo>
                <a:cubicBezTo>
                  <a:pt x="6300" y="7342"/>
                  <a:pt x="6300" y="7292"/>
                  <a:pt x="6300" y="7193"/>
                </a:cubicBezTo>
                <a:cubicBezTo>
                  <a:pt x="6300" y="7201"/>
                  <a:pt x="6300" y="7210"/>
                  <a:pt x="6300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4120" y="1187280"/>
            <a:ext cx="1036800" cy="1098720"/>
          </a:xfrm>
          <a:custGeom>
            <a:avLst/>
            <a:gdLst/>
            <a:ahLst/>
            <a:rect l="l" t="t" r="r" b="b"/>
            <a:pathLst>
              <a:path w="2878" h="3052">
                <a:moveTo>
                  <a:pt x="1265" y="4837"/>
                </a:moveTo>
                <a:cubicBezTo>
                  <a:pt x="1282" y="4970"/>
                  <a:pt x="1309" y="5102"/>
                  <a:pt x="1315" y="5234"/>
                </a:cubicBezTo>
                <a:cubicBezTo>
                  <a:pt x="1317" y="5283"/>
                  <a:pt x="1315" y="5333"/>
                  <a:pt x="1315" y="5383"/>
                </a:cubicBezTo>
                <a:cubicBezTo>
                  <a:pt x="1281" y="5337"/>
                  <a:pt x="1259" y="5309"/>
                  <a:pt x="1240" y="5259"/>
                </a:cubicBezTo>
                <a:cubicBezTo>
                  <a:pt x="1179" y="5102"/>
                  <a:pt x="1148" y="4947"/>
                  <a:pt x="1116" y="4787"/>
                </a:cubicBezTo>
                <a:cubicBezTo>
                  <a:pt x="1098" y="4696"/>
                  <a:pt x="1072" y="4607"/>
                  <a:pt x="1067" y="4514"/>
                </a:cubicBezTo>
                <a:cubicBezTo>
                  <a:pt x="1063" y="4441"/>
                  <a:pt x="1109" y="4380"/>
                  <a:pt x="1141" y="4316"/>
                </a:cubicBezTo>
                <a:cubicBezTo>
                  <a:pt x="1206" y="4187"/>
                  <a:pt x="1347" y="4138"/>
                  <a:pt x="1463" y="4068"/>
                </a:cubicBezTo>
                <a:cubicBezTo>
                  <a:pt x="1575" y="4001"/>
                  <a:pt x="1690" y="3942"/>
                  <a:pt x="1811" y="3894"/>
                </a:cubicBezTo>
                <a:cubicBezTo>
                  <a:pt x="1874" y="3869"/>
                  <a:pt x="1969" y="3835"/>
                  <a:pt x="2034" y="3820"/>
                </a:cubicBezTo>
                <a:cubicBezTo>
                  <a:pt x="2059" y="3820"/>
                  <a:pt x="2067" y="3820"/>
                  <a:pt x="2084" y="3820"/>
                </a:cubicBezTo>
              </a:path>
              <a:path w="2878" h="3052">
                <a:moveTo>
                  <a:pt x="1439" y="4564"/>
                </a:moveTo>
                <a:cubicBezTo>
                  <a:pt x="1500" y="4552"/>
                  <a:pt x="1555" y="4518"/>
                  <a:pt x="1612" y="4490"/>
                </a:cubicBezTo>
                <a:cubicBezTo>
                  <a:pt x="1680" y="4456"/>
                  <a:pt x="1724" y="4447"/>
                  <a:pt x="1786" y="4465"/>
                </a:cubicBezTo>
                <a:cubicBezTo>
                  <a:pt x="1786" y="4552"/>
                  <a:pt x="1777" y="4634"/>
                  <a:pt x="1736" y="4713"/>
                </a:cubicBezTo>
                <a:cubicBezTo>
                  <a:pt x="1682" y="4818"/>
                  <a:pt x="1657" y="4924"/>
                  <a:pt x="1612" y="5035"/>
                </a:cubicBezTo>
                <a:cubicBezTo>
                  <a:pt x="1592" y="5076"/>
                  <a:pt x="1584" y="5082"/>
                  <a:pt x="1588" y="5110"/>
                </a:cubicBezTo>
                <a:cubicBezTo>
                  <a:pt x="1629" y="5142"/>
                  <a:pt x="1662" y="5149"/>
                  <a:pt x="1712" y="5110"/>
                </a:cubicBezTo>
                <a:cubicBezTo>
                  <a:pt x="1788" y="5051"/>
                  <a:pt x="1857" y="4997"/>
                  <a:pt x="1935" y="4936"/>
                </a:cubicBezTo>
                <a:cubicBezTo>
                  <a:pt x="1995" y="4889"/>
                  <a:pt x="2055" y="4866"/>
                  <a:pt x="2108" y="4812"/>
                </a:cubicBezTo>
              </a:path>
              <a:path w="2878" h="3052">
                <a:moveTo>
                  <a:pt x="1290" y="5631"/>
                </a:moveTo>
                <a:cubicBezTo>
                  <a:pt x="1442" y="5528"/>
                  <a:pt x="1582" y="5404"/>
                  <a:pt x="1736" y="5308"/>
                </a:cubicBezTo>
                <a:cubicBezTo>
                  <a:pt x="1898" y="5207"/>
                  <a:pt x="2076" y="5114"/>
                  <a:pt x="2232" y="5011"/>
                </a:cubicBezTo>
                <a:cubicBezTo>
                  <a:pt x="2270" y="5011"/>
                  <a:pt x="2170" y="5053"/>
                  <a:pt x="2133" y="5085"/>
                </a:cubicBezTo>
              </a:path>
              <a:path w="2878" h="3052">
                <a:moveTo>
                  <a:pt x="1811" y="5680"/>
                </a:moveTo>
                <a:cubicBezTo>
                  <a:pt x="1811" y="5697"/>
                  <a:pt x="1811" y="5713"/>
                  <a:pt x="1811" y="5730"/>
                </a:cubicBezTo>
                <a:cubicBezTo>
                  <a:pt x="1837" y="5686"/>
                  <a:pt x="1836" y="5659"/>
                  <a:pt x="1836" y="5606"/>
                </a:cubicBezTo>
                <a:cubicBezTo>
                  <a:pt x="1836" y="5557"/>
                  <a:pt x="1830" y="5506"/>
                  <a:pt x="1885" y="5482"/>
                </a:cubicBezTo>
                <a:cubicBezTo>
                  <a:pt x="1942" y="5457"/>
                  <a:pt x="2001" y="5525"/>
                  <a:pt x="2034" y="5556"/>
                </a:cubicBezTo>
                <a:cubicBezTo>
                  <a:pt x="2121" y="5637"/>
                  <a:pt x="2129" y="5713"/>
                  <a:pt x="2133" y="5829"/>
                </a:cubicBezTo>
                <a:cubicBezTo>
                  <a:pt x="2137" y="5938"/>
                  <a:pt x="2145" y="6049"/>
                  <a:pt x="2108" y="6152"/>
                </a:cubicBezTo>
                <a:cubicBezTo>
                  <a:pt x="2085" y="6217"/>
                  <a:pt x="2043" y="6286"/>
                  <a:pt x="1984" y="6325"/>
                </a:cubicBezTo>
                <a:cubicBezTo>
                  <a:pt x="1932" y="6360"/>
                  <a:pt x="1882" y="6362"/>
                  <a:pt x="1836" y="6325"/>
                </a:cubicBezTo>
                <a:cubicBezTo>
                  <a:pt x="1811" y="6305"/>
                  <a:pt x="1792" y="6209"/>
                  <a:pt x="1811" y="6176"/>
                </a:cubicBezTo>
                <a:cubicBezTo>
                  <a:pt x="1852" y="6106"/>
                  <a:pt x="1985" y="6063"/>
                  <a:pt x="2059" y="6052"/>
                </a:cubicBezTo>
                <a:cubicBezTo>
                  <a:pt x="2162" y="6037"/>
                  <a:pt x="2235" y="6037"/>
                  <a:pt x="2332" y="6052"/>
                </a:cubicBezTo>
                <a:cubicBezTo>
                  <a:pt x="2393" y="6061"/>
                  <a:pt x="2430" y="6060"/>
                  <a:pt x="2480" y="6077"/>
                </a:cubicBezTo>
                <a:cubicBezTo>
                  <a:pt x="2552" y="6101"/>
                  <a:pt x="2464" y="6113"/>
                  <a:pt x="2456" y="6102"/>
                </a:cubicBezTo>
                <a:cubicBezTo>
                  <a:pt x="2456" y="6094"/>
                  <a:pt x="2456" y="6085"/>
                  <a:pt x="2456" y="6077"/>
                </a:cubicBezTo>
              </a:path>
              <a:path w="2878" h="3052">
                <a:moveTo>
                  <a:pt x="2555" y="4986"/>
                </a:moveTo>
                <a:cubicBezTo>
                  <a:pt x="2636" y="4928"/>
                  <a:pt x="2728" y="4875"/>
                  <a:pt x="2803" y="4812"/>
                </a:cubicBezTo>
                <a:cubicBezTo>
                  <a:pt x="2843" y="4779"/>
                  <a:pt x="2933" y="4704"/>
                  <a:pt x="2902" y="4688"/>
                </a:cubicBezTo>
              </a:path>
              <a:path w="2878" h="3052">
                <a:moveTo>
                  <a:pt x="2654" y="5135"/>
                </a:moveTo>
                <a:cubicBezTo>
                  <a:pt x="2783" y="5066"/>
                  <a:pt x="2834" y="5016"/>
                  <a:pt x="2927" y="4911"/>
                </a:cubicBezTo>
                <a:cubicBezTo>
                  <a:pt x="2952" y="4886"/>
                  <a:pt x="2976" y="4862"/>
                  <a:pt x="3001" y="4837"/>
                </a:cubicBezTo>
              </a:path>
              <a:path w="2878" h="3052">
                <a:moveTo>
                  <a:pt x="3299" y="4514"/>
                </a:moveTo>
                <a:cubicBezTo>
                  <a:pt x="3299" y="4539"/>
                  <a:pt x="3299" y="4547"/>
                  <a:pt x="3299" y="4514"/>
                </a:cubicBezTo>
              </a:path>
              <a:path w="2878" h="3052">
                <a:moveTo>
                  <a:pt x="3101" y="3795"/>
                </a:moveTo>
                <a:cubicBezTo>
                  <a:pt x="3129" y="3723"/>
                  <a:pt x="3165" y="3667"/>
                  <a:pt x="3200" y="3597"/>
                </a:cubicBezTo>
                <a:cubicBezTo>
                  <a:pt x="3230" y="3537"/>
                  <a:pt x="3316" y="3464"/>
                  <a:pt x="3373" y="3423"/>
                </a:cubicBezTo>
                <a:cubicBezTo>
                  <a:pt x="3425" y="3385"/>
                  <a:pt x="3475" y="3371"/>
                  <a:pt x="3522" y="3324"/>
                </a:cubicBezTo>
                <a:cubicBezTo>
                  <a:pt x="3543" y="3303"/>
                  <a:pt x="3560" y="3299"/>
                  <a:pt x="3572" y="3349"/>
                </a:cubicBezTo>
                <a:cubicBezTo>
                  <a:pt x="3598" y="3460"/>
                  <a:pt x="3583" y="3586"/>
                  <a:pt x="3621" y="3696"/>
                </a:cubicBezTo>
                <a:cubicBezTo>
                  <a:pt x="3671" y="3843"/>
                  <a:pt x="3717" y="3971"/>
                  <a:pt x="3820" y="4093"/>
                </a:cubicBezTo>
                <a:cubicBezTo>
                  <a:pt x="3862" y="4143"/>
                  <a:pt x="3903" y="4192"/>
                  <a:pt x="3944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800" y="2973240"/>
            <a:ext cx="2287440" cy="2268720"/>
          </a:xfrm>
          <a:custGeom>
            <a:avLst/>
            <a:gdLst/>
            <a:ahLst/>
            <a:rect l="l" t="t" r="r" b="b"/>
            <a:pathLst>
              <a:path w="6351" h="6301">
                <a:moveTo>
                  <a:pt x="6226" y="10641"/>
                </a:moveTo>
                <a:cubicBezTo>
                  <a:pt x="6201" y="10630"/>
                  <a:pt x="6136" y="10595"/>
                  <a:pt x="6127" y="10592"/>
                </a:cubicBezTo>
                <a:cubicBezTo>
                  <a:pt x="6065" y="10569"/>
                  <a:pt x="6038" y="10558"/>
                  <a:pt x="5978" y="10517"/>
                </a:cubicBezTo>
                <a:cubicBezTo>
                  <a:pt x="5910" y="10471"/>
                  <a:pt x="5846" y="10414"/>
                  <a:pt x="5779" y="10368"/>
                </a:cubicBezTo>
                <a:cubicBezTo>
                  <a:pt x="5663" y="10288"/>
                  <a:pt x="5546" y="10207"/>
                  <a:pt x="5432" y="10120"/>
                </a:cubicBezTo>
                <a:cubicBezTo>
                  <a:pt x="5329" y="10042"/>
                  <a:pt x="5234" y="9976"/>
                  <a:pt x="5135" y="9897"/>
                </a:cubicBezTo>
                <a:cubicBezTo>
                  <a:pt x="4961" y="9759"/>
                  <a:pt x="4797" y="9606"/>
                  <a:pt x="4638" y="9451"/>
                </a:cubicBezTo>
                <a:cubicBezTo>
                  <a:pt x="4530" y="9346"/>
                  <a:pt x="4394" y="9262"/>
                  <a:pt x="4291" y="9153"/>
                </a:cubicBezTo>
                <a:cubicBezTo>
                  <a:pt x="4177" y="9032"/>
                  <a:pt x="4093" y="8954"/>
                  <a:pt x="3969" y="8855"/>
                </a:cubicBezTo>
                <a:cubicBezTo>
                  <a:pt x="3822" y="8737"/>
                  <a:pt x="3684" y="8602"/>
                  <a:pt x="3547" y="8483"/>
                </a:cubicBezTo>
                <a:cubicBezTo>
                  <a:pt x="3489" y="8432"/>
                  <a:pt x="3424" y="8394"/>
                  <a:pt x="3373" y="8334"/>
                </a:cubicBezTo>
                <a:cubicBezTo>
                  <a:pt x="3349" y="8306"/>
                  <a:pt x="3325" y="8260"/>
                  <a:pt x="3299" y="8260"/>
                </a:cubicBezTo>
                <a:cubicBezTo>
                  <a:pt x="3274" y="8260"/>
                  <a:pt x="3338" y="8289"/>
                  <a:pt x="3324" y="8310"/>
                </a:cubicBezTo>
              </a:path>
              <a:path w="6351" h="6301">
                <a:moveTo>
                  <a:pt x="6300" y="10815"/>
                </a:moveTo>
                <a:cubicBezTo>
                  <a:pt x="6262" y="10803"/>
                  <a:pt x="6278" y="10797"/>
                  <a:pt x="6226" y="10790"/>
                </a:cubicBezTo>
                <a:cubicBezTo>
                  <a:pt x="6090" y="10771"/>
                  <a:pt x="5939" y="10777"/>
                  <a:pt x="5804" y="10765"/>
                </a:cubicBezTo>
                <a:cubicBezTo>
                  <a:pt x="5558" y="10744"/>
                  <a:pt x="5307" y="10727"/>
                  <a:pt x="5060" y="10716"/>
                </a:cubicBezTo>
                <a:cubicBezTo>
                  <a:pt x="4784" y="10703"/>
                  <a:pt x="4517" y="10663"/>
                  <a:pt x="4242" y="10641"/>
                </a:cubicBezTo>
                <a:cubicBezTo>
                  <a:pt x="3768" y="10603"/>
                  <a:pt x="3143" y="10581"/>
                  <a:pt x="2704" y="10691"/>
                </a:cubicBezTo>
                <a:cubicBezTo>
                  <a:pt x="2608" y="10715"/>
                  <a:pt x="2420" y="10783"/>
                  <a:pt x="2456" y="10691"/>
                </a:cubicBezTo>
                <a:cubicBezTo>
                  <a:pt x="2472" y="10674"/>
                  <a:pt x="2489" y="10658"/>
                  <a:pt x="2505" y="10641"/>
                </a:cubicBezTo>
              </a:path>
              <a:path w="6351" h="6301">
                <a:moveTo>
                  <a:pt x="6127" y="10716"/>
                </a:moveTo>
                <a:cubicBezTo>
                  <a:pt x="6092" y="10742"/>
                  <a:pt x="6065" y="10763"/>
                  <a:pt x="6028" y="10790"/>
                </a:cubicBezTo>
                <a:cubicBezTo>
                  <a:pt x="5979" y="10826"/>
                  <a:pt x="5945" y="10879"/>
                  <a:pt x="5904" y="10914"/>
                </a:cubicBezTo>
                <a:cubicBezTo>
                  <a:pt x="5811" y="10994"/>
                  <a:pt x="5759" y="11069"/>
                  <a:pt x="5680" y="11162"/>
                </a:cubicBezTo>
                <a:cubicBezTo>
                  <a:pt x="5557" y="11307"/>
                  <a:pt x="5415" y="11448"/>
                  <a:pt x="5283" y="11584"/>
                </a:cubicBezTo>
                <a:cubicBezTo>
                  <a:pt x="5152" y="11719"/>
                  <a:pt x="5038" y="11867"/>
                  <a:pt x="4911" y="12005"/>
                </a:cubicBezTo>
                <a:cubicBezTo>
                  <a:pt x="4780" y="12147"/>
                  <a:pt x="4640" y="12281"/>
                  <a:pt x="4514" y="12427"/>
                </a:cubicBezTo>
                <a:cubicBezTo>
                  <a:pt x="4387" y="12574"/>
                  <a:pt x="4256" y="12712"/>
                  <a:pt x="4118" y="12849"/>
                </a:cubicBezTo>
                <a:cubicBezTo>
                  <a:pt x="3965" y="13001"/>
                  <a:pt x="3830" y="13181"/>
                  <a:pt x="3671" y="13320"/>
                </a:cubicBezTo>
                <a:cubicBezTo>
                  <a:pt x="3612" y="13372"/>
                  <a:pt x="3553" y="13446"/>
                  <a:pt x="3497" y="13494"/>
                </a:cubicBezTo>
                <a:cubicBezTo>
                  <a:pt x="3453" y="13532"/>
                  <a:pt x="3434" y="13562"/>
                  <a:pt x="3473" y="13494"/>
                </a:cubicBezTo>
                <a:cubicBezTo>
                  <a:pt x="3481" y="13486"/>
                  <a:pt x="3489" y="13477"/>
                  <a:pt x="3497" y="13469"/>
                </a:cubicBezTo>
              </a:path>
              <a:path w="6351" h="6301">
                <a:moveTo>
                  <a:pt x="6127" y="10716"/>
                </a:moveTo>
                <a:lnTo>
                  <a:pt x="6127" y="10740"/>
                </a:lnTo>
                <a:lnTo>
                  <a:pt x="6102" y="10740"/>
                </a:lnTo>
                <a:lnTo>
                  <a:pt x="6102" y="10765"/>
                </a:lnTo>
                <a:lnTo>
                  <a:pt x="6102" y="10790"/>
                </a:lnTo>
                <a:lnTo>
                  <a:pt x="6102" y="10815"/>
                </a:lnTo>
                <a:lnTo>
                  <a:pt x="6102" y="10840"/>
                </a:lnTo>
                <a:lnTo>
                  <a:pt x="6102" y="10864"/>
                </a:lnTo>
                <a:lnTo>
                  <a:pt x="6102" y="10914"/>
                </a:lnTo>
                <a:lnTo>
                  <a:pt x="6102" y="10939"/>
                </a:lnTo>
                <a:lnTo>
                  <a:pt x="6102" y="10988"/>
                </a:lnTo>
                <a:lnTo>
                  <a:pt x="6102" y="11038"/>
                </a:lnTo>
                <a:lnTo>
                  <a:pt x="6102" y="11112"/>
                </a:lnTo>
                <a:lnTo>
                  <a:pt x="6102" y="11237"/>
                </a:lnTo>
                <a:lnTo>
                  <a:pt x="6102" y="11311"/>
                </a:lnTo>
                <a:lnTo>
                  <a:pt x="6127" y="11361"/>
                </a:lnTo>
                <a:lnTo>
                  <a:pt x="6127" y="11460"/>
                </a:lnTo>
                <a:lnTo>
                  <a:pt x="6127" y="11534"/>
                </a:lnTo>
                <a:lnTo>
                  <a:pt x="6127" y="11633"/>
                </a:lnTo>
                <a:lnTo>
                  <a:pt x="6127" y="11733"/>
                </a:lnTo>
                <a:lnTo>
                  <a:pt x="6127" y="11832"/>
                </a:lnTo>
                <a:lnTo>
                  <a:pt x="6127" y="11931"/>
                </a:lnTo>
                <a:lnTo>
                  <a:pt x="6152" y="12030"/>
                </a:lnTo>
                <a:lnTo>
                  <a:pt x="6152" y="12278"/>
                </a:lnTo>
                <a:lnTo>
                  <a:pt x="6152" y="12402"/>
                </a:lnTo>
                <a:lnTo>
                  <a:pt x="6152" y="12526"/>
                </a:lnTo>
                <a:lnTo>
                  <a:pt x="6152" y="12650"/>
                </a:lnTo>
                <a:lnTo>
                  <a:pt x="6152" y="12750"/>
                </a:lnTo>
                <a:lnTo>
                  <a:pt x="6152" y="12898"/>
                </a:lnTo>
                <a:lnTo>
                  <a:pt x="6127" y="12998"/>
                </a:lnTo>
                <a:lnTo>
                  <a:pt x="6127" y="13122"/>
                </a:lnTo>
                <a:lnTo>
                  <a:pt x="6127" y="13246"/>
                </a:lnTo>
                <a:lnTo>
                  <a:pt x="6127" y="13370"/>
                </a:lnTo>
                <a:lnTo>
                  <a:pt x="6127" y="13494"/>
                </a:lnTo>
                <a:lnTo>
                  <a:pt x="6102" y="13593"/>
                </a:lnTo>
                <a:lnTo>
                  <a:pt x="6102" y="13717"/>
                </a:lnTo>
                <a:lnTo>
                  <a:pt x="6102" y="13816"/>
                </a:lnTo>
                <a:lnTo>
                  <a:pt x="6102" y="13915"/>
                </a:lnTo>
                <a:lnTo>
                  <a:pt x="6102" y="13990"/>
                </a:lnTo>
                <a:lnTo>
                  <a:pt x="6102" y="14089"/>
                </a:lnTo>
                <a:lnTo>
                  <a:pt x="6102" y="14163"/>
                </a:lnTo>
                <a:lnTo>
                  <a:pt x="6102" y="14238"/>
                </a:lnTo>
                <a:lnTo>
                  <a:pt x="6102" y="14312"/>
                </a:lnTo>
                <a:lnTo>
                  <a:pt x="6102" y="14362"/>
                </a:lnTo>
                <a:lnTo>
                  <a:pt x="6102" y="14412"/>
                </a:lnTo>
                <a:lnTo>
                  <a:pt x="6102" y="14461"/>
                </a:lnTo>
                <a:lnTo>
                  <a:pt x="6102" y="14536"/>
                </a:lnTo>
                <a:lnTo>
                  <a:pt x="6102" y="14560"/>
                </a:lnTo>
                <a:lnTo>
                  <a:pt x="6102" y="14536"/>
                </a:lnTo>
                <a:lnTo>
                  <a:pt x="6102" y="14511"/>
                </a:lnTo>
              </a:path>
              <a:path w="6351" h="6301">
                <a:moveTo>
                  <a:pt x="6276" y="10765"/>
                </a:moveTo>
                <a:cubicBezTo>
                  <a:pt x="6311" y="10810"/>
                  <a:pt x="6311" y="10838"/>
                  <a:pt x="6350" y="10889"/>
                </a:cubicBezTo>
                <a:cubicBezTo>
                  <a:pt x="6396" y="10950"/>
                  <a:pt x="6452" y="11003"/>
                  <a:pt x="6499" y="11063"/>
                </a:cubicBezTo>
                <a:cubicBezTo>
                  <a:pt x="6556" y="11136"/>
                  <a:pt x="6611" y="11215"/>
                  <a:pt x="6672" y="11286"/>
                </a:cubicBezTo>
                <a:cubicBezTo>
                  <a:pt x="6752" y="11379"/>
                  <a:pt x="6836" y="11471"/>
                  <a:pt x="6921" y="11559"/>
                </a:cubicBezTo>
                <a:cubicBezTo>
                  <a:pt x="7027" y="11668"/>
                  <a:pt x="7125" y="11786"/>
                  <a:pt x="7218" y="11906"/>
                </a:cubicBezTo>
                <a:cubicBezTo>
                  <a:pt x="7318" y="12035"/>
                  <a:pt x="7435" y="12137"/>
                  <a:pt x="7541" y="12254"/>
                </a:cubicBezTo>
                <a:cubicBezTo>
                  <a:pt x="7663" y="12388"/>
                  <a:pt x="7784" y="12521"/>
                  <a:pt x="7913" y="12650"/>
                </a:cubicBezTo>
                <a:cubicBezTo>
                  <a:pt x="8024" y="12761"/>
                  <a:pt x="8108" y="12881"/>
                  <a:pt x="8210" y="12998"/>
                </a:cubicBezTo>
                <a:cubicBezTo>
                  <a:pt x="8313" y="13117"/>
                  <a:pt x="8441" y="13192"/>
                  <a:pt x="8558" y="13295"/>
                </a:cubicBezTo>
                <a:cubicBezTo>
                  <a:pt x="8616" y="13347"/>
                  <a:pt x="8674" y="13405"/>
                  <a:pt x="8731" y="13444"/>
                </a:cubicBezTo>
                <a:cubicBezTo>
                  <a:pt x="8754" y="13467"/>
                  <a:pt x="8758" y="13475"/>
                  <a:pt x="8781" y="13469"/>
                </a:cubicBezTo>
                <a:cubicBezTo>
                  <a:pt x="8767" y="13438"/>
                  <a:pt x="8773" y="13400"/>
                  <a:pt x="8756" y="13370"/>
                </a:cubicBezTo>
                <a:cubicBezTo>
                  <a:pt x="8723" y="13320"/>
                  <a:pt x="8690" y="13271"/>
                  <a:pt x="8657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45120" y="1214280"/>
            <a:ext cx="384120" cy="527040"/>
          </a:xfrm>
          <a:custGeom>
            <a:avLst/>
            <a:gdLst/>
            <a:ahLst/>
            <a:rect l="l" t="t" r="r" b="b"/>
            <a:pathLst>
              <a:path w="1067" h="1465">
                <a:moveTo>
                  <a:pt x="17115" y="3373"/>
                </a:moveTo>
                <a:cubicBezTo>
                  <a:pt x="17127" y="3426"/>
                  <a:pt x="17126" y="3496"/>
                  <a:pt x="17140" y="3547"/>
                </a:cubicBezTo>
                <a:cubicBezTo>
                  <a:pt x="17167" y="3646"/>
                  <a:pt x="17181" y="3749"/>
                  <a:pt x="17214" y="3845"/>
                </a:cubicBezTo>
                <a:cubicBezTo>
                  <a:pt x="17261" y="3982"/>
                  <a:pt x="17337" y="4110"/>
                  <a:pt x="17388" y="4242"/>
                </a:cubicBezTo>
                <a:cubicBezTo>
                  <a:pt x="17430" y="4353"/>
                  <a:pt x="17487" y="4466"/>
                  <a:pt x="17562" y="4564"/>
                </a:cubicBezTo>
                <a:cubicBezTo>
                  <a:pt x="17608" y="4624"/>
                  <a:pt x="17677" y="4719"/>
                  <a:pt x="17711" y="4762"/>
                </a:cubicBezTo>
                <a:cubicBezTo>
                  <a:pt x="17719" y="4770"/>
                  <a:pt x="17727" y="4779"/>
                  <a:pt x="17735" y="4787"/>
                </a:cubicBezTo>
                <a:cubicBezTo>
                  <a:pt x="17735" y="4737"/>
                  <a:pt x="17735" y="4688"/>
                  <a:pt x="17735" y="4638"/>
                </a:cubicBezTo>
              </a:path>
              <a:path w="1067" h="1465">
                <a:moveTo>
                  <a:pt x="17859" y="3423"/>
                </a:moveTo>
                <a:cubicBezTo>
                  <a:pt x="17772" y="3573"/>
                  <a:pt x="17683" y="3727"/>
                  <a:pt x="17587" y="3870"/>
                </a:cubicBezTo>
                <a:cubicBezTo>
                  <a:pt x="17457" y="4065"/>
                  <a:pt x="17304" y="4250"/>
                  <a:pt x="17165" y="4440"/>
                </a:cubicBezTo>
                <a:cubicBezTo>
                  <a:pt x="17091" y="4541"/>
                  <a:pt x="17015" y="4651"/>
                  <a:pt x="16942" y="4738"/>
                </a:cubicBezTo>
                <a:cubicBezTo>
                  <a:pt x="16894" y="4795"/>
                  <a:pt x="16892" y="4798"/>
                  <a:pt x="16818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02280" y="1384200"/>
            <a:ext cx="1036800" cy="704880"/>
          </a:xfrm>
          <a:custGeom>
            <a:avLst/>
            <a:gdLst/>
            <a:ahLst/>
            <a:rect l="l" t="t" r="r" b="b"/>
            <a:pathLst>
              <a:path w="2878" h="1960">
                <a:moveTo>
                  <a:pt x="19174" y="4242"/>
                </a:moveTo>
                <a:cubicBezTo>
                  <a:pt x="19245" y="4283"/>
                  <a:pt x="19312" y="4245"/>
                  <a:pt x="19397" y="4242"/>
                </a:cubicBezTo>
                <a:cubicBezTo>
                  <a:pt x="19533" y="4237"/>
                  <a:pt x="19656" y="4195"/>
                  <a:pt x="19794" y="4192"/>
                </a:cubicBezTo>
                <a:cubicBezTo>
                  <a:pt x="19945" y="4189"/>
                  <a:pt x="20066" y="4174"/>
                  <a:pt x="20216" y="4192"/>
                </a:cubicBezTo>
                <a:cubicBezTo>
                  <a:pt x="20268" y="4198"/>
                  <a:pt x="20325" y="4171"/>
                  <a:pt x="20340" y="4217"/>
                </a:cubicBezTo>
              </a:path>
              <a:path w="2878" h="1960">
                <a:moveTo>
                  <a:pt x="21134" y="3919"/>
                </a:moveTo>
                <a:cubicBezTo>
                  <a:pt x="21158" y="4037"/>
                  <a:pt x="21139" y="4079"/>
                  <a:pt x="21134" y="4192"/>
                </a:cubicBezTo>
                <a:cubicBezTo>
                  <a:pt x="21130" y="4290"/>
                  <a:pt x="21120" y="4401"/>
                  <a:pt x="21158" y="4490"/>
                </a:cubicBezTo>
                <a:cubicBezTo>
                  <a:pt x="21188" y="4562"/>
                  <a:pt x="21224" y="4620"/>
                  <a:pt x="21307" y="4638"/>
                </a:cubicBezTo>
                <a:cubicBezTo>
                  <a:pt x="21393" y="4657"/>
                  <a:pt x="21509" y="4631"/>
                  <a:pt x="21580" y="4589"/>
                </a:cubicBezTo>
                <a:cubicBezTo>
                  <a:pt x="21672" y="4535"/>
                  <a:pt x="21725" y="4454"/>
                  <a:pt x="21779" y="4366"/>
                </a:cubicBezTo>
                <a:cubicBezTo>
                  <a:pt x="21839" y="4269"/>
                  <a:pt x="21861" y="4173"/>
                  <a:pt x="21903" y="4068"/>
                </a:cubicBezTo>
                <a:cubicBezTo>
                  <a:pt x="21925" y="4012"/>
                  <a:pt x="21944" y="3952"/>
                  <a:pt x="21952" y="3894"/>
                </a:cubicBezTo>
                <a:cubicBezTo>
                  <a:pt x="21952" y="3870"/>
                  <a:pt x="21952" y="3861"/>
                  <a:pt x="21952" y="3845"/>
                </a:cubicBezTo>
                <a:cubicBezTo>
                  <a:pt x="21946" y="3912"/>
                  <a:pt x="21914" y="3955"/>
                  <a:pt x="21903" y="4018"/>
                </a:cubicBezTo>
                <a:cubicBezTo>
                  <a:pt x="21885" y="4126"/>
                  <a:pt x="21878" y="4230"/>
                  <a:pt x="21878" y="4341"/>
                </a:cubicBezTo>
                <a:cubicBezTo>
                  <a:pt x="21878" y="4524"/>
                  <a:pt x="21928" y="4656"/>
                  <a:pt x="21952" y="4837"/>
                </a:cubicBezTo>
                <a:cubicBezTo>
                  <a:pt x="21972" y="4988"/>
                  <a:pt x="22003" y="5130"/>
                  <a:pt x="22027" y="5283"/>
                </a:cubicBezTo>
                <a:cubicBezTo>
                  <a:pt x="22044" y="5389"/>
                  <a:pt x="22077" y="5522"/>
                  <a:pt x="22051" y="5631"/>
                </a:cubicBezTo>
                <a:cubicBezTo>
                  <a:pt x="22031" y="5713"/>
                  <a:pt x="21931" y="5769"/>
                  <a:pt x="21853" y="5779"/>
                </a:cubicBezTo>
                <a:cubicBezTo>
                  <a:pt x="21719" y="5796"/>
                  <a:pt x="21567" y="5822"/>
                  <a:pt x="21431" y="5804"/>
                </a:cubicBezTo>
                <a:cubicBezTo>
                  <a:pt x="21315" y="5789"/>
                  <a:pt x="21199" y="5770"/>
                  <a:pt x="21084" y="5755"/>
                </a:cubicBezTo>
                <a:cubicBezTo>
                  <a:pt x="20991" y="5743"/>
                  <a:pt x="21041" y="5747"/>
                  <a:pt x="21010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33960" y="2554200"/>
            <a:ext cx="3573360" cy="2044800"/>
          </a:xfrm>
          <a:custGeom>
            <a:avLst/>
            <a:gdLst/>
            <a:ahLst/>
            <a:rect l="l" t="t" r="r" b="b"/>
            <a:pathLst>
              <a:path w="9923" h="5681">
                <a:moveTo>
                  <a:pt x="14957" y="7293"/>
                </a:moveTo>
                <a:cubicBezTo>
                  <a:pt x="15110" y="7293"/>
                  <a:pt x="15259" y="7283"/>
                  <a:pt x="15404" y="7268"/>
                </a:cubicBezTo>
                <a:cubicBezTo>
                  <a:pt x="15489" y="7259"/>
                  <a:pt x="15558" y="7285"/>
                  <a:pt x="15627" y="7243"/>
                </a:cubicBezTo>
              </a:path>
              <a:path w="9923" h="5681">
                <a:moveTo>
                  <a:pt x="14263" y="7193"/>
                </a:moveTo>
                <a:cubicBezTo>
                  <a:pt x="14345" y="7101"/>
                  <a:pt x="14379" y="7100"/>
                  <a:pt x="14511" y="7094"/>
                </a:cubicBezTo>
                <a:cubicBezTo>
                  <a:pt x="14576" y="7091"/>
                  <a:pt x="14658" y="7091"/>
                  <a:pt x="14684" y="7169"/>
                </a:cubicBezTo>
                <a:cubicBezTo>
                  <a:pt x="14708" y="7243"/>
                  <a:pt x="14600" y="7345"/>
                  <a:pt x="14560" y="7392"/>
                </a:cubicBezTo>
                <a:cubicBezTo>
                  <a:pt x="14509" y="7451"/>
                  <a:pt x="14452" y="7499"/>
                  <a:pt x="14412" y="7565"/>
                </a:cubicBezTo>
                <a:cubicBezTo>
                  <a:pt x="14404" y="7582"/>
                  <a:pt x="14395" y="7598"/>
                  <a:pt x="14387" y="7615"/>
                </a:cubicBezTo>
                <a:cubicBezTo>
                  <a:pt x="14454" y="7669"/>
                  <a:pt x="14500" y="7665"/>
                  <a:pt x="14585" y="7665"/>
                </a:cubicBezTo>
                <a:cubicBezTo>
                  <a:pt x="14684" y="7665"/>
                  <a:pt x="14784" y="7665"/>
                  <a:pt x="14883" y="7665"/>
                </a:cubicBezTo>
              </a:path>
              <a:path w="9923" h="5681">
                <a:moveTo>
                  <a:pt x="23490" y="9624"/>
                </a:moveTo>
                <a:cubicBezTo>
                  <a:pt x="23490" y="9709"/>
                  <a:pt x="23477" y="9767"/>
                  <a:pt x="23465" y="9847"/>
                </a:cubicBezTo>
                <a:cubicBezTo>
                  <a:pt x="23452" y="9935"/>
                  <a:pt x="23450" y="10033"/>
                  <a:pt x="23440" y="10120"/>
                </a:cubicBezTo>
                <a:cubicBezTo>
                  <a:pt x="23435" y="10165"/>
                  <a:pt x="23440" y="10223"/>
                  <a:pt x="23440" y="10269"/>
                </a:cubicBezTo>
              </a:path>
              <a:path w="9923" h="5681">
                <a:moveTo>
                  <a:pt x="23093" y="11361"/>
                </a:moveTo>
                <a:cubicBezTo>
                  <a:pt x="23132" y="11351"/>
                  <a:pt x="23182" y="11313"/>
                  <a:pt x="23217" y="11286"/>
                </a:cubicBezTo>
                <a:cubicBezTo>
                  <a:pt x="23268" y="11247"/>
                  <a:pt x="23333" y="11250"/>
                  <a:pt x="23391" y="11286"/>
                </a:cubicBezTo>
                <a:cubicBezTo>
                  <a:pt x="23446" y="11320"/>
                  <a:pt x="23463" y="11376"/>
                  <a:pt x="23465" y="11435"/>
                </a:cubicBezTo>
                <a:cubicBezTo>
                  <a:pt x="23471" y="11594"/>
                  <a:pt x="23394" y="11653"/>
                  <a:pt x="23316" y="11782"/>
                </a:cubicBezTo>
                <a:cubicBezTo>
                  <a:pt x="23288" y="11828"/>
                  <a:pt x="23246" y="11877"/>
                  <a:pt x="23242" y="11931"/>
                </a:cubicBezTo>
                <a:cubicBezTo>
                  <a:pt x="23236" y="12019"/>
                  <a:pt x="23251" y="12006"/>
                  <a:pt x="23316" y="12055"/>
                </a:cubicBezTo>
                <a:cubicBezTo>
                  <a:pt x="23357" y="12086"/>
                  <a:pt x="23444" y="12083"/>
                  <a:pt x="23490" y="12055"/>
                </a:cubicBezTo>
                <a:cubicBezTo>
                  <a:pt x="23540" y="12005"/>
                  <a:pt x="23556" y="11989"/>
                  <a:pt x="23589" y="11956"/>
                </a:cubicBezTo>
              </a:path>
              <a:path w="9923" h="5681">
                <a:moveTo>
                  <a:pt x="23589" y="11460"/>
                </a:moveTo>
                <a:cubicBezTo>
                  <a:pt x="23695" y="11410"/>
                  <a:pt x="23796" y="11372"/>
                  <a:pt x="23912" y="11361"/>
                </a:cubicBezTo>
                <a:cubicBezTo>
                  <a:pt x="24001" y="11353"/>
                  <a:pt x="24095" y="11361"/>
                  <a:pt x="24185" y="11361"/>
                </a:cubicBezTo>
              </a:path>
              <a:path w="9923" h="5681">
                <a:moveTo>
                  <a:pt x="23763" y="11559"/>
                </a:moveTo>
                <a:cubicBezTo>
                  <a:pt x="23748" y="11680"/>
                  <a:pt x="23709" y="11855"/>
                  <a:pt x="23738" y="11981"/>
                </a:cubicBezTo>
                <a:cubicBezTo>
                  <a:pt x="23740" y="11991"/>
                  <a:pt x="23775" y="12144"/>
                  <a:pt x="23812" y="12105"/>
                </a:cubicBezTo>
                <a:cubicBezTo>
                  <a:pt x="23812" y="12077"/>
                  <a:pt x="23814" y="12066"/>
                  <a:pt x="23837" y="12055"/>
                </a:cubicBezTo>
              </a:path>
              <a:path w="9923" h="5681">
                <a:moveTo>
                  <a:pt x="23812" y="11534"/>
                </a:moveTo>
                <a:cubicBezTo>
                  <a:pt x="23866" y="11727"/>
                  <a:pt x="23894" y="11805"/>
                  <a:pt x="24011" y="11956"/>
                </a:cubicBezTo>
                <a:cubicBezTo>
                  <a:pt x="24057" y="12025"/>
                  <a:pt x="24070" y="12045"/>
                  <a:pt x="24110" y="12080"/>
                </a:cubicBezTo>
              </a:path>
              <a:path w="9923" h="5681">
                <a:moveTo>
                  <a:pt x="20811" y="10071"/>
                </a:moveTo>
                <a:cubicBezTo>
                  <a:pt x="20804" y="10190"/>
                  <a:pt x="20796" y="10255"/>
                  <a:pt x="20811" y="10368"/>
                </a:cubicBezTo>
              </a:path>
              <a:path w="9923" h="5681">
                <a:moveTo>
                  <a:pt x="20687" y="10889"/>
                </a:moveTo>
                <a:cubicBezTo>
                  <a:pt x="20765" y="10889"/>
                  <a:pt x="20812" y="10868"/>
                  <a:pt x="20886" y="10864"/>
                </a:cubicBezTo>
                <a:cubicBezTo>
                  <a:pt x="20937" y="10861"/>
                  <a:pt x="21001" y="10903"/>
                  <a:pt x="20960" y="10964"/>
                </a:cubicBezTo>
                <a:cubicBezTo>
                  <a:pt x="20926" y="11015"/>
                  <a:pt x="20877" y="11036"/>
                  <a:pt x="20836" y="11063"/>
                </a:cubicBezTo>
                <a:cubicBezTo>
                  <a:pt x="20828" y="11071"/>
                  <a:pt x="20819" y="11080"/>
                  <a:pt x="20811" y="11088"/>
                </a:cubicBezTo>
                <a:cubicBezTo>
                  <a:pt x="20824" y="11126"/>
                  <a:pt x="20852" y="11114"/>
                  <a:pt x="20886" y="11137"/>
                </a:cubicBezTo>
                <a:cubicBezTo>
                  <a:pt x="20932" y="11168"/>
                  <a:pt x="20913" y="11227"/>
                  <a:pt x="20886" y="11261"/>
                </a:cubicBezTo>
                <a:cubicBezTo>
                  <a:pt x="20852" y="11304"/>
                  <a:pt x="20812" y="11311"/>
                  <a:pt x="20762" y="11311"/>
                </a:cubicBezTo>
                <a:cubicBezTo>
                  <a:pt x="20708" y="11311"/>
                  <a:pt x="20669" y="11323"/>
                  <a:pt x="20662" y="11261"/>
                </a:cubicBezTo>
                <a:cubicBezTo>
                  <a:pt x="20662" y="11253"/>
                  <a:pt x="20662" y="11245"/>
                  <a:pt x="20662" y="11237"/>
                </a:cubicBezTo>
              </a:path>
              <a:path w="9923" h="5681">
                <a:moveTo>
                  <a:pt x="21158" y="10939"/>
                </a:moveTo>
                <a:cubicBezTo>
                  <a:pt x="21193" y="10939"/>
                  <a:pt x="21378" y="10968"/>
                  <a:pt x="21406" y="10914"/>
                </a:cubicBezTo>
                <a:cubicBezTo>
                  <a:pt x="21414" y="10881"/>
                  <a:pt x="21423" y="10848"/>
                  <a:pt x="21431" y="10815"/>
                </a:cubicBezTo>
              </a:path>
              <a:path w="9923" h="5681">
                <a:moveTo>
                  <a:pt x="21208" y="10988"/>
                </a:moveTo>
                <a:cubicBezTo>
                  <a:pt x="21148" y="11115"/>
                  <a:pt x="21074" y="11188"/>
                  <a:pt x="21158" y="11311"/>
                </a:cubicBezTo>
                <a:cubicBezTo>
                  <a:pt x="21181" y="11334"/>
                  <a:pt x="21185" y="11342"/>
                  <a:pt x="21208" y="11336"/>
                </a:cubicBezTo>
              </a:path>
              <a:path w="9923" h="5681">
                <a:moveTo>
                  <a:pt x="21406" y="10988"/>
                </a:moveTo>
                <a:cubicBezTo>
                  <a:pt x="21384" y="11092"/>
                  <a:pt x="21357" y="11181"/>
                  <a:pt x="21357" y="11286"/>
                </a:cubicBezTo>
                <a:cubicBezTo>
                  <a:pt x="21357" y="11294"/>
                  <a:pt x="21357" y="11303"/>
                  <a:pt x="21357" y="11311"/>
                </a:cubicBezTo>
              </a:path>
              <a:path w="9923" h="5681">
                <a:moveTo>
                  <a:pt x="21654" y="10815"/>
                </a:moveTo>
                <a:cubicBezTo>
                  <a:pt x="21600" y="11034"/>
                  <a:pt x="21507" y="11227"/>
                  <a:pt x="21431" y="11435"/>
                </a:cubicBezTo>
                <a:cubicBezTo>
                  <a:pt x="21394" y="11537"/>
                  <a:pt x="21379" y="11655"/>
                  <a:pt x="21357" y="11757"/>
                </a:cubicBezTo>
                <a:cubicBezTo>
                  <a:pt x="21357" y="11765"/>
                  <a:pt x="21357" y="11774"/>
                  <a:pt x="21357" y="11782"/>
                </a:cubicBezTo>
              </a:path>
              <a:path w="9923" h="5681">
                <a:moveTo>
                  <a:pt x="21456" y="11534"/>
                </a:moveTo>
                <a:cubicBezTo>
                  <a:pt x="21561" y="11534"/>
                  <a:pt x="21682" y="11497"/>
                  <a:pt x="21754" y="11584"/>
                </a:cubicBezTo>
                <a:cubicBezTo>
                  <a:pt x="21797" y="11636"/>
                  <a:pt x="21755" y="11721"/>
                  <a:pt x="21704" y="11757"/>
                </a:cubicBezTo>
                <a:cubicBezTo>
                  <a:pt x="21683" y="11772"/>
                  <a:pt x="21611" y="11814"/>
                  <a:pt x="21630" y="11857"/>
                </a:cubicBezTo>
                <a:cubicBezTo>
                  <a:pt x="21657" y="11920"/>
                  <a:pt x="21750" y="11911"/>
                  <a:pt x="21803" y="11931"/>
                </a:cubicBezTo>
                <a:cubicBezTo>
                  <a:pt x="21967" y="11994"/>
                  <a:pt x="22050" y="11913"/>
                  <a:pt x="22200" y="11832"/>
                </a:cubicBezTo>
              </a:path>
              <a:path w="9923" h="5681">
                <a:moveTo>
                  <a:pt x="15131" y="8781"/>
                </a:moveTo>
                <a:cubicBezTo>
                  <a:pt x="15027" y="8833"/>
                  <a:pt x="15042" y="8813"/>
                  <a:pt x="15032" y="8930"/>
                </a:cubicBezTo>
                <a:cubicBezTo>
                  <a:pt x="15089" y="8930"/>
                  <a:pt x="15137" y="8938"/>
                  <a:pt x="15180" y="8930"/>
                </a:cubicBezTo>
                <a:cubicBezTo>
                  <a:pt x="15227" y="8922"/>
                  <a:pt x="15265" y="8911"/>
                  <a:pt x="15280" y="8855"/>
                </a:cubicBezTo>
                <a:cubicBezTo>
                  <a:pt x="15293" y="8808"/>
                  <a:pt x="15287" y="8718"/>
                  <a:pt x="15255" y="8706"/>
                </a:cubicBezTo>
                <a:cubicBezTo>
                  <a:pt x="15230" y="8706"/>
                  <a:pt x="15222" y="8706"/>
                  <a:pt x="15205" y="8706"/>
                </a:cubicBezTo>
                <a:cubicBezTo>
                  <a:pt x="15172" y="8714"/>
                  <a:pt x="15116" y="8764"/>
                  <a:pt x="15106" y="8781"/>
                </a:cubicBezTo>
                <a:cubicBezTo>
                  <a:pt x="15081" y="8825"/>
                  <a:pt x="15146" y="8876"/>
                  <a:pt x="15180" y="8880"/>
                </a:cubicBezTo>
                <a:cubicBezTo>
                  <a:pt x="15231" y="8886"/>
                  <a:pt x="15240" y="8869"/>
                  <a:pt x="15280" y="8855"/>
                </a:cubicBezTo>
                <a:cubicBezTo>
                  <a:pt x="15304" y="8855"/>
                  <a:pt x="15313" y="8855"/>
                  <a:pt x="15329" y="8855"/>
                </a:cubicBezTo>
                <a:cubicBezTo>
                  <a:pt x="15329" y="8814"/>
                  <a:pt x="15353" y="8709"/>
                  <a:pt x="15304" y="8706"/>
                </a:cubicBezTo>
                <a:cubicBezTo>
                  <a:pt x="15256" y="8703"/>
                  <a:pt x="15146" y="8688"/>
                  <a:pt x="15106" y="8731"/>
                </a:cubicBezTo>
                <a:cubicBezTo>
                  <a:pt x="15063" y="8777"/>
                  <a:pt x="15034" y="8833"/>
                  <a:pt x="15056" y="8880"/>
                </a:cubicBezTo>
                <a:cubicBezTo>
                  <a:pt x="15064" y="8897"/>
                  <a:pt x="15073" y="8913"/>
                  <a:pt x="15081" y="8930"/>
                </a:cubicBezTo>
                <a:cubicBezTo>
                  <a:pt x="15174" y="8930"/>
                  <a:pt x="15167" y="8930"/>
                  <a:pt x="15230" y="8880"/>
                </a:cubicBezTo>
                <a:cubicBezTo>
                  <a:pt x="15308" y="8819"/>
                  <a:pt x="15304" y="8854"/>
                  <a:pt x="15304" y="8731"/>
                </a:cubicBezTo>
                <a:cubicBezTo>
                  <a:pt x="15304" y="8723"/>
                  <a:pt x="15304" y="8714"/>
                  <a:pt x="15304" y="8706"/>
                </a:cubicBezTo>
                <a:cubicBezTo>
                  <a:pt x="15199" y="8706"/>
                  <a:pt x="15220" y="8697"/>
                  <a:pt x="15131" y="8781"/>
                </a:cubicBezTo>
                <a:cubicBezTo>
                  <a:pt x="15059" y="8849"/>
                  <a:pt x="15097" y="8830"/>
                  <a:pt x="15131" y="8880"/>
                </a:cubicBezTo>
                <a:cubicBezTo>
                  <a:pt x="15198" y="8977"/>
                  <a:pt x="15185" y="8909"/>
                  <a:pt x="15255" y="8880"/>
                </a:cubicBezTo>
                <a:cubicBezTo>
                  <a:pt x="15339" y="8846"/>
                  <a:pt x="15355" y="8836"/>
                  <a:pt x="15379" y="8731"/>
                </a:cubicBezTo>
                <a:cubicBezTo>
                  <a:pt x="15364" y="8687"/>
                  <a:pt x="15308" y="8706"/>
                  <a:pt x="15255" y="8706"/>
                </a:cubicBezTo>
                <a:cubicBezTo>
                  <a:pt x="15209" y="8706"/>
                  <a:pt x="15108" y="8683"/>
                  <a:pt x="15081" y="8731"/>
                </a:cubicBezTo>
                <a:cubicBezTo>
                  <a:pt x="15073" y="8756"/>
                  <a:pt x="15064" y="8781"/>
                  <a:pt x="15056" y="8806"/>
                </a:cubicBezTo>
              </a:path>
              <a:path w="9923" h="5681">
                <a:moveTo>
                  <a:pt x="15875" y="10120"/>
                </a:moveTo>
                <a:cubicBezTo>
                  <a:pt x="15819" y="10134"/>
                  <a:pt x="15834" y="10135"/>
                  <a:pt x="15825" y="10195"/>
                </a:cubicBezTo>
                <a:cubicBezTo>
                  <a:pt x="15891" y="10195"/>
                  <a:pt x="15948" y="10217"/>
                  <a:pt x="15974" y="10145"/>
                </a:cubicBezTo>
                <a:cubicBezTo>
                  <a:pt x="15995" y="10087"/>
                  <a:pt x="15976" y="10071"/>
                  <a:pt x="15925" y="10071"/>
                </a:cubicBezTo>
                <a:cubicBezTo>
                  <a:pt x="15838" y="10071"/>
                  <a:pt x="15867" y="10105"/>
                  <a:pt x="15801" y="10120"/>
                </a:cubicBezTo>
                <a:cubicBezTo>
                  <a:pt x="15760" y="10129"/>
                  <a:pt x="15776" y="10144"/>
                  <a:pt x="15776" y="10195"/>
                </a:cubicBezTo>
                <a:cubicBezTo>
                  <a:pt x="15854" y="10195"/>
                  <a:pt x="15852" y="10204"/>
                  <a:pt x="15900" y="10145"/>
                </a:cubicBezTo>
                <a:cubicBezTo>
                  <a:pt x="15950" y="10084"/>
                  <a:pt x="15934" y="10162"/>
                  <a:pt x="15949" y="10071"/>
                </a:cubicBezTo>
                <a:cubicBezTo>
                  <a:pt x="15898" y="10071"/>
                  <a:pt x="15860" y="10095"/>
                  <a:pt x="15825" y="10120"/>
                </a:cubicBezTo>
                <a:cubicBezTo>
                  <a:pt x="15797" y="10149"/>
                  <a:pt x="15789" y="10162"/>
                  <a:pt x="15801" y="10195"/>
                </a:cubicBezTo>
                <a:cubicBezTo>
                  <a:pt x="15865" y="10211"/>
                  <a:pt x="15841" y="10215"/>
                  <a:pt x="15900" y="10195"/>
                </a:cubicBezTo>
                <a:cubicBezTo>
                  <a:pt x="15908" y="10195"/>
                  <a:pt x="15917" y="10195"/>
                  <a:pt x="15925" y="10195"/>
                </a:cubicBezTo>
                <a:cubicBezTo>
                  <a:pt x="15954" y="10125"/>
                  <a:pt x="15956" y="10111"/>
                  <a:pt x="15875" y="10071"/>
                </a:cubicBezTo>
                <a:cubicBezTo>
                  <a:pt x="15819" y="10043"/>
                  <a:pt x="15761" y="10091"/>
                  <a:pt x="15726" y="10120"/>
                </a:cubicBezTo>
              </a:path>
              <a:path w="9923" h="5681">
                <a:moveTo>
                  <a:pt x="20563" y="8880"/>
                </a:moveTo>
                <a:cubicBezTo>
                  <a:pt x="20585" y="8843"/>
                  <a:pt x="20591" y="8818"/>
                  <a:pt x="20613" y="8781"/>
                </a:cubicBezTo>
                <a:cubicBezTo>
                  <a:pt x="20565" y="8793"/>
                  <a:pt x="20544" y="8824"/>
                  <a:pt x="20563" y="8880"/>
                </a:cubicBezTo>
                <a:cubicBezTo>
                  <a:pt x="20602" y="8997"/>
                  <a:pt x="20635" y="8844"/>
                  <a:pt x="20638" y="8806"/>
                </a:cubicBezTo>
                <a:cubicBezTo>
                  <a:pt x="20641" y="8768"/>
                  <a:pt x="20623" y="8789"/>
                  <a:pt x="20613" y="8731"/>
                </a:cubicBezTo>
                <a:cubicBezTo>
                  <a:pt x="20555" y="8731"/>
                  <a:pt x="20543" y="8756"/>
                  <a:pt x="20513" y="8806"/>
                </a:cubicBezTo>
                <a:cubicBezTo>
                  <a:pt x="20505" y="8822"/>
                  <a:pt x="20497" y="8839"/>
                  <a:pt x="20489" y="8855"/>
                </a:cubicBezTo>
                <a:cubicBezTo>
                  <a:pt x="20528" y="8865"/>
                  <a:pt x="20543" y="8880"/>
                  <a:pt x="20588" y="8880"/>
                </a:cubicBezTo>
                <a:cubicBezTo>
                  <a:pt x="20610" y="8880"/>
                  <a:pt x="20682" y="8870"/>
                  <a:pt x="20687" y="8855"/>
                </a:cubicBezTo>
                <a:cubicBezTo>
                  <a:pt x="20687" y="8814"/>
                  <a:pt x="20687" y="8806"/>
                  <a:pt x="20687" y="8781"/>
                </a:cubicBezTo>
                <a:cubicBezTo>
                  <a:pt x="20620" y="8781"/>
                  <a:pt x="20591" y="8788"/>
                  <a:pt x="20538" y="8806"/>
                </a:cubicBezTo>
                <a:cubicBezTo>
                  <a:pt x="20505" y="8806"/>
                  <a:pt x="20497" y="8814"/>
                  <a:pt x="20513" y="8855"/>
                </a:cubicBezTo>
              </a:path>
              <a:path w="9923" h="5681">
                <a:moveTo>
                  <a:pt x="21803" y="7714"/>
                </a:moveTo>
                <a:cubicBezTo>
                  <a:pt x="21823" y="7755"/>
                  <a:pt x="21832" y="7782"/>
                  <a:pt x="21828" y="7739"/>
                </a:cubicBezTo>
                <a:cubicBezTo>
                  <a:pt x="21828" y="7686"/>
                  <a:pt x="21823" y="7684"/>
                  <a:pt x="21779" y="7714"/>
                </a:cubicBezTo>
                <a:cubicBezTo>
                  <a:pt x="21758" y="7728"/>
                  <a:pt x="21696" y="7773"/>
                  <a:pt x="21704" y="7789"/>
                </a:cubicBezTo>
                <a:cubicBezTo>
                  <a:pt x="21726" y="7832"/>
                  <a:pt x="21762" y="7838"/>
                  <a:pt x="21803" y="7838"/>
                </a:cubicBezTo>
                <a:cubicBezTo>
                  <a:pt x="21811" y="7838"/>
                  <a:pt x="21820" y="7838"/>
                  <a:pt x="21828" y="7838"/>
                </a:cubicBezTo>
                <a:cubicBezTo>
                  <a:pt x="21828" y="7813"/>
                  <a:pt x="21828" y="7789"/>
                  <a:pt x="21828" y="7764"/>
                </a:cubicBezTo>
                <a:cubicBezTo>
                  <a:pt x="21810" y="7709"/>
                  <a:pt x="21793" y="7751"/>
                  <a:pt x="21754" y="7764"/>
                </a:cubicBezTo>
                <a:cubicBezTo>
                  <a:pt x="21707" y="7780"/>
                  <a:pt x="21726" y="7803"/>
                  <a:pt x="21729" y="7813"/>
                </a:cubicBezTo>
                <a:cubicBezTo>
                  <a:pt x="21733" y="7825"/>
                  <a:pt x="21773" y="7883"/>
                  <a:pt x="21803" y="7863"/>
                </a:cubicBezTo>
                <a:cubicBezTo>
                  <a:pt x="21865" y="7823"/>
                  <a:pt x="21853" y="7798"/>
                  <a:pt x="21853" y="7739"/>
                </a:cubicBezTo>
                <a:cubicBezTo>
                  <a:pt x="21803" y="7739"/>
                  <a:pt x="21717" y="7721"/>
                  <a:pt x="21679" y="7764"/>
                </a:cubicBezTo>
                <a:cubicBezTo>
                  <a:pt x="21679" y="7772"/>
                  <a:pt x="21679" y="7781"/>
                  <a:pt x="21679" y="7789"/>
                </a:cubicBezTo>
              </a:path>
              <a:path w="9923" h="5681">
                <a:moveTo>
                  <a:pt x="23093" y="8855"/>
                </a:moveTo>
                <a:cubicBezTo>
                  <a:pt x="23151" y="8855"/>
                  <a:pt x="23132" y="8868"/>
                  <a:pt x="23143" y="8806"/>
                </a:cubicBezTo>
                <a:cubicBezTo>
                  <a:pt x="23099" y="8871"/>
                  <a:pt x="23093" y="8847"/>
                  <a:pt x="23093" y="8930"/>
                </a:cubicBezTo>
              </a:path>
              <a:path w="9923" h="5681">
                <a:moveTo>
                  <a:pt x="15230" y="8781"/>
                </a:moveTo>
                <a:cubicBezTo>
                  <a:pt x="15232" y="8785"/>
                  <a:pt x="15302" y="8850"/>
                  <a:pt x="15304" y="8855"/>
                </a:cubicBezTo>
                <a:cubicBezTo>
                  <a:pt x="15322" y="8895"/>
                  <a:pt x="15317" y="8925"/>
                  <a:pt x="15329" y="8954"/>
                </a:cubicBezTo>
                <a:cubicBezTo>
                  <a:pt x="15351" y="9007"/>
                  <a:pt x="15382" y="9054"/>
                  <a:pt x="15404" y="9103"/>
                </a:cubicBezTo>
                <a:cubicBezTo>
                  <a:pt x="15425" y="9150"/>
                  <a:pt x="15432" y="9204"/>
                  <a:pt x="15453" y="9252"/>
                </a:cubicBezTo>
                <a:cubicBezTo>
                  <a:pt x="15489" y="9333"/>
                  <a:pt x="15513" y="9391"/>
                  <a:pt x="15553" y="9475"/>
                </a:cubicBezTo>
                <a:cubicBezTo>
                  <a:pt x="15586" y="9544"/>
                  <a:pt x="15619" y="9603"/>
                  <a:pt x="15652" y="9674"/>
                </a:cubicBezTo>
                <a:cubicBezTo>
                  <a:pt x="15683" y="9741"/>
                  <a:pt x="15719" y="9840"/>
                  <a:pt x="15751" y="9897"/>
                </a:cubicBezTo>
                <a:cubicBezTo>
                  <a:pt x="15785" y="9958"/>
                  <a:pt x="15842" y="10011"/>
                  <a:pt x="15875" y="10071"/>
                </a:cubicBezTo>
                <a:cubicBezTo>
                  <a:pt x="15911" y="10136"/>
                  <a:pt x="15942" y="10203"/>
                  <a:pt x="15974" y="10269"/>
                </a:cubicBezTo>
                <a:cubicBezTo>
                  <a:pt x="16010" y="10344"/>
                  <a:pt x="16041" y="10414"/>
                  <a:pt x="16073" y="10492"/>
                </a:cubicBezTo>
                <a:cubicBezTo>
                  <a:pt x="16100" y="10557"/>
                  <a:pt x="16117" y="10627"/>
                  <a:pt x="16148" y="10691"/>
                </a:cubicBezTo>
                <a:cubicBezTo>
                  <a:pt x="16225" y="10850"/>
                  <a:pt x="16294" y="11009"/>
                  <a:pt x="16371" y="11162"/>
                </a:cubicBezTo>
                <a:cubicBezTo>
                  <a:pt x="16421" y="11262"/>
                  <a:pt x="16489" y="11363"/>
                  <a:pt x="16545" y="11460"/>
                </a:cubicBezTo>
                <a:cubicBezTo>
                  <a:pt x="16575" y="11511"/>
                  <a:pt x="16615" y="11556"/>
                  <a:pt x="16644" y="11609"/>
                </a:cubicBezTo>
                <a:cubicBezTo>
                  <a:pt x="16679" y="11672"/>
                  <a:pt x="16685" y="11720"/>
                  <a:pt x="16718" y="11782"/>
                </a:cubicBezTo>
                <a:cubicBezTo>
                  <a:pt x="16743" y="11828"/>
                  <a:pt x="16765" y="11887"/>
                  <a:pt x="16793" y="11931"/>
                </a:cubicBezTo>
                <a:cubicBezTo>
                  <a:pt x="16827" y="11984"/>
                  <a:pt x="16885" y="12027"/>
                  <a:pt x="16917" y="12080"/>
                </a:cubicBezTo>
                <a:cubicBezTo>
                  <a:pt x="16958" y="12146"/>
                  <a:pt x="16976" y="12191"/>
                  <a:pt x="17016" y="12254"/>
                </a:cubicBezTo>
                <a:cubicBezTo>
                  <a:pt x="17042" y="12296"/>
                  <a:pt x="17065" y="12338"/>
                  <a:pt x="17090" y="12378"/>
                </a:cubicBezTo>
                <a:cubicBezTo>
                  <a:pt x="17119" y="12424"/>
                  <a:pt x="17136" y="12462"/>
                  <a:pt x="17165" y="12502"/>
                </a:cubicBezTo>
                <a:cubicBezTo>
                  <a:pt x="17192" y="12538"/>
                  <a:pt x="17204" y="12566"/>
                  <a:pt x="17239" y="12601"/>
                </a:cubicBezTo>
                <a:cubicBezTo>
                  <a:pt x="17293" y="12654"/>
                  <a:pt x="17346" y="12693"/>
                  <a:pt x="17413" y="12725"/>
                </a:cubicBezTo>
                <a:cubicBezTo>
                  <a:pt x="17457" y="12746"/>
                  <a:pt x="17487" y="12736"/>
                  <a:pt x="17537" y="12750"/>
                </a:cubicBezTo>
                <a:cubicBezTo>
                  <a:pt x="17599" y="12768"/>
                  <a:pt x="17660" y="12783"/>
                  <a:pt x="17735" y="12774"/>
                </a:cubicBezTo>
                <a:cubicBezTo>
                  <a:pt x="17766" y="12770"/>
                  <a:pt x="17802" y="12760"/>
                  <a:pt x="17835" y="12750"/>
                </a:cubicBezTo>
                <a:cubicBezTo>
                  <a:pt x="17873" y="12739"/>
                  <a:pt x="17920" y="12715"/>
                  <a:pt x="17959" y="12700"/>
                </a:cubicBezTo>
                <a:cubicBezTo>
                  <a:pt x="18005" y="12682"/>
                  <a:pt x="18060" y="12653"/>
                  <a:pt x="18107" y="12626"/>
                </a:cubicBezTo>
                <a:cubicBezTo>
                  <a:pt x="18151" y="12601"/>
                  <a:pt x="18185" y="12559"/>
                  <a:pt x="18231" y="12526"/>
                </a:cubicBezTo>
                <a:cubicBezTo>
                  <a:pt x="18266" y="12500"/>
                  <a:pt x="18322" y="12486"/>
                  <a:pt x="18355" y="12452"/>
                </a:cubicBezTo>
                <a:cubicBezTo>
                  <a:pt x="18385" y="12421"/>
                  <a:pt x="18399" y="12389"/>
                  <a:pt x="18430" y="12353"/>
                </a:cubicBezTo>
                <a:cubicBezTo>
                  <a:pt x="18462" y="12316"/>
                  <a:pt x="18477" y="12289"/>
                  <a:pt x="18504" y="12254"/>
                </a:cubicBezTo>
                <a:cubicBezTo>
                  <a:pt x="18553" y="12190"/>
                  <a:pt x="18610" y="12123"/>
                  <a:pt x="18653" y="12055"/>
                </a:cubicBezTo>
                <a:cubicBezTo>
                  <a:pt x="18696" y="11987"/>
                  <a:pt x="18740" y="11906"/>
                  <a:pt x="18777" y="11832"/>
                </a:cubicBezTo>
                <a:cubicBezTo>
                  <a:pt x="18816" y="11754"/>
                  <a:pt x="18838" y="11689"/>
                  <a:pt x="18876" y="11609"/>
                </a:cubicBezTo>
                <a:cubicBezTo>
                  <a:pt x="18901" y="11558"/>
                  <a:pt x="18930" y="11509"/>
                  <a:pt x="18951" y="11460"/>
                </a:cubicBezTo>
                <a:cubicBezTo>
                  <a:pt x="18995" y="11357"/>
                  <a:pt x="19030" y="11262"/>
                  <a:pt x="19075" y="11162"/>
                </a:cubicBezTo>
                <a:cubicBezTo>
                  <a:pt x="19164" y="10966"/>
                  <a:pt x="19268" y="10786"/>
                  <a:pt x="19348" y="10592"/>
                </a:cubicBezTo>
                <a:cubicBezTo>
                  <a:pt x="19381" y="10512"/>
                  <a:pt x="19417" y="10418"/>
                  <a:pt x="19447" y="10344"/>
                </a:cubicBezTo>
                <a:cubicBezTo>
                  <a:pt x="19470" y="10288"/>
                  <a:pt x="19499" y="10245"/>
                  <a:pt x="19521" y="10195"/>
                </a:cubicBezTo>
                <a:cubicBezTo>
                  <a:pt x="19554" y="10122"/>
                  <a:pt x="19580" y="10075"/>
                  <a:pt x="19621" y="9996"/>
                </a:cubicBezTo>
                <a:cubicBezTo>
                  <a:pt x="19655" y="9930"/>
                  <a:pt x="19683" y="9883"/>
                  <a:pt x="19720" y="9823"/>
                </a:cubicBezTo>
                <a:cubicBezTo>
                  <a:pt x="19778" y="9730"/>
                  <a:pt x="19833" y="9640"/>
                  <a:pt x="19893" y="9550"/>
                </a:cubicBezTo>
                <a:cubicBezTo>
                  <a:pt x="19929" y="9496"/>
                  <a:pt x="19958" y="9427"/>
                  <a:pt x="19993" y="9376"/>
                </a:cubicBezTo>
                <a:cubicBezTo>
                  <a:pt x="20033" y="9318"/>
                  <a:pt x="20117" y="9226"/>
                  <a:pt x="20166" y="9153"/>
                </a:cubicBezTo>
                <a:cubicBezTo>
                  <a:pt x="20203" y="9098"/>
                  <a:pt x="20257" y="9051"/>
                  <a:pt x="20290" y="9004"/>
                </a:cubicBezTo>
                <a:cubicBezTo>
                  <a:pt x="20344" y="8928"/>
                  <a:pt x="20367" y="8888"/>
                  <a:pt x="20439" y="8806"/>
                </a:cubicBezTo>
                <a:cubicBezTo>
                  <a:pt x="20494" y="8744"/>
                  <a:pt x="20556" y="8689"/>
                  <a:pt x="20613" y="8632"/>
                </a:cubicBezTo>
                <a:cubicBezTo>
                  <a:pt x="20675" y="8570"/>
                  <a:pt x="20739" y="8498"/>
                  <a:pt x="20811" y="8434"/>
                </a:cubicBezTo>
                <a:cubicBezTo>
                  <a:pt x="20858" y="8392"/>
                  <a:pt x="20916" y="8353"/>
                  <a:pt x="20960" y="8310"/>
                </a:cubicBezTo>
                <a:cubicBezTo>
                  <a:pt x="21010" y="8262"/>
                  <a:pt x="21061" y="8201"/>
                  <a:pt x="21109" y="8161"/>
                </a:cubicBezTo>
                <a:cubicBezTo>
                  <a:pt x="21195" y="8089"/>
                  <a:pt x="21292" y="8029"/>
                  <a:pt x="21382" y="7962"/>
                </a:cubicBezTo>
                <a:cubicBezTo>
                  <a:pt x="21430" y="7926"/>
                  <a:pt x="21479" y="7895"/>
                  <a:pt x="21530" y="7863"/>
                </a:cubicBezTo>
                <a:cubicBezTo>
                  <a:pt x="21587" y="7827"/>
                  <a:pt x="21622" y="7811"/>
                  <a:pt x="21679" y="7789"/>
                </a:cubicBezTo>
                <a:cubicBezTo>
                  <a:pt x="21734" y="7768"/>
                  <a:pt x="21792" y="7744"/>
                  <a:pt x="21853" y="7739"/>
                </a:cubicBezTo>
                <a:cubicBezTo>
                  <a:pt x="21931" y="7733"/>
                  <a:pt x="21985" y="7746"/>
                  <a:pt x="22051" y="7764"/>
                </a:cubicBezTo>
                <a:cubicBezTo>
                  <a:pt x="22102" y="7778"/>
                  <a:pt x="22146" y="7815"/>
                  <a:pt x="22200" y="7838"/>
                </a:cubicBezTo>
                <a:cubicBezTo>
                  <a:pt x="22349" y="7900"/>
                  <a:pt x="22433" y="7980"/>
                  <a:pt x="22547" y="8086"/>
                </a:cubicBezTo>
                <a:cubicBezTo>
                  <a:pt x="22632" y="8165"/>
                  <a:pt x="22697" y="8242"/>
                  <a:pt x="22771" y="8334"/>
                </a:cubicBezTo>
                <a:cubicBezTo>
                  <a:pt x="22788" y="8355"/>
                  <a:pt x="22833" y="8394"/>
                  <a:pt x="22845" y="8409"/>
                </a:cubicBezTo>
                <a:cubicBezTo>
                  <a:pt x="22883" y="8457"/>
                  <a:pt x="22893" y="8518"/>
                  <a:pt x="22920" y="8558"/>
                </a:cubicBezTo>
                <a:cubicBezTo>
                  <a:pt x="22951" y="8605"/>
                  <a:pt x="22981" y="8646"/>
                  <a:pt x="23019" y="8706"/>
                </a:cubicBezTo>
                <a:cubicBezTo>
                  <a:pt x="23050" y="8754"/>
                  <a:pt x="23084" y="8809"/>
                  <a:pt x="23118" y="8855"/>
                </a:cubicBezTo>
                <a:cubicBezTo>
                  <a:pt x="23167" y="8921"/>
                  <a:pt x="23218" y="8975"/>
                  <a:pt x="23267" y="9029"/>
                </a:cubicBezTo>
                <a:cubicBezTo>
                  <a:pt x="23338" y="9108"/>
                  <a:pt x="23420" y="9182"/>
                  <a:pt x="23490" y="9252"/>
                </a:cubicBezTo>
                <a:cubicBezTo>
                  <a:pt x="23538" y="9300"/>
                  <a:pt x="23584" y="9351"/>
                  <a:pt x="23639" y="9401"/>
                </a:cubicBezTo>
                <a:cubicBezTo>
                  <a:pt x="23689" y="9447"/>
                  <a:pt x="23778" y="9569"/>
                  <a:pt x="23837" y="9599"/>
                </a:cubicBezTo>
                <a:cubicBezTo>
                  <a:pt x="23871" y="9616"/>
                  <a:pt x="23865" y="9658"/>
                  <a:pt x="23912" y="9674"/>
                </a:cubicBezTo>
                <a:cubicBezTo>
                  <a:pt x="23912" y="9629"/>
                  <a:pt x="23909" y="9616"/>
                  <a:pt x="23937" y="9599"/>
                </a:cubicBezTo>
              </a:path>
              <a:path w="9923" h="5681">
                <a:moveTo>
                  <a:pt x="23862" y="9302"/>
                </a:moveTo>
                <a:cubicBezTo>
                  <a:pt x="23939" y="9321"/>
                  <a:pt x="23926" y="9386"/>
                  <a:pt x="23961" y="9451"/>
                </a:cubicBezTo>
                <a:cubicBezTo>
                  <a:pt x="23988" y="9502"/>
                  <a:pt x="24082" y="9610"/>
                  <a:pt x="24061" y="9674"/>
                </a:cubicBezTo>
                <a:cubicBezTo>
                  <a:pt x="24040" y="9738"/>
                  <a:pt x="23977" y="9763"/>
                  <a:pt x="23912" y="9773"/>
                </a:cubicBezTo>
                <a:cubicBezTo>
                  <a:pt x="23821" y="9787"/>
                  <a:pt x="23731" y="9751"/>
                  <a:pt x="23639" y="9748"/>
                </a:cubicBezTo>
                <a:cubicBezTo>
                  <a:pt x="23509" y="9744"/>
                  <a:pt x="23437" y="9741"/>
                  <a:pt x="23316" y="9699"/>
                </a:cubicBezTo>
              </a:path>
              <a:path w="9923" h="5681">
                <a:moveTo>
                  <a:pt x="15304" y="8880"/>
                </a:moveTo>
                <a:cubicBezTo>
                  <a:pt x="15263" y="8830"/>
                  <a:pt x="15206" y="8765"/>
                  <a:pt x="15180" y="8706"/>
                </a:cubicBezTo>
                <a:cubicBezTo>
                  <a:pt x="15136" y="8606"/>
                  <a:pt x="15096" y="8562"/>
                  <a:pt x="15032" y="8483"/>
                </a:cubicBezTo>
                <a:cubicBezTo>
                  <a:pt x="14990" y="8431"/>
                  <a:pt x="14955" y="8385"/>
                  <a:pt x="14908" y="8334"/>
                </a:cubicBezTo>
                <a:cubicBezTo>
                  <a:pt x="14880" y="8303"/>
                  <a:pt x="14845" y="8272"/>
                  <a:pt x="14833" y="8235"/>
                </a:cubicBezTo>
                <a:cubicBezTo>
                  <a:pt x="14824" y="8207"/>
                  <a:pt x="14833" y="8166"/>
                  <a:pt x="14833" y="8136"/>
                </a:cubicBezTo>
              </a:path>
              <a:path w="9923" h="5681">
                <a:moveTo>
                  <a:pt x="14660" y="8334"/>
                </a:moveTo>
                <a:cubicBezTo>
                  <a:pt x="14640" y="8522"/>
                  <a:pt x="14643" y="8438"/>
                  <a:pt x="14660" y="8558"/>
                </a:cubicBezTo>
                <a:cubicBezTo>
                  <a:pt x="14689" y="8538"/>
                  <a:pt x="14682" y="8479"/>
                  <a:pt x="14660" y="8434"/>
                </a:cubicBezTo>
                <a:cubicBezTo>
                  <a:pt x="14635" y="8384"/>
                  <a:pt x="14582" y="8334"/>
                  <a:pt x="14560" y="8285"/>
                </a:cubicBezTo>
                <a:cubicBezTo>
                  <a:pt x="14560" y="8260"/>
                  <a:pt x="14560" y="8252"/>
                  <a:pt x="14536" y="8260"/>
                </a:cubicBezTo>
                <a:cubicBezTo>
                  <a:pt x="14580" y="8249"/>
                  <a:pt x="14642" y="8214"/>
                  <a:pt x="14684" y="8186"/>
                </a:cubicBezTo>
                <a:cubicBezTo>
                  <a:pt x="14833" y="8085"/>
                  <a:pt x="14965" y="8005"/>
                  <a:pt x="15131" y="7938"/>
                </a:cubicBezTo>
                <a:cubicBezTo>
                  <a:pt x="15172" y="7921"/>
                  <a:pt x="15214" y="7905"/>
                  <a:pt x="15255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02160" y="4286160"/>
            <a:ext cx="71640" cy="795600"/>
          </a:xfrm>
          <a:custGeom>
            <a:avLst/>
            <a:gdLst/>
            <a:ahLst/>
            <a:rect l="l" t="t" r="r" b="b"/>
            <a:pathLst>
              <a:path w="199" h="2209">
                <a:moveTo>
                  <a:pt x="15205" y="11906"/>
                </a:moveTo>
                <a:cubicBezTo>
                  <a:pt x="15205" y="11986"/>
                  <a:pt x="15190" y="12056"/>
                  <a:pt x="15180" y="12129"/>
                </a:cubicBezTo>
                <a:cubicBezTo>
                  <a:pt x="15142" y="12416"/>
                  <a:pt x="15172" y="12733"/>
                  <a:pt x="15156" y="13022"/>
                </a:cubicBezTo>
                <a:cubicBezTo>
                  <a:pt x="15146" y="13204"/>
                  <a:pt x="15143" y="13387"/>
                  <a:pt x="15131" y="13568"/>
                </a:cubicBezTo>
                <a:cubicBezTo>
                  <a:pt x="15122" y="13704"/>
                  <a:pt x="15116" y="13858"/>
                  <a:pt x="15081" y="13990"/>
                </a:cubicBezTo>
                <a:cubicBezTo>
                  <a:pt x="15068" y="14038"/>
                  <a:pt x="15032" y="14075"/>
                  <a:pt x="15007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73800" y="2081160"/>
            <a:ext cx="27000" cy="1170000"/>
          </a:xfrm>
          <a:custGeom>
            <a:avLst/>
            <a:gdLst/>
            <a:ahLst/>
            <a:rect l="l" t="t" r="r" b="b"/>
            <a:pathLst>
              <a:path w="76" h="3251">
                <a:moveTo>
                  <a:pt x="15205" y="9029"/>
                </a:moveTo>
                <a:cubicBezTo>
                  <a:pt x="15205" y="8820"/>
                  <a:pt x="15211" y="8615"/>
                  <a:pt x="15230" y="8409"/>
                </a:cubicBezTo>
                <a:cubicBezTo>
                  <a:pt x="15256" y="8129"/>
                  <a:pt x="15193" y="7841"/>
                  <a:pt x="15205" y="7565"/>
                </a:cubicBezTo>
                <a:cubicBezTo>
                  <a:pt x="15213" y="7384"/>
                  <a:pt x="15205" y="7205"/>
                  <a:pt x="15205" y="7020"/>
                </a:cubicBezTo>
                <a:cubicBezTo>
                  <a:pt x="15205" y="6810"/>
                  <a:pt x="15213" y="6606"/>
                  <a:pt x="15230" y="6400"/>
                </a:cubicBezTo>
                <a:cubicBezTo>
                  <a:pt x="15241" y="6260"/>
                  <a:pt x="15228" y="6115"/>
                  <a:pt x="15255" y="5978"/>
                </a:cubicBezTo>
                <a:cubicBezTo>
                  <a:pt x="15267" y="5915"/>
                  <a:pt x="15280" y="5872"/>
                  <a:pt x="15280" y="5804"/>
                </a:cubicBezTo>
                <a:cubicBezTo>
                  <a:pt x="15280" y="5796"/>
                  <a:pt x="15280" y="5787"/>
                  <a:pt x="15280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22960" y="3160800"/>
            <a:ext cx="436320" cy="27000"/>
          </a:xfrm>
          <a:custGeom>
            <a:avLst/>
            <a:gdLst/>
            <a:ahLst/>
            <a:rect l="l" t="t" r="r" b="b"/>
            <a:pathLst>
              <a:path w="1216" h="75">
                <a:moveTo>
                  <a:pt x="14784" y="8855"/>
                </a:moveTo>
                <a:cubicBezTo>
                  <a:pt x="15127" y="8855"/>
                  <a:pt x="15698" y="8954"/>
                  <a:pt x="15974" y="8806"/>
                </a:cubicBezTo>
                <a:cubicBezTo>
                  <a:pt x="15999" y="8806"/>
                  <a:pt x="16007" y="8806"/>
                  <a:pt x="15999" y="8781"/>
                </a:cubicBezTo>
                <a:cubicBezTo>
                  <a:pt x="15949" y="8781"/>
                  <a:pt x="15900" y="8781"/>
                  <a:pt x="15850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60960" y="3054240"/>
            <a:ext cx="1440" cy="214560"/>
          </a:xfrm>
          <a:custGeom>
            <a:avLst/>
            <a:gdLst/>
            <a:ahLst/>
            <a:rect l="l" t="t" r="r" b="b"/>
            <a:pathLst>
              <a:path w="1" h="597">
                <a:moveTo>
                  <a:pt x="14337" y="8483"/>
                </a:moveTo>
                <a:cubicBezTo>
                  <a:pt x="14337" y="8682"/>
                  <a:pt x="14337" y="8880"/>
                  <a:pt x="14337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22960" y="4214880"/>
            <a:ext cx="312840" cy="9360"/>
          </a:xfrm>
          <a:custGeom>
            <a:avLst/>
            <a:gdLst/>
            <a:ahLst/>
            <a:rect l="l" t="t" r="r" b="b"/>
            <a:pathLst>
              <a:path w="869" h="26">
                <a:moveTo>
                  <a:pt x="14784" y="11708"/>
                </a:moveTo>
                <a:cubicBezTo>
                  <a:pt x="14986" y="11724"/>
                  <a:pt x="15177" y="11733"/>
                  <a:pt x="15379" y="11733"/>
                </a:cubicBezTo>
                <a:cubicBezTo>
                  <a:pt x="15470" y="11733"/>
                  <a:pt x="15561" y="11733"/>
                  <a:pt x="15652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73760" y="4179960"/>
            <a:ext cx="187200" cy="17280"/>
          </a:xfrm>
          <a:custGeom>
            <a:avLst/>
            <a:gdLst/>
            <a:ahLst/>
            <a:rect l="l" t="t" r="r" b="b"/>
            <a:pathLst>
              <a:path w="522" h="50">
                <a:moveTo>
                  <a:pt x="13816" y="11658"/>
                </a:moveTo>
                <a:cubicBezTo>
                  <a:pt x="13963" y="11658"/>
                  <a:pt x="14153" y="11692"/>
                  <a:pt x="14288" y="11633"/>
                </a:cubicBezTo>
                <a:cubicBezTo>
                  <a:pt x="14304" y="11625"/>
                  <a:pt x="14321" y="11617"/>
                  <a:pt x="14337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4960" y="4152960"/>
            <a:ext cx="27000" cy="1872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14560" y="11534"/>
                </a:moveTo>
                <a:cubicBezTo>
                  <a:pt x="14542" y="11649"/>
                  <a:pt x="14536" y="11770"/>
                  <a:pt x="14511" y="11881"/>
                </a:cubicBezTo>
                <a:cubicBezTo>
                  <a:pt x="14508" y="11893"/>
                  <a:pt x="14458" y="12033"/>
                  <a:pt x="14486" y="12055"/>
                </a:cubicBezTo>
                <a:cubicBezTo>
                  <a:pt x="14494" y="12055"/>
                  <a:pt x="14503" y="12055"/>
                  <a:pt x="14511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2800" y="4749840"/>
            <a:ext cx="189000" cy="19080"/>
          </a:xfrm>
          <a:custGeom>
            <a:avLst/>
            <a:gdLst/>
            <a:ahLst/>
            <a:rect l="l" t="t" r="r" b="b"/>
            <a:pathLst>
              <a:path w="522" h="51">
                <a:moveTo>
                  <a:pt x="14982" y="13196"/>
                </a:moveTo>
                <a:cubicBezTo>
                  <a:pt x="15095" y="13196"/>
                  <a:pt x="15193" y="13217"/>
                  <a:pt x="15304" y="13221"/>
                </a:cubicBezTo>
                <a:cubicBezTo>
                  <a:pt x="15382" y="13224"/>
                  <a:pt x="15431" y="13222"/>
                  <a:pt x="15503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5040" y="4795920"/>
            <a:ext cx="108000" cy="1440"/>
          </a:xfrm>
          <a:custGeom>
            <a:avLst/>
            <a:gdLst/>
            <a:ahLst/>
            <a:rect l="l" t="t" r="r" b="b"/>
            <a:pathLst>
              <a:path w="298" h="1">
                <a:moveTo>
                  <a:pt x="14015" y="13320"/>
                </a:moveTo>
                <a:cubicBezTo>
                  <a:pt x="14114" y="13320"/>
                  <a:pt x="14213" y="13320"/>
                  <a:pt x="14312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05240" y="4680000"/>
            <a:ext cx="243000" cy="2221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14461" y="12998"/>
                </a:moveTo>
                <a:cubicBezTo>
                  <a:pt x="14495" y="13004"/>
                  <a:pt x="14743" y="12998"/>
                  <a:pt x="14709" y="13122"/>
                </a:cubicBezTo>
                <a:cubicBezTo>
                  <a:pt x="14689" y="13196"/>
                  <a:pt x="14635" y="13266"/>
                  <a:pt x="14585" y="13320"/>
                </a:cubicBezTo>
                <a:cubicBezTo>
                  <a:pt x="14550" y="13357"/>
                  <a:pt x="14503" y="13420"/>
                  <a:pt x="14486" y="13469"/>
                </a:cubicBezTo>
                <a:cubicBezTo>
                  <a:pt x="14467" y="13527"/>
                  <a:pt x="14519" y="13546"/>
                  <a:pt x="14560" y="13568"/>
                </a:cubicBezTo>
                <a:cubicBezTo>
                  <a:pt x="14662" y="13622"/>
                  <a:pt x="14745" y="13618"/>
                  <a:pt x="14858" y="13618"/>
                </a:cubicBezTo>
                <a:cubicBezTo>
                  <a:pt x="14968" y="13618"/>
                  <a:pt x="15032" y="13587"/>
                  <a:pt x="15131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69080" y="3537000"/>
            <a:ext cx="9720" cy="160200"/>
          </a:xfrm>
          <a:custGeom>
            <a:avLst/>
            <a:gdLst/>
            <a:ahLst/>
            <a:rect l="l" t="t" r="r" b="b"/>
            <a:pathLst>
              <a:path w="26" h="447">
                <a:moveTo>
                  <a:pt x="18802" y="9823"/>
                </a:moveTo>
                <a:cubicBezTo>
                  <a:pt x="18832" y="9872"/>
                  <a:pt x="18827" y="9910"/>
                  <a:pt x="18827" y="9971"/>
                </a:cubicBezTo>
                <a:cubicBezTo>
                  <a:pt x="18827" y="10070"/>
                  <a:pt x="18827" y="10170"/>
                  <a:pt x="18827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80160" y="3983040"/>
            <a:ext cx="160200" cy="34920"/>
          </a:xfrm>
          <a:custGeom>
            <a:avLst/>
            <a:gdLst/>
            <a:ahLst/>
            <a:rect l="l" t="t" r="r" b="b"/>
            <a:pathLst>
              <a:path w="447" h="100">
                <a:moveTo>
                  <a:pt x="18604" y="11088"/>
                </a:moveTo>
                <a:cubicBezTo>
                  <a:pt x="18587" y="11096"/>
                  <a:pt x="18571" y="11104"/>
                  <a:pt x="18554" y="11112"/>
                </a:cubicBezTo>
                <a:cubicBezTo>
                  <a:pt x="18597" y="11144"/>
                  <a:pt x="18621" y="11159"/>
                  <a:pt x="18678" y="11162"/>
                </a:cubicBezTo>
                <a:cubicBezTo>
                  <a:pt x="18762" y="11167"/>
                  <a:pt x="18824" y="11155"/>
                  <a:pt x="18901" y="11137"/>
                </a:cubicBezTo>
                <a:cubicBezTo>
                  <a:pt x="18965" y="11122"/>
                  <a:pt x="18962" y="11116"/>
                  <a:pt x="19000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4037040"/>
            <a:ext cx="19080" cy="1872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18728" y="11212"/>
                </a:moveTo>
                <a:cubicBezTo>
                  <a:pt x="18713" y="11304"/>
                  <a:pt x="18678" y="11438"/>
                  <a:pt x="18703" y="11534"/>
                </a:cubicBezTo>
                <a:cubicBezTo>
                  <a:pt x="18708" y="11553"/>
                  <a:pt x="18721" y="11700"/>
                  <a:pt x="18728" y="11708"/>
                </a:cubicBezTo>
                <a:cubicBezTo>
                  <a:pt x="18752" y="11708"/>
                  <a:pt x="18760" y="11708"/>
                  <a:pt x="18752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0360" y="4044960"/>
            <a:ext cx="61920" cy="142920"/>
          </a:xfrm>
          <a:custGeom>
            <a:avLst/>
            <a:gdLst/>
            <a:ahLst/>
            <a:rect l="l" t="t" r="r" b="b"/>
            <a:pathLst>
              <a:path w="175" h="397">
                <a:moveTo>
                  <a:pt x="19000" y="11237"/>
                </a:moveTo>
                <a:cubicBezTo>
                  <a:pt x="19018" y="11339"/>
                  <a:pt x="19020" y="11425"/>
                  <a:pt x="19075" y="11509"/>
                </a:cubicBezTo>
                <a:cubicBezTo>
                  <a:pt x="19120" y="11579"/>
                  <a:pt x="19132" y="11599"/>
                  <a:pt x="19174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8120" y="3510000"/>
            <a:ext cx="972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6718" y="9748"/>
                </a:moveTo>
                <a:cubicBezTo>
                  <a:pt x="16744" y="9850"/>
                  <a:pt x="16743" y="9940"/>
                  <a:pt x="16743" y="10046"/>
                </a:cubicBezTo>
                <a:cubicBezTo>
                  <a:pt x="16743" y="10131"/>
                  <a:pt x="16739" y="10188"/>
                  <a:pt x="16718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02200" y="3946680"/>
            <a:ext cx="135000" cy="9360"/>
          </a:xfrm>
          <a:custGeom>
            <a:avLst/>
            <a:gdLst/>
            <a:ahLst/>
            <a:rect l="l" t="t" r="r" b="b"/>
            <a:pathLst>
              <a:path w="373" h="25">
                <a:moveTo>
                  <a:pt x="16396" y="10988"/>
                </a:moveTo>
                <a:cubicBezTo>
                  <a:pt x="16510" y="10988"/>
                  <a:pt x="16611" y="10981"/>
                  <a:pt x="16718" y="10964"/>
                </a:cubicBezTo>
                <a:cubicBezTo>
                  <a:pt x="16735" y="10964"/>
                  <a:pt x="16751" y="10964"/>
                  <a:pt x="16768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6840" y="3973680"/>
            <a:ext cx="19080" cy="117360"/>
          </a:xfrm>
          <a:custGeom>
            <a:avLst/>
            <a:gdLst/>
            <a:ahLst/>
            <a:rect l="l" t="t" r="r" b="b"/>
            <a:pathLst>
              <a:path w="51" h="324">
                <a:moveTo>
                  <a:pt x="16545" y="11038"/>
                </a:moveTo>
                <a:cubicBezTo>
                  <a:pt x="16533" y="11147"/>
                  <a:pt x="16460" y="11291"/>
                  <a:pt x="16545" y="11361"/>
                </a:cubicBezTo>
                <a:cubicBezTo>
                  <a:pt x="16553" y="11361"/>
                  <a:pt x="16562" y="11361"/>
                  <a:pt x="16570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0200" y="3973680"/>
            <a:ext cx="7920" cy="98280"/>
          </a:xfrm>
          <a:custGeom>
            <a:avLst/>
            <a:gdLst/>
            <a:ahLst/>
            <a:rect l="l" t="t" r="r" b="b"/>
            <a:pathLst>
              <a:path w="25" h="274">
                <a:moveTo>
                  <a:pt x="16718" y="11038"/>
                </a:moveTo>
                <a:cubicBezTo>
                  <a:pt x="16707" y="11355"/>
                  <a:pt x="16725" y="11180"/>
                  <a:pt x="16694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45120" y="3919680"/>
            <a:ext cx="71640" cy="268200"/>
          </a:xfrm>
          <a:custGeom>
            <a:avLst/>
            <a:gdLst/>
            <a:ahLst/>
            <a:rect l="l" t="t" r="r" b="b"/>
            <a:pathLst>
              <a:path w="199" h="745">
                <a:moveTo>
                  <a:pt x="16991" y="10889"/>
                </a:moveTo>
                <a:cubicBezTo>
                  <a:pt x="16947" y="11071"/>
                  <a:pt x="16851" y="11280"/>
                  <a:pt x="16818" y="11460"/>
                </a:cubicBezTo>
                <a:cubicBezTo>
                  <a:pt x="16807" y="11519"/>
                  <a:pt x="16800" y="11574"/>
                  <a:pt x="16793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81840" y="4089240"/>
            <a:ext cx="133200" cy="1620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16892" y="11385"/>
                </a:moveTo>
                <a:cubicBezTo>
                  <a:pt x="16994" y="11375"/>
                  <a:pt x="17124" y="11329"/>
                  <a:pt x="17140" y="11460"/>
                </a:cubicBezTo>
                <a:cubicBezTo>
                  <a:pt x="17151" y="11555"/>
                  <a:pt x="17109" y="11580"/>
                  <a:pt x="17066" y="11658"/>
                </a:cubicBezTo>
                <a:cubicBezTo>
                  <a:pt x="17059" y="11670"/>
                  <a:pt x="16989" y="11760"/>
                  <a:pt x="17016" y="11782"/>
                </a:cubicBezTo>
                <a:cubicBezTo>
                  <a:pt x="17053" y="11811"/>
                  <a:pt x="17141" y="11817"/>
                  <a:pt x="17190" y="11807"/>
                </a:cubicBezTo>
                <a:cubicBezTo>
                  <a:pt x="17215" y="11799"/>
                  <a:pt x="17239" y="11790"/>
                  <a:pt x="17264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91120" y="4232160"/>
            <a:ext cx="81000" cy="6372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16718" y="11857"/>
                </a:moveTo>
                <a:cubicBezTo>
                  <a:pt x="16759" y="11857"/>
                  <a:pt x="16798" y="11851"/>
                  <a:pt x="16818" y="11807"/>
                </a:cubicBezTo>
                <a:cubicBezTo>
                  <a:pt x="16818" y="11799"/>
                  <a:pt x="16818" y="11790"/>
                  <a:pt x="16818" y="11782"/>
                </a:cubicBezTo>
                <a:cubicBezTo>
                  <a:pt x="16768" y="11744"/>
                  <a:pt x="16783" y="11763"/>
                  <a:pt x="16743" y="11782"/>
                </a:cubicBezTo>
                <a:cubicBezTo>
                  <a:pt x="16685" y="11809"/>
                  <a:pt x="16702" y="11813"/>
                  <a:pt x="16669" y="11857"/>
                </a:cubicBezTo>
                <a:cubicBezTo>
                  <a:pt x="16707" y="11894"/>
                  <a:pt x="16715" y="11906"/>
                  <a:pt x="16768" y="11906"/>
                </a:cubicBezTo>
                <a:cubicBezTo>
                  <a:pt x="16836" y="11906"/>
                  <a:pt x="16799" y="11867"/>
                  <a:pt x="16818" y="11832"/>
                </a:cubicBezTo>
                <a:cubicBezTo>
                  <a:pt x="16826" y="11824"/>
                  <a:pt x="16834" y="11815"/>
                  <a:pt x="16842" y="11807"/>
                </a:cubicBezTo>
                <a:cubicBezTo>
                  <a:pt x="16774" y="11807"/>
                  <a:pt x="16726" y="11815"/>
                  <a:pt x="16669" y="11832"/>
                </a:cubicBezTo>
                <a:cubicBezTo>
                  <a:pt x="16661" y="11832"/>
                  <a:pt x="16652" y="11832"/>
                  <a:pt x="16644" y="11832"/>
                </a:cubicBezTo>
                <a:cubicBezTo>
                  <a:pt x="16644" y="11881"/>
                  <a:pt x="16663" y="11903"/>
                  <a:pt x="16718" y="11931"/>
                </a:cubicBezTo>
                <a:cubicBezTo>
                  <a:pt x="16802" y="11973"/>
                  <a:pt x="16800" y="11902"/>
                  <a:pt x="16842" y="11881"/>
                </a:cubicBezTo>
                <a:cubicBezTo>
                  <a:pt x="16874" y="11865"/>
                  <a:pt x="16867" y="11879"/>
                  <a:pt x="16867" y="11832"/>
                </a:cubicBezTo>
                <a:cubicBezTo>
                  <a:pt x="16813" y="11832"/>
                  <a:pt x="16784" y="11824"/>
                  <a:pt x="16743" y="11832"/>
                </a:cubicBezTo>
                <a:cubicBezTo>
                  <a:pt x="16703" y="11840"/>
                  <a:pt x="16704" y="11842"/>
                  <a:pt x="16694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40320" y="4572000"/>
            <a:ext cx="61920" cy="6336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17711" y="12774"/>
                </a:moveTo>
                <a:cubicBezTo>
                  <a:pt x="17754" y="12796"/>
                  <a:pt x="17747" y="12801"/>
                  <a:pt x="17760" y="12750"/>
                </a:cubicBezTo>
                <a:cubicBezTo>
                  <a:pt x="17711" y="12750"/>
                  <a:pt x="17706" y="12765"/>
                  <a:pt x="17686" y="12774"/>
                </a:cubicBezTo>
                <a:cubicBezTo>
                  <a:pt x="17639" y="12797"/>
                  <a:pt x="17674" y="12812"/>
                  <a:pt x="17711" y="12849"/>
                </a:cubicBezTo>
                <a:cubicBezTo>
                  <a:pt x="17739" y="12839"/>
                  <a:pt x="17755" y="12814"/>
                  <a:pt x="17760" y="12774"/>
                </a:cubicBezTo>
                <a:cubicBezTo>
                  <a:pt x="17763" y="12743"/>
                  <a:pt x="17749" y="12707"/>
                  <a:pt x="17735" y="12700"/>
                </a:cubicBezTo>
                <a:cubicBezTo>
                  <a:pt x="17713" y="12688"/>
                  <a:pt x="17652" y="12736"/>
                  <a:pt x="17636" y="12750"/>
                </a:cubicBezTo>
                <a:cubicBezTo>
                  <a:pt x="17622" y="12762"/>
                  <a:pt x="17588" y="12828"/>
                  <a:pt x="17611" y="12849"/>
                </a:cubicBezTo>
                <a:cubicBezTo>
                  <a:pt x="17662" y="12895"/>
                  <a:pt x="17691" y="12877"/>
                  <a:pt x="17711" y="12849"/>
                </a:cubicBezTo>
                <a:cubicBezTo>
                  <a:pt x="17719" y="12841"/>
                  <a:pt x="17727" y="12832"/>
                  <a:pt x="17735" y="12824"/>
                </a:cubicBezTo>
                <a:cubicBezTo>
                  <a:pt x="17735" y="12782"/>
                  <a:pt x="17745" y="12786"/>
                  <a:pt x="17711" y="12774"/>
                </a:cubicBezTo>
                <a:cubicBezTo>
                  <a:pt x="17665" y="12774"/>
                  <a:pt x="17642" y="12772"/>
                  <a:pt x="17636" y="12824"/>
                </a:cubicBezTo>
                <a:cubicBezTo>
                  <a:pt x="17630" y="12877"/>
                  <a:pt x="17638" y="12874"/>
                  <a:pt x="17686" y="12874"/>
                </a:cubicBezTo>
                <a:cubicBezTo>
                  <a:pt x="17737" y="12874"/>
                  <a:pt x="17781" y="12886"/>
                  <a:pt x="17785" y="12824"/>
                </a:cubicBezTo>
                <a:cubicBezTo>
                  <a:pt x="17787" y="12801"/>
                  <a:pt x="17795" y="12698"/>
                  <a:pt x="17735" y="12725"/>
                </a:cubicBezTo>
                <a:cubicBezTo>
                  <a:pt x="17713" y="12747"/>
                  <a:pt x="17705" y="12752"/>
                  <a:pt x="17711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4800" y="4295880"/>
            <a:ext cx="54000" cy="4428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18728" y="11981"/>
                </a:moveTo>
                <a:cubicBezTo>
                  <a:pt x="18759" y="11981"/>
                  <a:pt x="18794" y="11973"/>
                  <a:pt x="18802" y="11956"/>
                </a:cubicBezTo>
                <a:cubicBezTo>
                  <a:pt x="18829" y="11902"/>
                  <a:pt x="18736" y="11978"/>
                  <a:pt x="18728" y="11981"/>
                </a:cubicBezTo>
                <a:cubicBezTo>
                  <a:pt x="18688" y="11994"/>
                  <a:pt x="18718" y="11992"/>
                  <a:pt x="18678" y="12005"/>
                </a:cubicBezTo>
                <a:cubicBezTo>
                  <a:pt x="18690" y="12054"/>
                  <a:pt x="18702" y="12055"/>
                  <a:pt x="18752" y="12055"/>
                </a:cubicBezTo>
                <a:cubicBezTo>
                  <a:pt x="18824" y="12055"/>
                  <a:pt x="18777" y="12049"/>
                  <a:pt x="18802" y="12005"/>
                </a:cubicBezTo>
                <a:cubicBezTo>
                  <a:pt x="18843" y="11933"/>
                  <a:pt x="18790" y="11968"/>
                  <a:pt x="18752" y="11981"/>
                </a:cubicBezTo>
                <a:cubicBezTo>
                  <a:pt x="18718" y="11993"/>
                  <a:pt x="18728" y="11988"/>
                  <a:pt x="18728" y="12030"/>
                </a:cubicBezTo>
                <a:cubicBezTo>
                  <a:pt x="18778" y="12043"/>
                  <a:pt x="18786" y="12069"/>
                  <a:pt x="18802" y="12005"/>
                </a:cubicBezTo>
                <a:cubicBezTo>
                  <a:pt x="18789" y="11969"/>
                  <a:pt x="18772" y="11981"/>
                  <a:pt x="18728" y="11981"/>
                </a:cubicBezTo>
                <a:cubicBezTo>
                  <a:pt x="18700" y="11981"/>
                  <a:pt x="18689" y="11983"/>
                  <a:pt x="18678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35840" y="3643200"/>
            <a:ext cx="46080" cy="3672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19596" y="10195"/>
                </a:moveTo>
                <a:cubicBezTo>
                  <a:pt x="19610" y="10111"/>
                  <a:pt x="19602" y="10176"/>
                  <a:pt x="19621" y="10120"/>
                </a:cubicBezTo>
                <a:cubicBezTo>
                  <a:pt x="19584" y="10120"/>
                  <a:pt x="19508" y="10129"/>
                  <a:pt x="19546" y="10195"/>
                </a:cubicBezTo>
                <a:cubicBezTo>
                  <a:pt x="19571" y="10239"/>
                  <a:pt x="19616" y="10198"/>
                  <a:pt x="19621" y="10195"/>
                </a:cubicBezTo>
                <a:cubicBezTo>
                  <a:pt x="19657" y="10176"/>
                  <a:pt x="19661" y="10165"/>
                  <a:pt x="19670" y="10120"/>
                </a:cubicBezTo>
                <a:cubicBezTo>
                  <a:pt x="19637" y="10120"/>
                  <a:pt x="19566" y="10109"/>
                  <a:pt x="19546" y="10145"/>
                </a:cubicBezTo>
                <a:cubicBezTo>
                  <a:pt x="19546" y="10162"/>
                  <a:pt x="19546" y="10178"/>
                  <a:pt x="19546" y="10195"/>
                </a:cubicBezTo>
                <a:cubicBezTo>
                  <a:pt x="19617" y="10195"/>
                  <a:pt x="19663" y="10220"/>
                  <a:pt x="19670" y="10145"/>
                </a:cubicBezTo>
                <a:cubicBezTo>
                  <a:pt x="19674" y="10105"/>
                  <a:pt x="19651" y="10120"/>
                  <a:pt x="19621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1880" y="1419120"/>
            <a:ext cx="1509840" cy="625680"/>
          </a:xfrm>
          <a:custGeom>
            <a:avLst/>
            <a:gdLst/>
            <a:ahLst/>
            <a:rect l="l" t="t" r="r" b="b"/>
            <a:pathLst>
              <a:path w="4193" h="1737">
                <a:moveTo>
                  <a:pt x="2555" y="4192"/>
                </a:moveTo>
                <a:cubicBezTo>
                  <a:pt x="2555" y="4273"/>
                  <a:pt x="2542" y="4340"/>
                  <a:pt x="2530" y="4415"/>
                </a:cubicBezTo>
                <a:cubicBezTo>
                  <a:pt x="2517" y="4496"/>
                  <a:pt x="2517" y="4583"/>
                  <a:pt x="2505" y="4663"/>
                </a:cubicBezTo>
                <a:cubicBezTo>
                  <a:pt x="2485" y="4800"/>
                  <a:pt x="2495" y="4949"/>
                  <a:pt x="2480" y="5085"/>
                </a:cubicBezTo>
                <a:cubicBezTo>
                  <a:pt x="2467" y="5202"/>
                  <a:pt x="2473" y="5320"/>
                  <a:pt x="2456" y="5432"/>
                </a:cubicBezTo>
                <a:cubicBezTo>
                  <a:pt x="2447" y="5492"/>
                  <a:pt x="2459" y="5550"/>
                  <a:pt x="2431" y="5606"/>
                </a:cubicBezTo>
                <a:cubicBezTo>
                  <a:pt x="2406" y="5656"/>
                  <a:pt x="2402" y="5678"/>
                  <a:pt x="2356" y="5655"/>
                </a:cubicBezTo>
              </a:path>
              <a:path w="4193" h="1737">
                <a:moveTo>
                  <a:pt x="2034" y="4217"/>
                </a:moveTo>
                <a:cubicBezTo>
                  <a:pt x="2164" y="4079"/>
                  <a:pt x="2191" y="4050"/>
                  <a:pt x="2356" y="3994"/>
                </a:cubicBezTo>
                <a:cubicBezTo>
                  <a:pt x="2473" y="3954"/>
                  <a:pt x="2555" y="3944"/>
                  <a:pt x="2679" y="3944"/>
                </a:cubicBezTo>
                <a:cubicBezTo>
                  <a:pt x="2780" y="3944"/>
                  <a:pt x="2894" y="3986"/>
                  <a:pt x="2977" y="4043"/>
                </a:cubicBezTo>
                <a:cubicBezTo>
                  <a:pt x="3050" y="4093"/>
                  <a:pt x="3086" y="4138"/>
                  <a:pt x="3125" y="4217"/>
                </a:cubicBezTo>
                <a:cubicBezTo>
                  <a:pt x="3167" y="4300"/>
                  <a:pt x="3140" y="4336"/>
                  <a:pt x="3101" y="4415"/>
                </a:cubicBezTo>
                <a:cubicBezTo>
                  <a:pt x="3054" y="4509"/>
                  <a:pt x="3040" y="4577"/>
                  <a:pt x="2952" y="4638"/>
                </a:cubicBezTo>
                <a:cubicBezTo>
                  <a:pt x="2869" y="4696"/>
                  <a:pt x="2787" y="4754"/>
                  <a:pt x="2704" y="4812"/>
                </a:cubicBezTo>
                <a:cubicBezTo>
                  <a:pt x="2658" y="4844"/>
                  <a:pt x="2636" y="4859"/>
                  <a:pt x="2580" y="4862"/>
                </a:cubicBezTo>
                <a:cubicBezTo>
                  <a:pt x="2555" y="4862"/>
                  <a:pt x="2547" y="4862"/>
                  <a:pt x="2530" y="4862"/>
                </a:cubicBezTo>
              </a:path>
              <a:path w="4193" h="1737">
                <a:moveTo>
                  <a:pt x="3522" y="4018"/>
                </a:moveTo>
                <a:cubicBezTo>
                  <a:pt x="3522" y="4285"/>
                  <a:pt x="3523" y="4549"/>
                  <a:pt x="3497" y="4812"/>
                </a:cubicBezTo>
                <a:cubicBezTo>
                  <a:pt x="3486" y="4925"/>
                  <a:pt x="3490" y="5047"/>
                  <a:pt x="3473" y="5159"/>
                </a:cubicBezTo>
                <a:cubicBezTo>
                  <a:pt x="3463" y="5226"/>
                  <a:pt x="3470" y="5370"/>
                  <a:pt x="3448" y="5432"/>
                </a:cubicBezTo>
                <a:cubicBezTo>
                  <a:pt x="3436" y="5467"/>
                  <a:pt x="3439" y="5449"/>
                  <a:pt x="3423" y="5482"/>
                </a:cubicBezTo>
                <a:cubicBezTo>
                  <a:pt x="3423" y="5404"/>
                  <a:pt x="3438" y="5355"/>
                  <a:pt x="3448" y="5283"/>
                </a:cubicBezTo>
                <a:cubicBezTo>
                  <a:pt x="3462" y="5186"/>
                  <a:pt x="3499" y="5113"/>
                  <a:pt x="3547" y="5035"/>
                </a:cubicBezTo>
                <a:cubicBezTo>
                  <a:pt x="3580" y="4981"/>
                  <a:pt x="3616" y="4923"/>
                  <a:pt x="3671" y="4887"/>
                </a:cubicBezTo>
                <a:cubicBezTo>
                  <a:pt x="3711" y="4861"/>
                  <a:pt x="3823" y="4826"/>
                  <a:pt x="3870" y="4837"/>
                </a:cubicBezTo>
                <a:cubicBezTo>
                  <a:pt x="3927" y="4850"/>
                  <a:pt x="3980" y="4864"/>
                  <a:pt x="4018" y="4911"/>
                </a:cubicBezTo>
                <a:cubicBezTo>
                  <a:pt x="4057" y="4959"/>
                  <a:pt x="4065" y="5075"/>
                  <a:pt x="4068" y="5135"/>
                </a:cubicBezTo>
                <a:cubicBezTo>
                  <a:pt x="4073" y="5243"/>
                  <a:pt x="4083" y="5301"/>
                  <a:pt x="4068" y="5407"/>
                </a:cubicBezTo>
                <a:cubicBezTo>
                  <a:pt x="4066" y="5418"/>
                  <a:pt x="4054" y="5646"/>
                  <a:pt x="4043" y="5631"/>
                </a:cubicBezTo>
                <a:cubicBezTo>
                  <a:pt x="4043" y="5614"/>
                  <a:pt x="4043" y="5598"/>
                  <a:pt x="4043" y="5581"/>
                </a:cubicBezTo>
              </a:path>
              <a:path w="4193" h="1737">
                <a:moveTo>
                  <a:pt x="4762" y="5060"/>
                </a:moveTo>
                <a:cubicBezTo>
                  <a:pt x="4728" y="5017"/>
                  <a:pt x="4734" y="4973"/>
                  <a:pt x="4713" y="4936"/>
                </a:cubicBezTo>
                <a:cubicBezTo>
                  <a:pt x="4696" y="4906"/>
                  <a:pt x="4680" y="4862"/>
                  <a:pt x="4663" y="4837"/>
                </a:cubicBezTo>
                <a:cubicBezTo>
                  <a:pt x="4655" y="4829"/>
                  <a:pt x="4646" y="4820"/>
                  <a:pt x="4638" y="4812"/>
                </a:cubicBezTo>
                <a:cubicBezTo>
                  <a:pt x="4595" y="4812"/>
                  <a:pt x="4589" y="4819"/>
                  <a:pt x="4564" y="4837"/>
                </a:cubicBezTo>
                <a:cubicBezTo>
                  <a:pt x="4516" y="4873"/>
                  <a:pt x="4510" y="4912"/>
                  <a:pt x="4490" y="4961"/>
                </a:cubicBezTo>
                <a:cubicBezTo>
                  <a:pt x="4463" y="5029"/>
                  <a:pt x="4437" y="5093"/>
                  <a:pt x="4415" y="5159"/>
                </a:cubicBezTo>
                <a:cubicBezTo>
                  <a:pt x="4389" y="5236"/>
                  <a:pt x="4390" y="5301"/>
                  <a:pt x="4390" y="5383"/>
                </a:cubicBezTo>
                <a:cubicBezTo>
                  <a:pt x="4390" y="5463"/>
                  <a:pt x="4385" y="5495"/>
                  <a:pt x="4440" y="5556"/>
                </a:cubicBezTo>
                <a:cubicBezTo>
                  <a:pt x="4489" y="5611"/>
                  <a:pt x="4503" y="5614"/>
                  <a:pt x="4564" y="5581"/>
                </a:cubicBezTo>
                <a:cubicBezTo>
                  <a:pt x="4620" y="5551"/>
                  <a:pt x="4673" y="5509"/>
                  <a:pt x="4713" y="5457"/>
                </a:cubicBezTo>
                <a:cubicBezTo>
                  <a:pt x="4756" y="5401"/>
                  <a:pt x="4795" y="5327"/>
                  <a:pt x="4812" y="5259"/>
                </a:cubicBezTo>
                <a:cubicBezTo>
                  <a:pt x="4822" y="5219"/>
                  <a:pt x="4833" y="5172"/>
                  <a:pt x="4837" y="5135"/>
                </a:cubicBezTo>
                <a:cubicBezTo>
                  <a:pt x="4842" y="5088"/>
                  <a:pt x="4834" y="5112"/>
                  <a:pt x="4837" y="5159"/>
                </a:cubicBezTo>
                <a:cubicBezTo>
                  <a:pt x="4845" y="5271"/>
                  <a:pt x="4842" y="5383"/>
                  <a:pt x="4862" y="5482"/>
                </a:cubicBezTo>
                <a:cubicBezTo>
                  <a:pt x="4874" y="5543"/>
                  <a:pt x="4875" y="5554"/>
                  <a:pt x="4911" y="5581"/>
                </a:cubicBezTo>
                <a:cubicBezTo>
                  <a:pt x="4936" y="5606"/>
                  <a:pt x="4944" y="5614"/>
                  <a:pt x="4961" y="5581"/>
                </a:cubicBezTo>
              </a:path>
              <a:path w="4193" h="1737">
                <a:moveTo>
                  <a:pt x="5556" y="4887"/>
                </a:moveTo>
                <a:cubicBezTo>
                  <a:pt x="5489" y="4828"/>
                  <a:pt x="5501" y="4832"/>
                  <a:pt x="5432" y="4862"/>
                </a:cubicBezTo>
                <a:cubicBezTo>
                  <a:pt x="5390" y="4880"/>
                  <a:pt x="5322" y="4926"/>
                  <a:pt x="5283" y="4936"/>
                </a:cubicBezTo>
                <a:cubicBezTo>
                  <a:pt x="5219" y="4953"/>
                  <a:pt x="5209" y="4961"/>
                  <a:pt x="5159" y="5011"/>
                </a:cubicBezTo>
                <a:cubicBezTo>
                  <a:pt x="5151" y="5019"/>
                  <a:pt x="5143" y="5027"/>
                  <a:pt x="5135" y="5035"/>
                </a:cubicBezTo>
                <a:cubicBezTo>
                  <a:pt x="5169" y="5047"/>
                  <a:pt x="5167" y="5061"/>
                  <a:pt x="5209" y="5085"/>
                </a:cubicBezTo>
                <a:cubicBezTo>
                  <a:pt x="5273" y="5122"/>
                  <a:pt x="5334" y="5116"/>
                  <a:pt x="5383" y="5184"/>
                </a:cubicBezTo>
                <a:cubicBezTo>
                  <a:pt x="5437" y="5259"/>
                  <a:pt x="5500" y="5340"/>
                  <a:pt x="5507" y="5432"/>
                </a:cubicBezTo>
                <a:cubicBezTo>
                  <a:pt x="5510" y="5474"/>
                  <a:pt x="5460" y="5503"/>
                  <a:pt x="5432" y="5531"/>
                </a:cubicBezTo>
                <a:cubicBezTo>
                  <a:pt x="5394" y="5568"/>
                  <a:pt x="5334" y="5593"/>
                  <a:pt x="5283" y="5606"/>
                </a:cubicBezTo>
                <a:cubicBezTo>
                  <a:pt x="5262" y="5611"/>
                  <a:pt x="5165" y="5619"/>
                  <a:pt x="5184" y="5581"/>
                </a:cubicBezTo>
                <a:cubicBezTo>
                  <a:pt x="5192" y="5573"/>
                  <a:pt x="5201" y="5564"/>
                  <a:pt x="5209" y="5556"/>
                </a:cubicBezTo>
              </a:path>
              <a:path w="4193" h="1737">
                <a:moveTo>
                  <a:pt x="5779" y="5159"/>
                </a:moveTo>
                <a:cubicBezTo>
                  <a:pt x="5857" y="5110"/>
                  <a:pt x="5932" y="5104"/>
                  <a:pt x="6003" y="5060"/>
                </a:cubicBezTo>
                <a:cubicBezTo>
                  <a:pt x="6059" y="5025"/>
                  <a:pt x="6120" y="4975"/>
                  <a:pt x="6176" y="4936"/>
                </a:cubicBezTo>
                <a:cubicBezTo>
                  <a:pt x="6228" y="4900"/>
                  <a:pt x="6226" y="4871"/>
                  <a:pt x="6226" y="4812"/>
                </a:cubicBezTo>
                <a:cubicBezTo>
                  <a:pt x="6226" y="4786"/>
                  <a:pt x="6219" y="4725"/>
                  <a:pt x="6201" y="4713"/>
                </a:cubicBezTo>
                <a:cubicBezTo>
                  <a:pt x="6165" y="4689"/>
                  <a:pt x="6053" y="4717"/>
                  <a:pt x="6028" y="4738"/>
                </a:cubicBezTo>
                <a:cubicBezTo>
                  <a:pt x="5934" y="4819"/>
                  <a:pt x="5863" y="4904"/>
                  <a:pt x="5804" y="5011"/>
                </a:cubicBezTo>
                <a:cubicBezTo>
                  <a:pt x="5768" y="5077"/>
                  <a:pt x="5720" y="5162"/>
                  <a:pt x="5705" y="5234"/>
                </a:cubicBezTo>
                <a:cubicBezTo>
                  <a:pt x="5693" y="5291"/>
                  <a:pt x="5696" y="5385"/>
                  <a:pt x="5730" y="5432"/>
                </a:cubicBezTo>
                <a:cubicBezTo>
                  <a:pt x="5756" y="5468"/>
                  <a:pt x="5836" y="5544"/>
                  <a:pt x="5879" y="5556"/>
                </a:cubicBezTo>
                <a:cubicBezTo>
                  <a:pt x="5936" y="5571"/>
                  <a:pt x="6018" y="5576"/>
                  <a:pt x="6077" y="5581"/>
                </a:cubicBezTo>
                <a:cubicBezTo>
                  <a:pt x="6126" y="5585"/>
                  <a:pt x="6177" y="5581"/>
                  <a:pt x="6226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33760" y="1384200"/>
            <a:ext cx="1573200" cy="1036800"/>
          </a:xfrm>
          <a:custGeom>
            <a:avLst/>
            <a:gdLst/>
            <a:ahLst/>
            <a:rect l="l" t="t" r="r" b="b"/>
            <a:pathLst>
              <a:path w="4367" h="2878">
                <a:moveTo>
                  <a:pt x="8210" y="4093"/>
                </a:moveTo>
                <a:cubicBezTo>
                  <a:pt x="8210" y="4118"/>
                  <a:pt x="8210" y="4126"/>
                  <a:pt x="8210" y="4142"/>
                </a:cubicBezTo>
                <a:cubicBezTo>
                  <a:pt x="8203" y="4090"/>
                  <a:pt x="8209" y="4095"/>
                  <a:pt x="8186" y="4068"/>
                </a:cubicBezTo>
                <a:cubicBezTo>
                  <a:pt x="8156" y="4033"/>
                  <a:pt x="8109" y="3979"/>
                  <a:pt x="8062" y="3969"/>
                </a:cubicBezTo>
                <a:cubicBezTo>
                  <a:pt x="7994" y="3954"/>
                  <a:pt x="7923" y="3973"/>
                  <a:pt x="7863" y="3994"/>
                </a:cubicBezTo>
                <a:cubicBezTo>
                  <a:pt x="7812" y="4011"/>
                  <a:pt x="7786" y="4039"/>
                  <a:pt x="7739" y="4068"/>
                </a:cubicBezTo>
                <a:cubicBezTo>
                  <a:pt x="7692" y="4097"/>
                  <a:pt x="7650" y="4122"/>
                  <a:pt x="7615" y="4167"/>
                </a:cubicBezTo>
                <a:cubicBezTo>
                  <a:pt x="7577" y="4216"/>
                  <a:pt x="7568" y="4262"/>
                  <a:pt x="7541" y="4316"/>
                </a:cubicBezTo>
                <a:cubicBezTo>
                  <a:pt x="7518" y="4363"/>
                  <a:pt x="7519" y="4380"/>
                  <a:pt x="7516" y="4440"/>
                </a:cubicBezTo>
                <a:cubicBezTo>
                  <a:pt x="7513" y="4506"/>
                  <a:pt x="7550" y="4539"/>
                  <a:pt x="7590" y="4589"/>
                </a:cubicBezTo>
                <a:cubicBezTo>
                  <a:pt x="7630" y="4639"/>
                  <a:pt x="7684" y="4660"/>
                  <a:pt x="7739" y="4688"/>
                </a:cubicBezTo>
                <a:cubicBezTo>
                  <a:pt x="7830" y="4734"/>
                  <a:pt x="7908" y="4775"/>
                  <a:pt x="7987" y="4837"/>
                </a:cubicBezTo>
                <a:cubicBezTo>
                  <a:pt x="8078" y="4909"/>
                  <a:pt x="8138" y="4966"/>
                  <a:pt x="8161" y="5085"/>
                </a:cubicBezTo>
                <a:cubicBezTo>
                  <a:pt x="8174" y="5152"/>
                  <a:pt x="8162" y="5224"/>
                  <a:pt x="8136" y="5283"/>
                </a:cubicBezTo>
                <a:cubicBezTo>
                  <a:pt x="8104" y="5354"/>
                  <a:pt x="8054" y="5395"/>
                  <a:pt x="7987" y="5432"/>
                </a:cubicBezTo>
                <a:cubicBezTo>
                  <a:pt x="7899" y="5481"/>
                  <a:pt x="7816" y="5503"/>
                  <a:pt x="7714" y="5507"/>
                </a:cubicBezTo>
                <a:cubicBezTo>
                  <a:pt x="7664" y="5509"/>
                  <a:pt x="7557" y="5507"/>
                  <a:pt x="7516" y="5482"/>
                </a:cubicBezTo>
                <a:cubicBezTo>
                  <a:pt x="7474" y="5456"/>
                  <a:pt x="7424" y="5437"/>
                  <a:pt x="7392" y="5407"/>
                </a:cubicBezTo>
                <a:cubicBezTo>
                  <a:pt x="7380" y="5396"/>
                  <a:pt x="7330" y="5352"/>
                  <a:pt x="7317" y="5333"/>
                </a:cubicBezTo>
                <a:cubicBezTo>
                  <a:pt x="7317" y="5325"/>
                  <a:pt x="7317" y="5316"/>
                  <a:pt x="7317" y="5308"/>
                </a:cubicBezTo>
              </a:path>
              <a:path w="4367" h="2878">
                <a:moveTo>
                  <a:pt x="8458" y="4068"/>
                </a:moveTo>
                <a:cubicBezTo>
                  <a:pt x="8458" y="4326"/>
                  <a:pt x="8455" y="4582"/>
                  <a:pt x="8434" y="4837"/>
                </a:cubicBezTo>
                <a:cubicBezTo>
                  <a:pt x="8422" y="4986"/>
                  <a:pt x="8388" y="5135"/>
                  <a:pt x="8384" y="5283"/>
                </a:cubicBezTo>
                <a:cubicBezTo>
                  <a:pt x="8381" y="5378"/>
                  <a:pt x="8373" y="5435"/>
                  <a:pt x="8409" y="5507"/>
                </a:cubicBezTo>
                <a:cubicBezTo>
                  <a:pt x="8423" y="5452"/>
                  <a:pt x="8431" y="5416"/>
                  <a:pt x="8434" y="5358"/>
                </a:cubicBezTo>
                <a:cubicBezTo>
                  <a:pt x="8437" y="5301"/>
                  <a:pt x="8442" y="5214"/>
                  <a:pt x="8458" y="5159"/>
                </a:cubicBezTo>
                <a:cubicBezTo>
                  <a:pt x="8486" y="5060"/>
                  <a:pt x="8568" y="4916"/>
                  <a:pt x="8632" y="4837"/>
                </a:cubicBezTo>
                <a:cubicBezTo>
                  <a:pt x="8676" y="4782"/>
                  <a:pt x="8714" y="4751"/>
                  <a:pt x="8781" y="4738"/>
                </a:cubicBezTo>
                <a:cubicBezTo>
                  <a:pt x="8829" y="4729"/>
                  <a:pt x="8870" y="4734"/>
                  <a:pt x="8905" y="4762"/>
                </a:cubicBezTo>
                <a:cubicBezTo>
                  <a:pt x="8948" y="4795"/>
                  <a:pt x="8992" y="4858"/>
                  <a:pt x="9004" y="4911"/>
                </a:cubicBezTo>
                <a:cubicBezTo>
                  <a:pt x="9026" y="5010"/>
                  <a:pt x="8993" y="5115"/>
                  <a:pt x="8979" y="5209"/>
                </a:cubicBezTo>
                <a:cubicBezTo>
                  <a:pt x="8971" y="5261"/>
                  <a:pt x="8961" y="5307"/>
                  <a:pt x="8954" y="5358"/>
                </a:cubicBezTo>
                <a:cubicBezTo>
                  <a:pt x="8946" y="5414"/>
                  <a:pt x="8960" y="5478"/>
                  <a:pt x="8979" y="5383"/>
                </a:cubicBezTo>
              </a:path>
              <a:path w="4367" h="2878">
                <a:moveTo>
                  <a:pt x="9351" y="4738"/>
                </a:moveTo>
                <a:cubicBezTo>
                  <a:pt x="9351" y="4819"/>
                  <a:pt x="9336" y="4883"/>
                  <a:pt x="9327" y="4961"/>
                </a:cubicBezTo>
                <a:cubicBezTo>
                  <a:pt x="9317" y="5050"/>
                  <a:pt x="9301" y="5150"/>
                  <a:pt x="9277" y="5234"/>
                </a:cubicBezTo>
                <a:cubicBezTo>
                  <a:pt x="9261" y="5291"/>
                  <a:pt x="9268" y="5352"/>
                  <a:pt x="9252" y="5407"/>
                </a:cubicBezTo>
                <a:cubicBezTo>
                  <a:pt x="9247" y="5423"/>
                  <a:pt x="9227" y="5539"/>
                  <a:pt x="9227" y="5482"/>
                </a:cubicBezTo>
                <a:cubicBezTo>
                  <a:pt x="9227" y="5449"/>
                  <a:pt x="9227" y="5432"/>
                  <a:pt x="9227" y="5407"/>
                </a:cubicBezTo>
              </a:path>
              <a:path w="4367" h="2878">
                <a:moveTo>
                  <a:pt x="9401" y="4440"/>
                </a:moveTo>
                <a:cubicBezTo>
                  <a:pt x="9401" y="4412"/>
                  <a:pt x="9403" y="4401"/>
                  <a:pt x="9426" y="4390"/>
                </a:cubicBezTo>
              </a:path>
              <a:path w="4367" h="2878">
                <a:moveTo>
                  <a:pt x="10468" y="3894"/>
                </a:moveTo>
                <a:cubicBezTo>
                  <a:pt x="10393" y="3862"/>
                  <a:pt x="10380" y="3845"/>
                  <a:pt x="10294" y="3845"/>
                </a:cubicBezTo>
                <a:cubicBezTo>
                  <a:pt x="10225" y="3845"/>
                  <a:pt x="10181" y="3857"/>
                  <a:pt x="10120" y="3894"/>
                </a:cubicBezTo>
                <a:cubicBezTo>
                  <a:pt x="10085" y="3915"/>
                  <a:pt x="10015" y="3954"/>
                  <a:pt x="9996" y="3994"/>
                </a:cubicBezTo>
                <a:cubicBezTo>
                  <a:pt x="9973" y="4042"/>
                  <a:pt x="9972" y="4113"/>
                  <a:pt x="9947" y="4167"/>
                </a:cubicBezTo>
                <a:cubicBezTo>
                  <a:pt x="9915" y="4234"/>
                  <a:pt x="9889" y="4296"/>
                  <a:pt x="9872" y="4366"/>
                </a:cubicBezTo>
                <a:cubicBezTo>
                  <a:pt x="9846" y="4473"/>
                  <a:pt x="9843" y="4560"/>
                  <a:pt x="9823" y="4663"/>
                </a:cubicBezTo>
                <a:cubicBezTo>
                  <a:pt x="9803" y="4766"/>
                  <a:pt x="9805" y="4887"/>
                  <a:pt x="9773" y="4986"/>
                </a:cubicBezTo>
                <a:cubicBezTo>
                  <a:pt x="9750" y="5058"/>
                  <a:pt x="9727" y="5132"/>
                  <a:pt x="9723" y="5209"/>
                </a:cubicBezTo>
                <a:cubicBezTo>
                  <a:pt x="9720" y="5269"/>
                  <a:pt x="9694" y="5382"/>
                  <a:pt x="9699" y="5432"/>
                </a:cubicBezTo>
                <a:cubicBezTo>
                  <a:pt x="9703" y="5468"/>
                  <a:pt x="9739" y="5515"/>
                  <a:pt x="9723" y="5482"/>
                </a:cubicBezTo>
                <a:cubicBezTo>
                  <a:pt x="9701" y="5459"/>
                  <a:pt x="9693" y="5454"/>
                  <a:pt x="9699" y="5432"/>
                </a:cubicBezTo>
              </a:path>
              <a:path w="4367" h="2878">
                <a:moveTo>
                  <a:pt x="9599" y="4936"/>
                </a:moveTo>
                <a:cubicBezTo>
                  <a:pt x="9756" y="4936"/>
                  <a:pt x="9951" y="4965"/>
                  <a:pt x="10096" y="4911"/>
                </a:cubicBezTo>
              </a:path>
              <a:path w="4367" h="2878">
                <a:moveTo>
                  <a:pt x="11187" y="4390"/>
                </a:moveTo>
                <a:cubicBezTo>
                  <a:pt x="11162" y="4449"/>
                  <a:pt x="11141" y="4504"/>
                  <a:pt x="11112" y="4564"/>
                </a:cubicBezTo>
                <a:cubicBezTo>
                  <a:pt x="11079" y="4632"/>
                  <a:pt x="11052" y="4737"/>
                  <a:pt x="11038" y="4812"/>
                </a:cubicBezTo>
                <a:cubicBezTo>
                  <a:pt x="11024" y="4887"/>
                  <a:pt x="11037" y="4963"/>
                  <a:pt x="11013" y="5035"/>
                </a:cubicBezTo>
                <a:cubicBezTo>
                  <a:pt x="10988" y="5109"/>
                  <a:pt x="10988" y="5187"/>
                  <a:pt x="10964" y="5259"/>
                </a:cubicBezTo>
                <a:cubicBezTo>
                  <a:pt x="10939" y="5333"/>
                  <a:pt x="10939" y="5374"/>
                  <a:pt x="10939" y="5457"/>
                </a:cubicBezTo>
                <a:cubicBezTo>
                  <a:pt x="10939" y="5465"/>
                  <a:pt x="10939" y="5474"/>
                  <a:pt x="10939" y="5482"/>
                </a:cubicBezTo>
                <a:cubicBezTo>
                  <a:pt x="10995" y="5463"/>
                  <a:pt x="10948" y="5433"/>
                  <a:pt x="10939" y="5383"/>
                </a:cubicBezTo>
                <a:cubicBezTo>
                  <a:pt x="10939" y="5366"/>
                  <a:pt x="10939" y="5350"/>
                  <a:pt x="10939" y="5333"/>
                </a:cubicBezTo>
              </a:path>
              <a:path w="4367" h="2878">
                <a:moveTo>
                  <a:pt x="10616" y="4887"/>
                </a:moveTo>
                <a:cubicBezTo>
                  <a:pt x="10714" y="4894"/>
                  <a:pt x="10790" y="4911"/>
                  <a:pt x="10889" y="4911"/>
                </a:cubicBezTo>
                <a:cubicBezTo>
                  <a:pt x="10993" y="4911"/>
                  <a:pt x="11086" y="4947"/>
                  <a:pt x="11187" y="4961"/>
                </a:cubicBezTo>
                <a:cubicBezTo>
                  <a:pt x="11269" y="4972"/>
                  <a:pt x="11356" y="4961"/>
                  <a:pt x="11435" y="4986"/>
                </a:cubicBezTo>
                <a:cubicBezTo>
                  <a:pt x="11500" y="5007"/>
                  <a:pt x="11571" y="5028"/>
                  <a:pt x="11633" y="5035"/>
                </a:cubicBezTo>
                <a:cubicBezTo>
                  <a:pt x="11686" y="5041"/>
                  <a:pt x="11689" y="5035"/>
                  <a:pt x="11633" y="5035"/>
                </a:cubicBezTo>
              </a:path>
              <a:path w="4367" h="2878">
                <a:moveTo>
                  <a:pt x="9525" y="6722"/>
                </a:moveTo>
                <a:cubicBezTo>
                  <a:pt x="9576" y="6684"/>
                  <a:pt x="9587" y="6711"/>
                  <a:pt x="9649" y="6697"/>
                </a:cubicBezTo>
                <a:cubicBezTo>
                  <a:pt x="9743" y="6675"/>
                  <a:pt x="9825" y="6672"/>
                  <a:pt x="9922" y="6672"/>
                </a:cubicBezTo>
                <a:cubicBezTo>
                  <a:pt x="9963" y="6672"/>
                  <a:pt x="9971" y="6672"/>
                  <a:pt x="9996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2286000"/>
            <a:ext cx="3117600" cy="982800"/>
          </a:xfrm>
          <a:custGeom>
            <a:avLst/>
            <a:gdLst/>
            <a:ahLst/>
            <a:rect l="l" t="t" r="r" b="b"/>
            <a:pathLst>
              <a:path w="8658" h="2730">
                <a:moveTo>
                  <a:pt x="2753" y="7293"/>
                </a:moveTo>
                <a:cubicBezTo>
                  <a:pt x="2763" y="7331"/>
                  <a:pt x="2765" y="7378"/>
                  <a:pt x="2778" y="7417"/>
                </a:cubicBezTo>
                <a:cubicBezTo>
                  <a:pt x="2809" y="7509"/>
                  <a:pt x="2841" y="7593"/>
                  <a:pt x="2877" y="7689"/>
                </a:cubicBezTo>
                <a:cubicBezTo>
                  <a:pt x="2908" y="7773"/>
                  <a:pt x="2939" y="7857"/>
                  <a:pt x="2977" y="7938"/>
                </a:cubicBezTo>
                <a:cubicBezTo>
                  <a:pt x="3001" y="7989"/>
                  <a:pt x="3020" y="8056"/>
                  <a:pt x="3026" y="8111"/>
                </a:cubicBezTo>
                <a:cubicBezTo>
                  <a:pt x="3028" y="8135"/>
                  <a:pt x="3026" y="8162"/>
                  <a:pt x="3026" y="8186"/>
                </a:cubicBezTo>
              </a:path>
              <a:path w="8658" h="2730">
                <a:moveTo>
                  <a:pt x="3398" y="6995"/>
                </a:moveTo>
                <a:cubicBezTo>
                  <a:pt x="3369" y="7104"/>
                  <a:pt x="3350" y="7208"/>
                  <a:pt x="3324" y="7317"/>
                </a:cubicBezTo>
                <a:cubicBezTo>
                  <a:pt x="3265" y="7568"/>
                  <a:pt x="3209" y="7808"/>
                  <a:pt x="3175" y="8062"/>
                </a:cubicBezTo>
                <a:cubicBezTo>
                  <a:pt x="3155" y="8213"/>
                  <a:pt x="3109" y="8360"/>
                  <a:pt x="3076" y="8508"/>
                </a:cubicBezTo>
                <a:cubicBezTo>
                  <a:pt x="3048" y="8633"/>
                  <a:pt x="3026" y="8760"/>
                  <a:pt x="2977" y="8880"/>
                </a:cubicBezTo>
                <a:cubicBezTo>
                  <a:pt x="2961" y="8921"/>
                  <a:pt x="2905" y="9018"/>
                  <a:pt x="2902" y="9029"/>
                </a:cubicBezTo>
                <a:cubicBezTo>
                  <a:pt x="2866" y="9171"/>
                  <a:pt x="2927" y="8930"/>
                  <a:pt x="2927" y="8930"/>
                </a:cubicBezTo>
              </a:path>
              <a:path w="8658" h="2730">
                <a:moveTo>
                  <a:pt x="3770" y="7441"/>
                </a:moveTo>
                <a:cubicBezTo>
                  <a:pt x="3850" y="7464"/>
                  <a:pt x="3912" y="7491"/>
                  <a:pt x="3994" y="7491"/>
                </a:cubicBezTo>
                <a:cubicBezTo>
                  <a:pt x="4057" y="7491"/>
                  <a:pt x="4102" y="7516"/>
                  <a:pt x="4167" y="7516"/>
                </a:cubicBezTo>
                <a:cubicBezTo>
                  <a:pt x="4234" y="7516"/>
                  <a:pt x="4166" y="7537"/>
                  <a:pt x="4142" y="7541"/>
                </a:cubicBezTo>
              </a:path>
              <a:path w="8658" h="2730">
                <a:moveTo>
                  <a:pt x="3721" y="7739"/>
                </a:moveTo>
                <a:cubicBezTo>
                  <a:pt x="3777" y="7763"/>
                  <a:pt x="3817" y="7746"/>
                  <a:pt x="3870" y="7764"/>
                </a:cubicBezTo>
                <a:cubicBezTo>
                  <a:pt x="3945" y="7789"/>
                  <a:pt x="4059" y="7812"/>
                  <a:pt x="4142" y="7789"/>
                </a:cubicBezTo>
                <a:cubicBezTo>
                  <a:pt x="4159" y="7781"/>
                  <a:pt x="4175" y="7772"/>
                  <a:pt x="4192" y="7764"/>
                </a:cubicBezTo>
              </a:path>
              <a:path w="8658" h="2730">
                <a:moveTo>
                  <a:pt x="4862" y="7367"/>
                </a:moveTo>
                <a:cubicBezTo>
                  <a:pt x="4862" y="7427"/>
                  <a:pt x="4869" y="7423"/>
                  <a:pt x="4837" y="7466"/>
                </a:cubicBezTo>
                <a:cubicBezTo>
                  <a:pt x="4828" y="7407"/>
                  <a:pt x="4803" y="7370"/>
                  <a:pt x="4787" y="7317"/>
                </a:cubicBezTo>
                <a:cubicBezTo>
                  <a:pt x="4772" y="7268"/>
                  <a:pt x="4780" y="7261"/>
                  <a:pt x="4738" y="7218"/>
                </a:cubicBezTo>
                <a:cubicBezTo>
                  <a:pt x="4703" y="7253"/>
                  <a:pt x="4650" y="7291"/>
                  <a:pt x="4638" y="7342"/>
                </a:cubicBezTo>
                <a:cubicBezTo>
                  <a:pt x="4622" y="7411"/>
                  <a:pt x="4613" y="7473"/>
                  <a:pt x="4589" y="7541"/>
                </a:cubicBezTo>
                <a:cubicBezTo>
                  <a:pt x="4556" y="7634"/>
                  <a:pt x="4543" y="7740"/>
                  <a:pt x="4539" y="7838"/>
                </a:cubicBezTo>
                <a:cubicBezTo>
                  <a:pt x="4536" y="7931"/>
                  <a:pt x="4544" y="8001"/>
                  <a:pt x="4564" y="8086"/>
                </a:cubicBezTo>
                <a:cubicBezTo>
                  <a:pt x="4566" y="8095"/>
                  <a:pt x="4615" y="8160"/>
                  <a:pt x="4638" y="8136"/>
                </a:cubicBezTo>
                <a:cubicBezTo>
                  <a:pt x="4662" y="8111"/>
                  <a:pt x="4708" y="8091"/>
                  <a:pt x="4738" y="8037"/>
                </a:cubicBezTo>
                <a:cubicBezTo>
                  <a:pt x="4787" y="7949"/>
                  <a:pt x="4858" y="7811"/>
                  <a:pt x="4887" y="7714"/>
                </a:cubicBezTo>
                <a:cubicBezTo>
                  <a:pt x="4900" y="7669"/>
                  <a:pt x="4931" y="7608"/>
                  <a:pt x="4936" y="7565"/>
                </a:cubicBezTo>
                <a:cubicBezTo>
                  <a:pt x="4936" y="7541"/>
                  <a:pt x="4936" y="7533"/>
                  <a:pt x="4936" y="7565"/>
                </a:cubicBezTo>
                <a:cubicBezTo>
                  <a:pt x="4936" y="7662"/>
                  <a:pt x="4945" y="7755"/>
                  <a:pt x="4961" y="7838"/>
                </a:cubicBezTo>
                <a:cubicBezTo>
                  <a:pt x="4972" y="7898"/>
                  <a:pt x="4989" y="7956"/>
                  <a:pt x="5011" y="8012"/>
                </a:cubicBezTo>
                <a:cubicBezTo>
                  <a:pt x="5034" y="8071"/>
                  <a:pt x="5042" y="8055"/>
                  <a:pt x="5085" y="8086"/>
                </a:cubicBezTo>
              </a:path>
              <a:path w="8658" h="2730">
                <a:moveTo>
                  <a:pt x="5953" y="7243"/>
                </a:moveTo>
                <a:cubicBezTo>
                  <a:pt x="5873" y="7208"/>
                  <a:pt x="5861" y="7224"/>
                  <a:pt x="5779" y="7243"/>
                </a:cubicBezTo>
                <a:cubicBezTo>
                  <a:pt x="5723" y="7256"/>
                  <a:pt x="5655" y="7283"/>
                  <a:pt x="5606" y="7317"/>
                </a:cubicBezTo>
                <a:cubicBezTo>
                  <a:pt x="5583" y="7333"/>
                  <a:pt x="5490" y="7405"/>
                  <a:pt x="5482" y="7417"/>
                </a:cubicBezTo>
                <a:cubicBezTo>
                  <a:pt x="5461" y="7448"/>
                  <a:pt x="5525" y="7486"/>
                  <a:pt x="5531" y="7491"/>
                </a:cubicBezTo>
                <a:cubicBezTo>
                  <a:pt x="5603" y="7555"/>
                  <a:pt x="5671" y="7598"/>
                  <a:pt x="5730" y="7665"/>
                </a:cubicBezTo>
                <a:cubicBezTo>
                  <a:pt x="5786" y="7728"/>
                  <a:pt x="5842" y="7783"/>
                  <a:pt x="5854" y="7863"/>
                </a:cubicBezTo>
                <a:cubicBezTo>
                  <a:pt x="5859" y="7898"/>
                  <a:pt x="5805" y="7990"/>
                  <a:pt x="5779" y="8012"/>
                </a:cubicBezTo>
                <a:cubicBezTo>
                  <a:pt x="5733" y="8052"/>
                  <a:pt x="5637" y="8077"/>
                  <a:pt x="5581" y="8086"/>
                </a:cubicBezTo>
                <a:cubicBezTo>
                  <a:pt x="5511" y="8097"/>
                  <a:pt x="5491" y="8093"/>
                  <a:pt x="5432" y="8086"/>
                </a:cubicBezTo>
                <a:cubicBezTo>
                  <a:pt x="5384" y="8081"/>
                  <a:pt x="5410" y="8065"/>
                  <a:pt x="5432" y="8037"/>
                </a:cubicBezTo>
              </a:path>
              <a:path w="8658" h="2730">
                <a:moveTo>
                  <a:pt x="6201" y="7342"/>
                </a:moveTo>
                <a:cubicBezTo>
                  <a:pt x="6223" y="7431"/>
                  <a:pt x="6248" y="7546"/>
                  <a:pt x="6226" y="7640"/>
                </a:cubicBezTo>
                <a:cubicBezTo>
                  <a:pt x="6207" y="7724"/>
                  <a:pt x="6201" y="7797"/>
                  <a:pt x="6201" y="7888"/>
                </a:cubicBezTo>
                <a:cubicBezTo>
                  <a:pt x="6201" y="7938"/>
                  <a:pt x="6201" y="7987"/>
                  <a:pt x="6201" y="8037"/>
                </a:cubicBezTo>
                <a:cubicBezTo>
                  <a:pt x="6165" y="8025"/>
                  <a:pt x="6173" y="8014"/>
                  <a:pt x="6152" y="7962"/>
                </a:cubicBezTo>
              </a:path>
              <a:path w="8658" h="2730">
                <a:moveTo>
                  <a:pt x="6400" y="6896"/>
                </a:moveTo>
                <a:cubicBezTo>
                  <a:pt x="6424" y="6871"/>
                  <a:pt x="6432" y="6863"/>
                  <a:pt x="6400" y="6846"/>
                </a:cubicBezTo>
              </a:path>
              <a:path w="8658" h="2730">
                <a:moveTo>
                  <a:pt x="6524" y="7218"/>
                </a:moveTo>
                <a:cubicBezTo>
                  <a:pt x="6506" y="7371"/>
                  <a:pt x="6499" y="7511"/>
                  <a:pt x="6499" y="7665"/>
                </a:cubicBezTo>
                <a:cubicBezTo>
                  <a:pt x="6499" y="7759"/>
                  <a:pt x="6474" y="7842"/>
                  <a:pt x="6474" y="7938"/>
                </a:cubicBezTo>
                <a:cubicBezTo>
                  <a:pt x="6474" y="7986"/>
                  <a:pt x="6458" y="8017"/>
                  <a:pt x="6449" y="8062"/>
                </a:cubicBezTo>
                <a:cubicBezTo>
                  <a:pt x="6449" y="7962"/>
                  <a:pt x="6462" y="7881"/>
                  <a:pt x="6474" y="7789"/>
                </a:cubicBezTo>
                <a:cubicBezTo>
                  <a:pt x="6486" y="7698"/>
                  <a:pt x="6511" y="7628"/>
                  <a:pt x="6548" y="7541"/>
                </a:cubicBezTo>
                <a:cubicBezTo>
                  <a:pt x="6585" y="7455"/>
                  <a:pt x="6621" y="7415"/>
                  <a:pt x="6672" y="7342"/>
                </a:cubicBezTo>
                <a:cubicBezTo>
                  <a:pt x="6720" y="7274"/>
                  <a:pt x="6736" y="7268"/>
                  <a:pt x="6821" y="7268"/>
                </a:cubicBezTo>
                <a:cubicBezTo>
                  <a:pt x="6889" y="7268"/>
                  <a:pt x="6904" y="7367"/>
                  <a:pt x="6921" y="7417"/>
                </a:cubicBezTo>
                <a:cubicBezTo>
                  <a:pt x="6950" y="7500"/>
                  <a:pt x="6964" y="7626"/>
                  <a:pt x="6945" y="7714"/>
                </a:cubicBezTo>
                <a:cubicBezTo>
                  <a:pt x="6929" y="7789"/>
                  <a:pt x="6913" y="7864"/>
                  <a:pt x="6896" y="7938"/>
                </a:cubicBezTo>
                <a:cubicBezTo>
                  <a:pt x="6887" y="7978"/>
                  <a:pt x="6850" y="8073"/>
                  <a:pt x="6871" y="8037"/>
                </a:cubicBezTo>
                <a:cubicBezTo>
                  <a:pt x="6879" y="8020"/>
                  <a:pt x="6888" y="8004"/>
                  <a:pt x="6896" y="7987"/>
                </a:cubicBezTo>
              </a:path>
              <a:path w="8658" h="2730">
                <a:moveTo>
                  <a:pt x="7739" y="6598"/>
                </a:moveTo>
                <a:cubicBezTo>
                  <a:pt x="7670" y="6681"/>
                  <a:pt x="7599" y="6791"/>
                  <a:pt x="7565" y="6896"/>
                </a:cubicBezTo>
                <a:cubicBezTo>
                  <a:pt x="7517" y="7045"/>
                  <a:pt x="7465" y="7193"/>
                  <a:pt x="7417" y="7342"/>
                </a:cubicBezTo>
                <a:cubicBezTo>
                  <a:pt x="7377" y="7464"/>
                  <a:pt x="7371" y="7612"/>
                  <a:pt x="7367" y="7739"/>
                </a:cubicBezTo>
                <a:cubicBezTo>
                  <a:pt x="7364" y="7826"/>
                  <a:pt x="7357" y="7908"/>
                  <a:pt x="7392" y="7987"/>
                </a:cubicBezTo>
                <a:cubicBezTo>
                  <a:pt x="7413" y="8035"/>
                  <a:pt x="7432" y="8076"/>
                  <a:pt x="7491" y="8062"/>
                </a:cubicBezTo>
                <a:cubicBezTo>
                  <a:pt x="7544" y="8050"/>
                  <a:pt x="7572" y="7993"/>
                  <a:pt x="7615" y="7962"/>
                </a:cubicBezTo>
              </a:path>
              <a:path w="8658" h="2730">
                <a:moveTo>
                  <a:pt x="8037" y="6772"/>
                </a:moveTo>
                <a:cubicBezTo>
                  <a:pt x="8029" y="6862"/>
                  <a:pt x="8026" y="6955"/>
                  <a:pt x="8012" y="7045"/>
                </a:cubicBezTo>
                <a:cubicBezTo>
                  <a:pt x="7989" y="7193"/>
                  <a:pt x="7984" y="7343"/>
                  <a:pt x="7962" y="7491"/>
                </a:cubicBezTo>
                <a:cubicBezTo>
                  <a:pt x="7944" y="7608"/>
                  <a:pt x="7917" y="7721"/>
                  <a:pt x="7913" y="7838"/>
                </a:cubicBezTo>
                <a:cubicBezTo>
                  <a:pt x="7910" y="7916"/>
                  <a:pt x="7893" y="7984"/>
                  <a:pt x="7888" y="8062"/>
                </a:cubicBezTo>
                <a:cubicBezTo>
                  <a:pt x="7888" y="8070"/>
                  <a:pt x="7888" y="8078"/>
                  <a:pt x="7888" y="8086"/>
                </a:cubicBezTo>
                <a:cubicBezTo>
                  <a:pt x="7888" y="8036"/>
                  <a:pt x="7875" y="8035"/>
                  <a:pt x="7888" y="7987"/>
                </a:cubicBezTo>
                <a:cubicBezTo>
                  <a:pt x="7907" y="7914"/>
                  <a:pt x="7920" y="7838"/>
                  <a:pt x="7938" y="7764"/>
                </a:cubicBezTo>
                <a:cubicBezTo>
                  <a:pt x="7956" y="7692"/>
                  <a:pt x="8011" y="7518"/>
                  <a:pt x="8062" y="7466"/>
                </a:cubicBezTo>
                <a:cubicBezTo>
                  <a:pt x="8096" y="7431"/>
                  <a:pt x="8165" y="7379"/>
                  <a:pt x="8210" y="7367"/>
                </a:cubicBezTo>
                <a:cubicBezTo>
                  <a:pt x="8270" y="7350"/>
                  <a:pt x="8349" y="7434"/>
                  <a:pt x="8359" y="7491"/>
                </a:cubicBezTo>
                <a:cubicBezTo>
                  <a:pt x="8375" y="7580"/>
                  <a:pt x="8347" y="7660"/>
                  <a:pt x="8310" y="7739"/>
                </a:cubicBezTo>
                <a:cubicBezTo>
                  <a:pt x="8273" y="7819"/>
                  <a:pt x="8222" y="7877"/>
                  <a:pt x="8161" y="7938"/>
                </a:cubicBezTo>
                <a:cubicBezTo>
                  <a:pt x="8112" y="7987"/>
                  <a:pt x="8032" y="8046"/>
                  <a:pt x="7962" y="8062"/>
                </a:cubicBezTo>
                <a:cubicBezTo>
                  <a:pt x="7944" y="8066"/>
                  <a:pt x="7867" y="8075"/>
                  <a:pt x="7888" y="8037"/>
                </a:cubicBezTo>
                <a:cubicBezTo>
                  <a:pt x="7910" y="7997"/>
                  <a:pt x="7954" y="7957"/>
                  <a:pt x="7987" y="7913"/>
                </a:cubicBezTo>
              </a:path>
              <a:path w="8658" h="2730">
                <a:moveTo>
                  <a:pt x="8632" y="7516"/>
                </a:moveTo>
                <a:cubicBezTo>
                  <a:pt x="8684" y="7643"/>
                  <a:pt x="8720" y="7827"/>
                  <a:pt x="8806" y="7938"/>
                </a:cubicBezTo>
                <a:cubicBezTo>
                  <a:pt x="8838" y="7979"/>
                  <a:pt x="8907" y="8043"/>
                  <a:pt x="8954" y="8062"/>
                </a:cubicBezTo>
                <a:cubicBezTo>
                  <a:pt x="8982" y="8062"/>
                  <a:pt x="8993" y="8064"/>
                  <a:pt x="9004" y="8086"/>
                </a:cubicBezTo>
                <a:cubicBezTo>
                  <a:pt x="9029" y="8053"/>
                  <a:pt x="9044" y="8027"/>
                  <a:pt x="9054" y="7987"/>
                </a:cubicBezTo>
              </a:path>
              <a:path w="8658" h="2730">
                <a:moveTo>
                  <a:pt x="9029" y="7392"/>
                </a:moveTo>
                <a:cubicBezTo>
                  <a:pt x="8979" y="7498"/>
                  <a:pt x="8936" y="7613"/>
                  <a:pt x="8880" y="7714"/>
                </a:cubicBezTo>
                <a:cubicBezTo>
                  <a:pt x="8833" y="7799"/>
                  <a:pt x="8758" y="7859"/>
                  <a:pt x="8706" y="7938"/>
                </a:cubicBezTo>
                <a:cubicBezTo>
                  <a:pt x="8697" y="7952"/>
                  <a:pt x="8580" y="8079"/>
                  <a:pt x="8582" y="8086"/>
                </a:cubicBezTo>
                <a:cubicBezTo>
                  <a:pt x="8628" y="8086"/>
                  <a:pt x="8649" y="8068"/>
                  <a:pt x="8657" y="8012"/>
                </a:cubicBezTo>
              </a:path>
              <a:path w="8658" h="2730">
                <a:moveTo>
                  <a:pt x="9773" y="7218"/>
                </a:moveTo>
                <a:cubicBezTo>
                  <a:pt x="9767" y="7356"/>
                  <a:pt x="9748" y="7478"/>
                  <a:pt x="9748" y="7615"/>
                </a:cubicBezTo>
                <a:cubicBezTo>
                  <a:pt x="9748" y="7690"/>
                  <a:pt x="9760" y="7752"/>
                  <a:pt x="9773" y="7813"/>
                </a:cubicBezTo>
                <a:cubicBezTo>
                  <a:pt x="9773" y="7855"/>
                  <a:pt x="9773" y="7880"/>
                  <a:pt x="9773" y="7838"/>
                </a:cubicBezTo>
              </a:path>
              <a:path w="8658" h="2730">
                <a:moveTo>
                  <a:pt x="9475" y="7516"/>
                </a:moveTo>
                <a:cubicBezTo>
                  <a:pt x="9536" y="7561"/>
                  <a:pt x="9555" y="7528"/>
                  <a:pt x="9624" y="7516"/>
                </a:cubicBezTo>
                <a:cubicBezTo>
                  <a:pt x="9714" y="7501"/>
                  <a:pt x="9817" y="7507"/>
                  <a:pt x="9897" y="7491"/>
                </a:cubicBezTo>
                <a:cubicBezTo>
                  <a:pt x="9964" y="7478"/>
                  <a:pt x="9946" y="7504"/>
                  <a:pt x="9996" y="7466"/>
                </a:cubicBezTo>
              </a:path>
              <a:path w="8658" h="2730">
                <a:moveTo>
                  <a:pt x="10616" y="7367"/>
                </a:moveTo>
                <a:cubicBezTo>
                  <a:pt x="10616" y="7392"/>
                  <a:pt x="10616" y="7400"/>
                  <a:pt x="10616" y="7417"/>
                </a:cubicBezTo>
                <a:cubicBezTo>
                  <a:pt x="10616" y="7351"/>
                  <a:pt x="10608" y="7302"/>
                  <a:pt x="10592" y="7268"/>
                </a:cubicBezTo>
                <a:cubicBezTo>
                  <a:pt x="10579" y="7242"/>
                  <a:pt x="10576" y="7222"/>
                  <a:pt x="10542" y="7218"/>
                </a:cubicBezTo>
                <a:cubicBezTo>
                  <a:pt x="10481" y="7210"/>
                  <a:pt x="10445" y="7230"/>
                  <a:pt x="10418" y="7243"/>
                </a:cubicBezTo>
                <a:cubicBezTo>
                  <a:pt x="10390" y="7257"/>
                  <a:pt x="10356" y="7243"/>
                  <a:pt x="10344" y="7268"/>
                </a:cubicBezTo>
                <a:cubicBezTo>
                  <a:pt x="10338" y="7280"/>
                  <a:pt x="10292" y="7331"/>
                  <a:pt x="10269" y="7342"/>
                </a:cubicBezTo>
                <a:cubicBezTo>
                  <a:pt x="10240" y="7356"/>
                  <a:pt x="10242" y="7402"/>
                  <a:pt x="10220" y="7417"/>
                </a:cubicBezTo>
                <a:cubicBezTo>
                  <a:pt x="10195" y="7433"/>
                  <a:pt x="10175" y="7445"/>
                  <a:pt x="10170" y="7491"/>
                </a:cubicBezTo>
                <a:cubicBezTo>
                  <a:pt x="10165" y="7537"/>
                  <a:pt x="10132" y="7566"/>
                  <a:pt x="10120" y="7615"/>
                </a:cubicBezTo>
                <a:cubicBezTo>
                  <a:pt x="10104" y="7678"/>
                  <a:pt x="10128" y="7739"/>
                  <a:pt x="10145" y="7789"/>
                </a:cubicBezTo>
                <a:cubicBezTo>
                  <a:pt x="10157" y="7824"/>
                  <a:pt x="10160" y="7859"/>
                  <a:pt x="10195" y="7863"/>
                </a:cubicBezTo>
                <a:cubicBezTo>
                  <a:pt x="10245" y="7869"/>
                  <a:pt x="10258" y="7888"/>
                  <a:pt x="10319" y="7888"/>
                </a:cubicBezTo>
                <a:cubicBezTo>
                  <a:pt x="10364" y="7888"/>
                  <a:pt x="10396" y="7863"/>
                  <a:pt x="10443" y="7863"/>
                </a:cubicBezTo>
                <a:cubicBezTo>
                  <a:pt x="10484" y="7863"/>
                  <a:pt x="10594" y="7883"/>
                  <a:pt x="10616" y="7838"/>
                </a:cubicBezTo>
                <a:cubicBezTo>
                  <a:pt x="10616" y="7830"/>
                  <a:pt x="10616" y="7821"/>
                  <a:pt x="10616" y="7813"/>
                </a:cubicBezTo>
              </a:path>
              <a:path w="8658" h="2730">
                <a:moveTo>
                  <a:pt x="10864" y="6350"/>
                </a:moveTo>
                <a:cubicBezTo>
                  <a:pt x="10881" y="6367"/>
                  <a:pt x="10895" y="6410"/>
                  <a:pt x="10914" y="6424"/>
                </a:cubicBezTo>
                <a:cubicBezTo>
                  <a:pt x="10943" y="6446"/>
                  <a:pt x="10981" y="6467"/>
                  <a:pt x="11013" y="6499"/>
                </a:cubicBezTo>
                <a:cubicBezTo>
                  <a:pt x="11070" y="6556"/>
                  <a:pt x="11115" y="6610"/>
                  <a:pt x="11162" y="6672"/>
                </a:cubicBezTo>
                <a:cubicBezTo>
                  <a:pt x="11201" y="6724"/>
                  <a:pt x="11233" y="6809"/>
                  <a:pt x="11261" y="6871"/>
                </a:cubicBezTo>
                <a:cubicBezTo>
                  <a:pt x="11300" y="6957"/>
                  <a:pt x="11339" y="7031"/>
                  <a:pt x="11361" y="7119"/>
                </a:cubicBezTo>
                <a:cubicBezTo>
                  <a:pt x="11387" y="7220"/>
                  <a:pt x="11410" y="7287"/>
                  <a:pt x="11410" y="7392"/>
                </a:cubicBezTo>
                <a:cubicBezTo>
                  <a:pt x="11410" y="7483"/>
                  <a:pt x="11409" y="7580"/>
                  <a:pt x="11385" y="7665"/>
                </a:cubicBezTo>
                <a:cubicBezTo>
                  <a:pt x="11364" y="7739"/>
                  <a:pt x="11313" y="7786"/>
                  <a:pt x="11261" y="7838"/>
                </a:cubicBezTo>
                <a:cubicBezTo>
                  <a:pt x="11222" y="7878"/>
                  <a:pt x="11199" y="7922"/>
                  <a:pt x="11162" y="7962"/>
                </a:cubicBezTo>
                <a:cubicBezTo>
                  <a:pt x="11133" y="7994"/>
                  <a:pt x="11093" y="7991"/>
                  <a:pt x="11063" y="8012"/>
                </a:cubicBezTo>
                <a:cubicBezTo>
                  <a:pt x="11033" y="8033"/>
                  <a:pt x="11049" y="8032"/>
                  <a:pt x="11013" y="8037"/>
                </a:cubicBezTo>
                <a:cubicBezTo>
                  <a:pt x="11005" y="8037"/>
                  <a:pt x="10996" y="8037"/>
                  <a:pt x="10988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76240" y="3419640"/>
            <a:ext cx="573120" cy="733320"/>
          </a:xfrm>
          <a:custGeom>
            <a:avLst/>
            <a:gdLst/>
            <a:ahLst/>
            <a:rect l="l" t="t" r="r" b="b"/>
            <a:pathLst>
              <a:path w="1589" h="2035">
                <a:moveTo>
                  <a:pt x="5432" y="9823"/>
                </a:moveTo>
                <a:cubicBezTo>
                  <a:pt x="5432" y="9856"/>
                  <a:pt x="5432" y="9872"/>
                  <a:pt x="5432" y="9897"/>
                </a:cubicBezTo>
                <a:cubicBezTo>
                  <a:pt x="5401" y="9867"/>
                  <a:pt x="5437" y="9779"/>
                  <a:pt x="5407" y="9748"/>
                </a:cubicBezTo>
                <a:cubicBezTo>
                  <a:pt x="5395" y="9736"/>
                  <a:pt x="5372" y="9681"/>
                  <a:pt x="5358" y="9674"/>
                </a:cubicBezTo>
                <a:cubicBezTo>
                  <a:pt x="5323" y="9656"/>
                  <a:pt x="5229" y="9673"/>
                  <a:pt x="5209" y="9699"/>
                </a:cubicBezTo>
                <a:cubicBezTo>
                  <a:pt x="5161" y="9761"/>
                  <a:pt x="5133" y="9749"/>
                  <a:pt x="5085" y="9823"/>
                </a:cubicBezTo>
                <a:cubicBezTo>
                  <a:pt x="5047" y="9883"/>
                  <a:pt x="4997" y="9937"/>
                  <a:pt x="4961" y="9996"/>
                </a:cubicBezTo>
                <a:cubicBezTo>
                  <a:pt x="4924" y="10058"/>
                  <a:pt x="4936" y="10126"/>
                  <a:pt x="4936" y="10195"/>
                </a:cubicBezTo>
                <a:cubicBezTo>
                  <a:pt x="4936" y="10268"/>
                  <a:pt x="4951" y="10314"/>
                  <a:pt x="5011" y="10344"/>
                </a:cubicBezTo>
                <a:cubicBezTo>
                  <a:pt x="5087" y="10381"/>
                  <a:pt x="5098" y="10418"/>
                  <a:pt x="5184" y="10418"/>
                </a:cubicBezTo>
                <a:cubicBezTo>
                  <a:pt x="5291" y="10418"/>
                  <a:pt x="5288" y="10408"/>
                  <a:pt x="5358" y="10368"/>
                </a:cubicBezTo>
                <a:cubicBezTo>
                  <a:pt x="5383" y="10360"/>
                  <a:pt x="5407" y="10352"/>
                  <a:pt x="5432" y="10344"/>
                </a:cubicBezTo>
              </a:path>
              <a:path w="1589" h="2035">
                <a:moveTo>
                  <a:pt x="6201" y="9500"/>
                </a:moveTo>
                <a:cubicBezTo>
                  <a:pt x="6160" y="9582"/>
                  <a:pt x="6121" y="9669"/>
                  <a:pt x="6077" y="9748"/>
                </a:cubicBezTo>
                <a:cubicBezTo>
                  <a:pt x="6017" y="9857"/>
                  <a:pt x="5971" y="9955"/>
                  <a:pt x="5928" y="10071"/>
                </a:cubicBezTo>
                <a:cubicBezTo>
                  <a:pt x="5871" y="10224"/>
                  <a:pt x="5793" y="10366"/>
                  <a:pt x="5730" y="10517"/>
                </a:cubicBezTo>
                <a:cubicBezTo>
                  <a:pt x="5669" y="10663"/>
                  <a:pt x="5577" y="10813"/>
                  <a:pt x="5531" y="10964"/>
                </a:cubicBezTo>
                <a:cubicBezTo>
                  <a:pt x="5481" y="11128"/>
                  <a:pt x="5417" y="11232"/>
                  <a:pt x="5333" y="11385"/>
                </a:cubicBezTo>
                <a:cubicBezTo>
                  <a:pt x="5306" y="11435"/>
                  <a:pt x="5203" y="11544"/>
                  <a:pt x="5259" y="11534"/>
                </a:cubicBezTo>
                <a:cubicBezTo>
                  <a:pt x="5288" y="11504"/>
                  <a:pt x="5302" y="11493"/>
                  <a:pt x="5333" y="11485"/>
                </a:cubicBezTo>
              </a:path>
              <a:path w="1589" h="2035">
                <a:moveTo>
                  <a:pt x="6127" y="10592"/>
                </a:moveTo>
                <a:cubicBezTo>
                  <a:pt x="6161" y="10680"/>
                  <a:pt x="6142" y="10683"/>
                  <a:pt x="6127" y="10765"/>
                </a:cubicBezTo>
                <a:cubicBezTo>
                  <a:pt x="6113" y="10846"/>
                  <a:pt x="6120" y="10933"/>
                  <a:pt x="6102" y="11013"/>
                </a:cubicBezTo>
                <a:cubicBezTo>
                  <a:pt x="6084" y="11095"/>
                  <a:pt x="6065" y="11181"/>
                  <a:pt x="6052" y="11261"/>
                </a:cubicBezTo>
                <a:cubicBezTo>
                  <a:pt x="6039" y="11343"/>
                  <a:pt x="6060" y="11406"/>
                  <a:pt x="6028" y="11485"/>
                </a:cubicBezTo>
                <a:cubicBezTo>
                  <a:pt x="6036" y="11453"/>
                  <a:pt x="6038" y="11389"/>
                  <a:pt x="6052" y="11361"/>
                </a:cubicBezTo>
                <a:cubicBezTo>
                  <a:pt x="6075" y="11315"/>
                  <a:pt x="6082" y="11263"/>
                  <a:pt x="6102" y="11212"/>
                </a:cubicBezTo>
                <a:cubicBezTo>
                  <a:pt x="6111" y="11191"/>
                  <a:pt x="6166" y="11072"/>
                  <a:pt x="6176" y="11063"/>
                </a:cubicBezTo>
                <a:cubicBezTo>
                  <a:pt x="6188" y="11052"/>
                  <a:pt x="6282" y="10980"/>
                  <a:pt x="6300" y="10988"/>
                </a:cubicBezTo>
                <a:cubicBezTo>
                  <a:pt x="6328" y="11001"/>
                  <a:pt x="6404" y="11039"/>
                  <a:pt x="6424" y="11063"/>
                </a:cubicBezTo>
                <a:cubicBezTo>
                  <a:pt x="6448" y="11091"/>
                  <a:pt x="6515" y="11180"/>
                  <a:pt x="6524" y="11212"/>
                </a:cubicBezTo>
                <a:cubicBezTo>
                  <a:pt x="6539" y="11266"/>
                  <a:pt x="6531" y="11370"/>
                  <a:pt x="6499" y="11410"/>
                </a:cubicBezTo>
                <a:cubicBezTo>
                  <a:pt x="6467" y="11450"/>
                  <a:pt x="6397" y="11471"/>
                  <a:pt x="6350" y="11485"/>
                </a:cubicBezTo>
                <a:cubicBezTo>
                  <a:pt x="6270" y="11508"/>
                  <a:pt x="6207" y="11509"/>
                  <a:pt x="6127" y="11509"/>
                </a:cubicBezTo>
                <a:cubicBezTo>
                  <a:pt x="6091" y="11509"/>
                  <a:pt x="6055" y="11488"/>
                  <a:pt x="6052" y="11460"/>
                </a:cubicBezTo>
                <a:cubicBezTo>
                  <a:pt x="6052" y="11452"/>
                  <a:pt x="6052" y="11443"/>
                  <a:pt x="6052" y="114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84320" y="3562200"/>
            <a:ext cx="2116440" cy="617760"/>
          </a:xfrm>
          <a:custGeom>
            <a:avLst/>
            <a:gdLst/>
            <a:ahLst/>
            <a:rect l="l" t="t" r="r" b="b"/>
            <a:pathLst>
              <a:path w="5880" h="1713">
                <a:moveTo>
                  <a:pt x="8260" y="10641"/>
                </a:moveTo>
                <a:cubicBezTo>
                  <a:pt x="8260" y="10923"/>
                  <a:pt x="8245" y="11210"/>
                  <a:pt x="8285" y="11485"/>
                </a:cubicBezTo>
                <a:cubicBezTo>
                  <a:pt x="8293" y="11540"/>
                  <a:pt x="8298" y="11561"/>
                  <a:pt x="8310" y="11609"/>
                </a:cubicBezTo>
                <a:cubicBezTo>
                  <a:pt x="8298" y="11560"/>
                  <a:pt x="8283" y="11512"/>
                  <a:pt x="8260" y="11460"/>
                </a:cubicBezTo>
                <a:cubicBezTo>
                  <a:pt x="8252" y="11443"/>
                  <a:pt x="8243" y="11427"/>
                  <a:pt x="8235" y="11410"/>
                </a:cubicBezTo>
              </a:path>
              <a:path w="5880" h="1713">
                <a:moveTo>
                  <a:pt x="8012" y="10492"/>
                </a:moveTo>
                <a:cubicBezTo>
                  <a:pt x="8032" y="10391"/>
                  <a:pt x="8015" y="10281"/>
                  <a:pt x="8136" y="10269"/>
                </a:cubicBezTo>
                <a:cubicBezTo>
                  <a:pt x="8226" y="10260"/>
                  <a:pt x="8334" y="10301"/>
                  <a:pt x="8409" y="10344"/>
                </a:cubicBezTo>
                <a:cubicBezTo>
                  <a:pt x="8487" y="10389"/>
                  <a:pt x="8598" y="10505"/>
                  <a:pt x="8632" y="10592"/>
                </a:cubicBezTo>
                <a:cubicBezTo>
                  <a:pt x="8664" y="10675"/>
                  <a:pt x="8670" y="10745"/>
                  <a:pt x="8632" y="10815"/>
                </a:cubicBezTo>
                <a:cubicBezTo>
                  <a:pt x="8593" y="10888"/>
                  <a:pt x="8556" y="10902"/>
                  <a:pt x="8483" y="10939"/>
                </a:cubicBezTo>
                <a:cubicBezTo>
                  <a:pt x="8438" y="10962"/>
                  <a:pt x="8379" y="10983"/>
                  <a:pt x="8334" y="10988"/>
                </a:cubicBezTo>
                <a:cubicBezTo>
                  <a:pt x="8296" y="10992"/>
                  <a:pt x="8310" y="10968"/>
                  <a:pt x="8310" y="10939"/>
                </a:cubicBezTo>
              </a:path>
              <a:path w="5880" h="1713">
                <a:moveTo>
                  <a:pt x="8880" y="9897"/>
                </a:moveTo>
                <a:cubicBezTo>
                  <a:pt x="8919" y="9949"/>
                  <a:pt x="8945" y="10025"/>
                  <a:pt x="8954" y="10120"/>
                </a:cubicBezTo>
                <a:cubicBezTo>
                  <a:pt x="8976" y="10336"/>
                  <a:pt x="8963" y="10583"/>
                  <a:pt x="8930" y="10790"/>
                </a:cubicBezTo>
                <a:cubicBezTo>
                  <a:pt x="8924" y="10828"/>
                  <a:pt x="8930" y="10875"/>
                  <a:pt x="8930" y="10914"/>
                </a:cubicBezTo>
                <a:cubicBezTo>
                  <a:pt x="8943" y="10893"/>
                  <a:pt x="8962" y="10862"/>
                  <a:pt x="8979" y="10815"/>
                </a:cubicBezTo>
                <a:cubicBezTo>
                  <a:pt x="8996" y="10765"/>
                  <a:pt x="9019" y="10695"/>
                  <a:pt x="9029" y="10641"/>
                </a:cubicBezTo>
                <a:cubicBezTo>
                  <a:pt x="9041" y="10575"/>
                  <a:pt x="9067" y="10551"/>
                  <a:pt x="9103" y="10492"/>
                </a:cubicBezTo>
                <a:cubicBezTo>
                  <a:pt x="9147" y="10419"/>
                  <a:pt x="9144" y="10422"/>
                  <a:pt x="9227" y="10418"/>
                </a:cubicBezTo>
                <a:cubicBezTo>
                  <a:pt x="9327" y="10413"/>
                  <a:pt x="9378" y="10466"/>
                  <a:pt x="9401" y="10567"/>
                </a:cubicBezTo>
                <a:cubicBezTo>
                  <a:pt x="9417" y="10640"/>
                  <a:pt x="9426" y="10714"/>
                  <a:pt x="9426" y="10790"/>
                </a:cubicBezTo>
                <a:cubicBezTo>
                  <a:pt x="9426" y="10852"/>
                  <a:pt x="9404" y="10900"/>
                  <a:pt x="9401" y="10964"/>
                </a:cubicBezTo>
                <a:cubicBezTo>
                  <a:pt x="9400" y="10988"/>
                  <a:pt x="9401" y="11013"/>
                  <a:pt x="9401" y="11038"/>
                </a:cubicBezTo>
              </a:path>
              <a:path w="5880" h="1713">
                <a:moveTo>
                  <a:pt x="9847" y="10641"/>
                </a:moveTo>
                <a:cubicBezTo>
                  <a:pt x="9882" y="10564"/>
                  <a:pt x="9898" y="10567"/>
                  <a:pt x="9872" y="10567"/>
                </a:cubicBezTo>
                <a:cubicBezTo>
                  <a:pt x="9812" y="10567"/>
                  <a:pt x="9790" y="10590"/>
                  <a:pt x="9748" y="10641"/>
                </a:cubicBezTo>
                <a:cubicBezTo>
                  <a:pt x="9702" y="10697"/>
                  <a:pt x="9629" y="10785"/>
                  <a:pt x="9624" y="10864"/>
                </a:cubicBezTo>
                <a:cubicBezTo>
                  <a:pt x="9619" y="10941"/>
                  <a:pt x="9624" y="10932"/>
                  <a:pt x="9674" y="10964"/>
                </a:cubicBezTo>
                <a:cubicBezTo>
                  <a:pt x="9741" y="11007"/>
                  <a:pt x="9711" y="10966"/>
                  <a:pt x="9773" y="10939"/>
                </a:cubicBezTo>
                <a:cubicBezTo>
                  <a:pt x="9817" y="10920"/>
                  <a:pt x="9828" y="10883"/>
                  <a:pt x="9847" y="10840"/>
                </a:cubicBezTo>
                <a:cubicBezTo>
                  <a:pt x="9871" y="10783"/>
                  <a:pt x="9878" y="10744"/>
                  <a:pt x="9897" y="10691"/>
                </a:cubicBezTo>
                <a:cubicBezTo>
                  <a:pt x="9905" y="10674"/>
                  <a:pt x="9914" y="10658"/>
                  <a:pt x="9922" y="10641"/>
                </a:cubicBezTo>
                <a:cubicBezTo>
                  <a:pt x="9929" y="10704"/>
                  <a:pt x="9934" y="10785"/>
                  <a:pt x="9971" y="10840"/>
                </a:cubicBezTo>
                <a:cubicBezTo>
                  <a:pt x="10003" y="10887"/>
                  <a:pt x="10000" y="10919"/>
                  <a:pt x="10046" y="10964"/>
                </a:cubicBezTo>
                <a:cubicBezTo>
                  <a:pt x="10079" y="10996"/>
                  <a:pt x="10101" y="10988"/>
                  <a:pt x="10145" y="10988"/>
                </a:cubicBezTo>
              </a:path>
              <a:path w="5880" h="1713">
                <a:moveTo>
                  <a:pt x="10344" y="10418"/>
                </a:moveTo>
                <a:cubicBezTo>
                  <a:pt x="10279" y="10418"/>
                  <a:pt x="10275" y="10425"/>
                  <a:pt x="10269" y="10492"/>
                </a:cubicBezTo>
                <a:cubicBezTo>
                  <a:pt x="10263" y="10559"/>
                  <a:pt x="10277" y="10654"/>
                  <a:pt x="10294" y="10716"/>
                </a:cubicBezTo>
                <a:cubicBezTo>
                  <a:pt x="10308" y="10768"/>
                  <a:pt x="10374" y="10829"/>
                  <a:pt x="10344" y="10889"/>
                </a:cubicBezTo>
                <a:cubicBezTo>
                  <a:pt x="10333" y="10910"/>
                  <a:pt x="10305" y="10980"/>
                  <a:pt x="10269" y="10964"/>
                </a:cubicBezTo>
                <a:cubicBezTo>
                  <a:pt x="10225" y="10944"/>
                  <a:pt x="10220" y="10904"/>
                  <a:pt x="10220" y="10864"/>
                </a:cubicBezTo>
              </a:path>
              <a:path w="5880" h="1713">
                <a:moveTo>
                  <a:pt x="10393" y="10790"/>
                </a:moveTo>
                <a:cubicBezTo>
                  <a:pt x="10452" y="10769"/>
                  <a:pt x="10553" y="10746"/>
                  <a:pt x="10592" y="10691"/>
                </a:cubicBezTo>
                <a:cubicBezTo>
                  <a:pt x="10628" y="10640"/>
                  <a:pt x="10692" y="10615"/>
                  <a:pt x="10716" y="10567"/>
                </a:cubicBezTo>
                <a:cubicBezTo>
                  <a:pt x="10743" y="10513"/>
                  <a:pt x="10740" y="10474"/>
                  <a:pt x="10740" y="10418"/>
                </a:cubicBezTo>
                <a:cubicBezTo>
                  <a:pt x="10632" y="10418"/>
                  <a:pt x="10646" y="10508"/>
                  <a:pt x="10592" y="10567"/>
                </a:cubicBezTo>
                <a:cubicBezTo>
                  <a:pt x="10565" y="10596"/>
                  <a:pt x="10482" y="10674"/>
                  <a:pt x="10492" y="10740"/>
                </a:cubicBezTo>
                <a:cubicBezTo>
                  <a:pt x="10496" y="10765"/>
                  <a:pt x="10542" y="10824"/>
                  <a:pt x="10567" y="10840"/>
                </a:cubicBezTo>
                <a:cubicBezTo>
                  <a:pt x="10623" y="10876"/>
                  <a:pt x="10676" y="10899"/>
                  <a:pt x="10740" y="10914"/>
                </a:cubicBezTo>
                <a:cubicBezTo>
                  <a:pt x="10790" y="10926"/>
                  <a:pt x="10822" y="10914"/>
                  <a:pt x="10840" y="10889"/>
                </a:cubicBezTo>
                <a:cubicBezTo>
                  <a:pt x="10848" y="10881"/>
                  <a:pt x="10856" y="10872"/>
                  <a:pt x="10864" y="10864"/>
                </a:cubicBezTo>
              </a:path>
              <a:path w="5880" h="1713">
                <a:moveTo>
                  <a:pt x="11485" y="10269"/>
                </a:moveTo>
                <a:cubicBezTo>
                  <a:pt x="11443" y="10269"/>
                  <a:pt x="11317" y="10267"/>
                  <a:pt x="11286" y="10294"/>
                </a:cubicBezTo>
                <a:cubicBezTo>
                  <a:pt x="11262" y="10342"/>
                  <a:pt x="11256" y="10359"/>
                  <a:pt x="11212" y="10344"/>
                </a:cubicBezTo>
                <a:cubicBezTo>
                  <a:pt x="11212" y="10427"/>
                  <a:pt x="11241" y="10426"/>
                  <a:pt x="11286" y="10492"/>
                </a:cubicBezTo>
                <a:cubicBezTo>
                  <a:pt x="11334" y="10562"/>
                  <a:pt x="11415" y="10603"/>
                  <a:pt x="11435" y="10691"/>
                </a:cubicBezTo>
                <a:cubicBezTo>
                  <a:pt x="11441" y="10717"/>
                  <a:pt x="11447" y="10804"/>
                  <a:pt x="11410" y="10815"/>
                </a:cubicBezTo>
                <a:cubicBezTo>
                  <a:pt x="11352" y="10833"/>
                  <a:pt x="11303" y="10840"/>
                  <a:pt x="11237" y="10840"/>
                </a:cubicBezTo>
                <a:cubicBezTo>
                  <a:pt x="11199" y="10840"/>
                  <a:pt x="11188" y="10816"/>
                  <a:pt x="11162" y="10790"/>
                </a:cubicBezTo>
              </a:path>
              <a:path w="5880" h="1713">
                <a:moveTo>
                  <a:pt x="11633" y="9922"/>
                </a:moveTo>
                <a:cubicBezTo>
                  <a:pt x="11670" y="9946"/>
                  <a:pt x="11665" y="10009"/>
                  <a:pt x="11658" y="10071"/>
                </a:cubicBezTo>
                <a:cubicBezTo>
                  <a:pt x="11639" y="10242"/>
                  <a:pt x="11633" y="10396"/>
                  <a:pt x="11633" y="10567"/>
                </a:cubicBezTo>
                <a:cubicBezTo>
                  <a:pt x="11633" y="10667"/>
                  <a:pt x="11636" y="10747"/>
                  <a:pt x="11658" y="10840"/>
                </a:cubicBezTo>
                <a:cubicBezTo>
                  <a:pt x="11658" y="10848"/>
                  <a:pt x="11658" y="10856"/>
                  <a:pt x="11658" y="10864"/>
                </a:cubicBezTo>
                <a:cubicBezTo>
                  <a:pt x="11683" y="10806"/>
                  <a:pt x="11689" y="10748"/>
                  <a:pt x="11708" y="10691"/>
                </a:cubicBezTo>
                <a:cubicBezTo>
                  <a:pt x="11733" y="10615"/>
                  <a:pt x="11741" y="10560"/>
                  <a:pt x="11782" y="10492"/>
                </a:cubicBezTo>
                <a:cubicBezTo>
                  <a:pt x="11824" y="10422"/>
                  <a:pt x="11823" y="10418"/>
                  <a:pt x="11906" y="10418"/>
                </a:cubicBezTo>
                <a:cubicBezTo>
                  <a:pt x="11988" y="10418"/>
                  <a:pt x="12020" y="10408"/>
                  <a:pt x="12055" y="10492"/>
                </a:cubicBezTo>
                <a:cubicBezTo>
                  <a:pt x="12084" y="10563"/>
                  <a:pt x="12080" y="10616"/>
                  <a:pt x="12080" y="10691"/>
                </a:cubicBezTo>
                <a:cubicBezTo>
                  <a:pt x="12080" y="10746"/>
                  <a:pt x="12062" y="10801"/>
                  <a:pt x="12105" y="10815"/>
                </a:cubicBezTo>
              </a:path>
              <a:path w="5880" h="1713">
                <a:moveTo>
                  <a:pt x="12353" y="10567"/>
                </a:moveTo>
                <a:cubicBezTo>
                  <a:pt x="12353" y="10630"/>
                  <a:pt x="12322" y="10746"/>
                  <a:pt x="12378" y="10765"/>
                </a:cubicBezTo>
              </a:path>
              <a:path w="5880" h="1713">
                <a:moveTo>
                  <a:pt x="12378" y="10145"/>
                </a:moveTo>
                <a:cubicBezTo>
                  <a:pt x="12386" y="10137"/>
                  <a:pt x="12394" y="10128"/>
                  <a:pt x="12402" y="10120"/>
                </a:cubicBezTo>
              </a:path>
              <a:path w="5880" h="1713">
                <a:moveTo>
                  <a:pt x="12774" y="9897"/>
                </a:moveTo>
                <a:cubicBezTo>
                  <a:pt x="12716" y="9897"/>
                  <a:pt x="12682" y="9952"/>
                  <a:pt x="12650" y="9996"/>
                </a:cubicBezTo>
                <a:cubicBezTo>
                  <a:pt x="12591" y="10076"/>
                  <a:pt x="12593" y="10180"/>
                  <a:pt x="12576" y="10269"/>
                </a:cubicBezTo>
                <a:cubicBezTo>
                  <a:pt x="12555" y="10381"/>
                  <a:pt x="12551" y="10478"/>
                  <a:pt x="12551" y="10592"/>
                </a:cubicBezTo>
                <a:cubicBezTo>
                  <a:pt x="12551" y="10661"/>
                  <a:pt x="12576" y="10720"/>
                  <a:pt x="12576" y="10790"/>
                </a:cubicBezTo>
                <a:cubicBezTo>
                  <a:pt x="12576" y="10798"/>
                  <a:pt x="12576" y="10807"/>
                  <a:pt x="12576" y="10815"/>
                </a:cubicBezTo>
                <a:cubicBezTo>
                  <a:pt x="12626" y="10803"/>
                  <a:pt x="12626" y="10791"/>
                  <a:pt x="12626" y="10740"/>
                </a:cubicBezTo>
              </a:path>
              <a:path w="5880" h="1713">
                <a:moveTo>
                  <a:pt x="12477" y="10344"/>
                </a:moveTo>
                <a:cubicBezTo>
                  <a:pt x="12642" y="10344"/>
                  <a:pt x="12808" y="10344"/>
                  <a:pt x="12973" y="10344"/>
                </a:cubicBezTo>
              </a:path>
              <a:path w="5880" h="1713">
                <a:moveTo>
                  <a:pt x="13370" y="9996"/>
                </a:moveTo>
                <a:cubicBezTo>
                  <a:pt x="13431" y="10027"/>
                  <a:pt x="13419" y="10072"/>
                  <a:pt x="13419" y="10145"/>
                </a:cubicBezTo>
                <a:cubicBezTo>
                  <a:pt x="13419" y="10253"/>
                  <a:pt x="13423" y="10334"/>
                  <a:pt x="13419" y="10443"/>
                </a:cubicBezTo>
                <a:cubicBezTo>
                  <a:pt x="13417" y="10509"/>
                  <a:pt x="13419" y="10575"/>
                  <a:pt x="13419" y="10641"/>
                </a:cubicBezTo>
              </a:path>
              <a:path w="5880" h="1713">
                <a:moveTo>
                  <a:pt x="13469" y="10418"/>
                </a:moveTo>
                <a:cubicBezTo>
                  <a:pt x="13586" y="10464"/>
                  <a:pt x="13732" y="10509"/>
                  <a:pt x="13816" y="10567"/>
                </a:cubicBezTo>
                <a:cubicBezTo>
                  <a:pt x="13841" y="10592"/>
                  <a:pt x="13866" y="10616"/>
                  <a:pt x="13891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State the amplitude, period, and graph the function: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-4 cos 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πx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14040" y="2971800"/>
            <a:ext cx="5257800" cy="1343160"/>
            <a:chOff x="914040" y="2971800"/>
            <a:chExt cx="5257800" cy="1343160"/>
          </a:xfrm>
        </p:grpSpPr>
        <p:sp>
          <p:nvSpPr>
            <p:cNvPr id="46" name=""/>
            <p:cNvSpPr/>
            <p:nvPr/>
          </p:nvSpPr>
          <p:spPr>
            <a:xfrm>
              <a:off x="2514600" y="2971800"/>
              <a:ext cx="0" cy="134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914040" y="35474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321000" y="1204920"/>
            <a:ext cx="484200" cy="911160"/>
          </a:xfrm>
          <a:custGeom>
            <a:avLst/>
            <a:gdLst/>
            <a:ahLst/>
            <a:rect l="l" t="t" r="r" b="b"/>
            <a:pathLst>
              <a:path w="1341" h="2531">
                <a:moveTo>
                  <a:pt x="9798" y="3497"/>
                </a:moveTo>
                <a:cubicBezTo>
                  <a:pt x="9779" y="3574"/>
                  <a:pt x="9773" y="3617"/>
                  <a:pt x="9773" y="3696"/>
                </a:cubicBezTo>
                <a:cubicBezTo>
                  <a:pt x="9773" y="3775"/>
                  <a:pt x="9752" y="3842"/>
                  <a:pt x="9748" y="3919"/>
                </a:cubicBezTo>
                <a:cubicBezTo>
                  <a:pt x="9744" y="3986"/>
                  <a:pt x="9724" y="4057"/>
                  <a:pt x="9699" y="4118"/>
                </a:cubicBezTo>
                <a:cubicBezTo>
                  <a:pt x="9684" y="4156"/>
                  <a:pt x="9668" y="4212"/>
                  <a:pt x="9649" y="4242"/>
                </a:cubicBezTo>
                <a:cubicBezTo>
                  <a:pt x="9641" y="4250"/>
                  <a:pt x="9632" y="4258"/>
                  <a:pt x="9624" y="4266"/>
                </a:cubicBezTo>
                <a:cubicBezTo>
                  <a:pt x="9672" y="4266"/>
                  <a:pt x="9713" y="4286"/>
                  <a:pt x="9748" y="4291"/>
                </a:cubicBezTo>
                <a:cubicBezTo>
                  <a:pt x="9872" y="4310"/>
                  <a:pt x="10002" y="4282"/>
                  <a:pt x="10120" y="4266"/>
                </a:cubicBezTo>
                <a:cubicBezTo>
                  <a:pt x="10204" y="4255"/>
                  <a:pt x="10288" y="4230"/>
                  <a:pt x="10368" y="4217"/>
                </a:cubicBezTo>
                <a:cubicBezTo>
                  <a:pt x="10418" y="4209"/>
                  <a:pt x="10509" y="4209"/>
                  <a:pt x="10542" y="4167"/>
                </a:cubicBezTo>
                <a:cubicBezTo>
                  <a:pt x="10550" y="4151"/>
                  <a:pt x="10559" y="4134"/>
                  <a:pt x="10567" y="4118"/>
                </a:cubicBezTo>
              </a:path>
              <a:path w="1341" h="2531">
                <a:moveTo>
                  <a:pt x="10368" y="3349"/>
                </a:moveTo>
                <a:cubicBezTo>
                  <a:pt x="10368" y="3558"/>
                  <a:pt x="10359" y="3763"/>
                  <a:pt x="10344" y="3969"/>
                </a:cubicBezTo>
                <a:cubicBezTo>
                  <a:pt x="10325" y="4239"/>
                  <a:pt x="10394" y="4526"/>
                  <a:pt x="10319" y="4787"/>
                </a:cubicBezTo>
                <a:cubicBezTo>
                  <a:pt x="10297" y="4863"/>
                  <a:pt x="10257" y="4935"/>
                  <a:pt x="10244" y="5011"/>
                </a:cubicBezTo>
                <a:cubicBezTo>
                  <a:pt x="10239" y="5044"/>
                  <a:pt x="10275" y="5048"/>
                  <a:pt x="10244" y="5060"/>
                </a:cubicBezTo>
                <a:cubicBezTo>
                  <a:pt x="10236" y="5060"/>
                  <a:pt x="10228" y="5060"/>
                  <a:pt x="10220" y="5060"/>
                </a:cubicBezTo>
              </a:path>
              <a:path w="1341" h="2531">
                <a:moveTo>
                  <a:pt x="9351" y="5779"/>
                </a:moveTo>
                <a:cubicBezTo>
                  <a:pt x="9321" y="5920"/>
                  <a:pt x="9329" y="5809"/>
                  <a:pt x="9351" y="5879"/>
                </a:cubicBezTo>
                <a:cubicBezTo>
                  <a:pt x="9373" y="5863"/>
                  <a:pt x="9421" y="5839"/>
                  <a:pt x="9426" y="5829"/>
                </a:cubicBezTo>
                <a:cubicBezTo>
                  <a:pt x="9446" y="5788"/>
                  <a:pt x="9423" y="5709"/>
                  <a:pt x="9401" y="5680"/>
                </a:cubicBezTo>
                <a:cubicBezTo>
                  <a:pt x="9383" y="5684"/>
                  <a:pt x="9309" y="5719"/>
                  <a:pt x="9302" y="5730"/>
                </a:cubicBezTo>
                <a:cubicBezTo>
                  <a:pt x="9302" y="5758"/>
                  <a:pt x="9300" y="5769"/>
                  <a:pt x="9277" y="5779"/>
                </a:cubicBezTo>
                <a:cubicBezTo>
                  <a:pt x="9321" y="5814"/>
                  <a:pt x="9345" y="5829"/>
                  <a:pt x="9401" y="5829"/>
                </a:cubicBezTo>
                <a:cubicBezTo>
                  <a:pt x="9420" y="5829"/>
                  <a:pt x="9464" y="5784"/>
                  <a:pt x="9451" y="5755"/>
                </a:cubicBezTo>
                <a:cubicBezTo>
                  <a:pt x="9431" y="5710"/>
                  <a:pt x="9423" y="5705"/>
                  <a:pt x="9376" y="5705"/>
                </a:cubicBezTo>
                <a:cubicBezTo>
                  <a:pt x="9332" y="5705"/>
                  <a:pt x="9283" y="5728"/>
                  <a:pt x="9252" y="5755"/>
                </a:cubicBezTo>
                <a:cubicBezTo>
                  <a:pt x="9229" y="5777"/>
                  <a:pt x="9221" y="5782"/>
                  <a:pt x="9227" y="58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86760" y="1224000"/>
            <a:ext cx="54000" cy="561960"/>
          </a:xfrm>
          <a:custGeom>
            <a:avLst/>
            <a:gdLst/>
            <a:ahLst/>
            <a:rect l="l" t="t" r="r" b="b"/>
            <a:pathLst>
              <a:path w="149" h="1564">
                <a:moveTo>
                  <a:pt x="20389" y="3398"/>
                </a:moveTo>
                <a:cubicBezTo>
                  <a:pt x="20389" y="3488"/>
                  <a:pt x="20380" y="3568"/>
                  <a:pt x="20365" y="3646"/>
                </a:cubicBezTo>
                <a:cubicBezTo>
                  <a:pt x="20345" y="3751"/>
                  <a:pt x="20351" y="3888"/>
                  <a:pt x="20340" y="3994"/>
                </a:cubicBezTo>
                <a:cubicBezTo>
                  <a:pt x="20329" y="4099"/>
                  <a:pt x="20331" y="4212"/>
                  <a:pt x="20315" y="4316"/>
                </a:cubicBezTo>
                <a:cubicBezTo>
                  <a:pt x="20298" y="4423"/>
                  <a:pt x="20277" y="4532"/>
                  <a:pt x="20265" y="4638"/>
                </a:cubicBezTo>
                <a:cubicBezTo>
                  <a:pt x="20255" y="4730"/>
                  <a:pt x="20253" y="4820"/>
                  <a:pt x="20241" y="4911"/>
                </a:cubicBezTo>
                <a:cubicBezTo>
                  <a:pt x="20237" y="4943"/>
                  <a:pt x="20213" y="4978"/>
                  <a:pt x="20241" y="4961"/>
                </a:cubicBezTo>
                <a:cubicBezTo>
                  <a:pt x="20265" y="4961"/>
                  <a:pt x="20273" y="4961"/>
                  <a:pt x="20265" y="49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13160" y="3402000"/>
            <a:ext cx="27000" cy="223920"/>
          </a:xfrm>
          <a:custGeom>
            <a:avLst/>
            <a:gdLst/>
            <a:ahLst/>
            <a:rect l="l" t="t" r="r" b="b"/>
            <a:pathLst>
              <a:path w="75" h="621">
                <a:moveTo>
                  <a:pt x="11981" y="9451"/>
                </a:moveTo>
                <a:cubicBezTo>
                  <a:pt x="11981" y="9544"/>
                  <a:pt x="11997" y="9692"/>
                  <a:pt x="12005" y="9748"/>
                </a:cubicBezTo>
                <a:cubicBezTo>
                  <a:pt x="12017" y="9830"/>
                  <a:pt x="12010" y="9893"/>
                  <a:pt x="12030" y="9971"/>
                </a:cubicBezTo>
                <a:cubicBezTo>
                  <a:pt x="12041" y="10015"/>
                  <a:pt x="12031" y="10031"/>
                  <a:pt x="12055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30800" y="3875040"/>
            <a:ext cx="19080" cy="206280"/>
          </a:xfrm>
          <a:custGeom>
            <a:avLst/>
            <a:gdLst/>
            <a:ahLst/>
            <a:rect l="l" t="t" r="r" b="b"/>
            <a:pathLst>
              <a:path w="51" h="572">
                <a:moveTo>
                  <a:pt x="12080" y="10765"/>
                </a:moveTo>
                <a:cubicBezTo>
                  <a:pt x="12061" y="10828"/>
                  <a:pt x="12040" y="10902"/>
                  <a:pt x="12030" y="10964"/>
                </a:cubicBezTo>
                <a:cubicBezTo>
                  <a:pt x="12010" y="11080"/>
                  <a:pt x="12030" y="11218"/>
                  <a:pt x="12030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59160" y="5160960"/>
            <a:ext cx="90720" cy="6336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1832" y="14412"/>
                </a:moveTo>
                <a:cubicBezTo>
                  <a:pt x="11832" y="14463"/>
                  <a:pt x="11856" y="14491"/>
                  <a:pt x="11906" y="14511"/>
                </a:cubicBezTo>
                <a:cubicBezTo>
                  <a:pt x="11931" y="14511"/>
                  <a:pt x="11939" y="14511"/>
                  <a:pt x="11956" y="14511"/>
                </a:cubicBezTo>
                <a:cubicBezTo>
                  <a:pt x="11981" y="14478"/>
                  <a:pt x="12001" y="14466"/>
                  <a:pt x="12005" y="14436"/>
                </a:cubicBezTo>
                <a:cubicBezTo>
                  <a:pt x="12015" y="14353"/>
                  <a:pt x="12001" y="14387"/>
                  <a:pt x="11956" y="14362"/>
                </a:cubicBezTo>
                <a:cubicBezTo>
                  <a:pt x="11924" y="14344"/>
                  <a:pt x="11858" y="14322"/>
                  <a:pt x="11832" y="14362"/>
                </a:cubicBezTo>
                <a:cubicBezTo>
                  <a:pt x="11813" y="14390"/>
                  <a:pt x="11834" y="14470"/>
                  <a:pt x="11857" y="14486"/>
                </a:cubicBezTo>
                <a:cubicBezTo>
                  <a:pt x="11903" y="14519"/>
                  <a:pt x="11955" y="14520"/>
                  <a:pt x="11981" y="14461"/>
                </a:cubicBezTo>
                <a:cubicBezTo>
                  <a:pt x="11996" y="14427"/>
                  <a:pt x="12021" y="14399"/>
                  <a:pt x="12030" y="14362"/>
                </a:cubicBezTo>
                <a:cubicBezTo>
                  <a:pt x="11971" y="14362"/>
                  <a:pt x="11952" y="14372"/>
                  <a:pt x="11906" y="14387"/>
                </a:cubicBezTo>
                <a:cubicBezTo>
                  <a:pt x="11898" y="14387"/>
                  <a:pt x="11889" y="14387"/>
                  <a:pt x="11881" y="14387"/>
                </a:cubicBezTo>
                <a:cubicBezTo>
                  <a:pt x="11890" y="14424"/>
                  <a:pt x="11918" y="14448"/>
                  <a:pt x="11956" y="14461"/>
                </a:cubicBezTo>
                <a:cubicBezTo>
                  <a:pt x="11982" y="14470"/>
                  <a:pt x="12036" y="14428"/>
                  <a:pt x="12055" y="14412"/>
                </a:cubicBezTo>
                <a:cubicBezTo>
                  <a:pt x="12096" y="14376"/>
                  <a:pt x="12084" y="14340"/>
                  <a:pt x="12030" y="14337"/>
                </a:cubicBezTo>
                <a:cubicBezTo>
                  <a:pt x="11981" y="14334"/>
                  <a:pt x="11930" y="14337"/>
                  <a:pt x="11881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54840" y="3348000"/>
            <a:ext cx="1322280" cy="250920"/>
          </a:xfrm>
          <a:custGeom>
            <a:avLst/>
            <a:gdLst/>
            <a:ahLst/>
            <a:rect l="l" t="t" r="r" b="b"/>
            <a:pathLst>
              <a:path w="3672" h="695">
                <a:moveTo>
                  <a:pt x="16818" y="9773"/>
                </a:moveTo>
                <a:cubicBezTo>
                  <a:pt x="16960" y="9773"/>
                  <a:pt x="17070" y="9793"/>
                  <a:pt x="17190" y="9823"/>
                </a:cubicBezTo>
                <a:cubicBezTo>
                  <a:pt x="17423" y="9882"/>
                  <a:pt x="17741" y="9829"/>
                  <a:pt x="17983" y="9847"/>
                </a:cubicBezTo>
                <a:cubicBezTo>
                  <a:pt x="18204" y="9864"/>
                  <a:pt x="18414" y="9868"/>
                  <a:pt x="18628" y="9897"/>
                </a:cubicBezTo>
                <a:cubicBezTo>
                  <a:pt x="19226" y="9977"/>
                  <a:pt x="19883" y="9897"/>
                  <a:pt x="20489" y="9897"/>
                </a:cubicBezTo>
              </a:path>
              <a:path w="3672" h="695">
                <a:moveTo>
                  <a:pt x="17735" y="9302"/>
                </a:moveTo>
                <a:cubicBezTo>
                  <a:pt x="17704" y="9406"/>
                  <a:pt x="17686" y="9491"/>
                  <a:pt x="17686" y="9599"/>
                </a:cubicBezTo>
                <a:cubicBezTo>
                  <a:pt x="17686" y="9706"/>
                  <a:pt x="17693" y="9794"/>
                  <a:pt x="17711" y="9897"/>
                </a:cubicBezTo>
                <a:cubicBezTo>
                  <a:pt x="17711" y="9938"/>
                  <a:pt x="17711" y="9963"/>
                  <a:pt x="17711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69040" y="4010040"/>
            <a:ext cx="384120" cy="285840"/>
          </a:xfrm>
          <a:custGeom>
            <a:avLst/>
            <a:gdLst/>
            <a:ahLst/>
            <a:rect l="l" t="t" r="r" b="b"/>
            <a:pathLst>
              <a:path w="1067" h="795">
                <a:moveTo>
                  <a:pt x="17487" y="11311"/>
                </a:moveTo>
                <a:cubicBezTo>
                  <a:pt x="17525" y="11216"/>
                  <a:pt x="17541" y="11226"/>
                  <a:pt x="17611" y="11162"/>
                </a:cubicBezTo>
                <a:cubicBezTo>
                  <a:pt x="17656" y="11121"/>
                  <a:pt x="17734" y="11125"/>
                  <a:pt x="17785" y="11162"/>
                </a:cubicBezTo>
                <a:cubicBezTo>
                  <a:pt x="17811" y="11181"/>
                  <a:pt x="17877" y="11236"/>
                  <a:pt x="17884" y="11286"/>
                </a:cubicBezTo>
                <a:cubicBezTo>
                  <a:pt x="17899" y="11387"/>
                  <a:pt x="17874" y="11468"/>
                  <a:pt x="17835" y="11559"/>
                </a:cubicBezTo>
                <a:cubicBezTo>
                  <a:pt x="17798" y="11645"/>
                  <a:pt x="17735" y="11708"/>
                  <a:pt x="17686" y="11782"/>
                </a:cubicBezTo>
                <a:cubicBezTo>
                  <a:pt x="17653" y="11832"/>
                  <a:pt x="17621" y="11871"/>
                  <a:pt x="17562" y="11881"/>
                </a:cubicBezTo>
                <a:cubicBezTo>
                  <a:pt x="17532" y="11886"/>
                  <a:pt x="17428" y="11897"/>
                  <a:pt x="17413" y="11857"/>
                </a:cubicBezTo>
                <a:cubicBezTo>
                  <a:pt x="17389" y="11795"/>
                  <a:pt x="17442" y="11785"/>
                  <a:pt x="17487" y="11782"/>
                </a:cubicBezTo>
                <a:cubicBezTo>
                  <a:pt x="17553" y="11778"/>
                  <a:pt x="17575" y="11786"/>
                  <a:pt x="17636" y="11807"/>
                </a:cubicBezTo>
                <a:cubicBezTo>
                  <a:pt x="17687" y="11825"/>
                  <a:pt x="17757" y="11848"/>
                  <a:pt x="17810" y="11857"/>
                </a:cubicBezTo>
                <a:cubicBezTo>
                  <a:pt x="17882" y="11869"/>
                  <a:pt x="17963" y="11866"/>
                  <a:pt x="18033" y="11881"/>
                </a:cubicBezTo>
                <a:cubicBezTo>
                  <a:pt x="18103" y="11896"/>
                  <a:pt x="18190" y="11887"/>
                  <a:pt x="18256" y="11906"/>
                </a:cubicBezTo>
                <a:cubicBezTo>
                  <a:pt x="18312" y="11922"/>
                  <a:pt x="18346" y="11931"/>
                  <a:pt x="18405" y="11931"/>
                </a:cubicBezTo>
                <a:cubicBezTo>
                  <a:pt x="18452" y="11931"/>
                  <a:pt x="18450" y="11924"/>
                  <a:pt x="18479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76960" y="5205240"/>
            <a:ext cx="117360" cy="9864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17611" y="14610"/>
                </a:moveTo>
                <a:cubicBezTo>
                  <a:pt x="17577" y="14622"/>
                  <a:pt x="17587" y="14618"/>
                  <a:pt x="17587" y="14660"/>
                </a:cubicBezTo>
                <a:cubicBezTo>
                  <a:pt x="17640" y="14660"/>
                  <a:pt x="17648" y="14648"/>
                  <a:pt x="17686" y="14610"/>
                </a:cubicBezTo>
                <a:cubicBezTo>
                  <a:pt x="17724" y="14572"/>
                  <a:pt x="17715" y="14574"/>
                  <a:pt x="17686" y="14536"/>
                </a:cubicBezTo>
                <a:cubicBezTo>
                  <a:pt x="17650" y="14536"/>
                  <a:pt x="17613" y="14542"/>
                  <a:pt x="17587" y="14560"/>
                </a:cubicBezTo>
                <a:cubicBezTo>
                  <a:pt x="17543" y="14590"/>
                  <a:pt x="17560" y="14629"/>
                  <a:pt x="17587" y="14660"/>
                </a:cubicBezTo>
                <a:cubicBezTo>
                  <a:pt x="17620" y="14698"/>
                  <a:pt x="17650" y="14707"/>
                  <a:pt x="17686" y="14734"/>
                </a:cubicBezTo>
                <a:cubicBezTo>
                  <a:pt x="17717" y="14702"/>
                  <a:pt x="17755" y="14678"/>
                  <a:pt x="17760" y="14635"/>
                </a:cubicBezTo>
                <a:cubicBezTo>
                  <a:pt x="17765" y="14587"/>
                  <a:pt x="17762" y="14547"/>
                  <a:pt x="17711" y="14536"/>
                </a:cubicBezTo>
                <a:cubicBezTo>
                  <a:pt x="17652" y="14524"/>
                  <a:pt x="17585" y="14530"/>
                  <a:pt x="17562" y="14560"/>
                </a:cubicBezTo>
                <a:cubicBezTo>
                  <a:pt x="17554" y="14568"/>
                  <a:pt x="17545" y="14577"/>
                  <a:pt x="17537" y="14585"/>
                </a:cubicBezTo>
                <a:cubicBezTo>
                  <a:pt x="17561" y="14593"/>
                  <a:pt x="17584" y="14617"/>
                  <a:pt x="17611" y="14635"/>
                </a:cubicBezTo>
                <a:cubicBezTo>
                  <a:pt x="17663" y="14670"/>
                  <a:pt x="17696" y="14652"/>
                  <a:pt x="17735" y="14585"/>
                </a:cubicBezTo>
                <a:cubicBezTo>
                  <a:pt x="17735" y="14557"/>
                  <a:pt x="17737" y="14546"/>
                  <a:pt x="17760" y="14536"/>
                </a:cubicBezTo>
                <a:cubicBezTo>
                  <a:pt x="17714" y="14490"/>
                  <a:pt x="17675" y="14476"/>
                  <a:pt x="17611" y="14461"/>
                </a:cubicBezTo>
                <a:cubicBezTo>
                  <a:pt x="17553" y="14447"/>
                  <a:pt x="17529" y="14472"/>
                  <a:pt x="17487" y="14486"/>
                </a:cubicBezTo>
                <a:cubicBezTo>
                  <a:pt x="17462" y="14486"/>
                  <a:pt x="17454" y="14486"/>
                  <a:pt x="17438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01920" y="2178000"/>
            <a:ext cx="285840" cy="19080"/>
          </a:xfrm>
          <a:custGeom>
            <a:avLst/>
            <a:gdLst/>
            <a:ahLst/>
            <a:rect l="l" t="t" r="r" b="b"/>
            <a:pathLst>
              <a:path w="795" h="51">
                <a:moveTo>
                  <a:pt x="6672" y="6102"/>
                </a:moveTo>
                <a:cubicBezTo>
                  <a:pt x="6763" y="6102"/>
                  <a:pt x="6858" y="6097"/>
                  <a:pt x="6945" y="6077"/>
                </a:cubicBezTo>
                <a:cubicBezTo>
                  <a:pt x="7070" y="6049"/>
                  <a:pt x="7187" y="6052"/>
                  <a:pt x="7317" y="6052"/>
                </a:cubicBezTo>
                <a:cubicBezTo>
                  <a:pt x="7400" y="6052"/>
                  <a:pt x="7416" y="6052"/>
                  <a:pt x="7466" y="60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28920" y="2438280"/>
            <a:ext cx="312840" cy="27000"/>
          </a:xfrm>
          <a:custGeom>
            <a:avLst/>
            <a:gdLst/>
            <a:ahLst/>
            <a:rect l="l" t="t" r="r" b="b"/>
            <a:pathLst>
              <a:path w="869" h="75">
                <a:moveTo>
                  <a:pt x="6747" y="6846"/>
                </a:moveTo>
                <a:cubicBezTo>
                  <a:pt x="6868" y="6839"/>
                  <a:pt x="6998" y="6838"/>
                  <a:pt x="7119" y="6821"/>
                </a:cubicBezTo>
                <a:cubicBezTo>
                  <a:pt x="7258" y="6801"/>
                  <a:pt x="7399" y="6783"/>
                  <a:pt x="7541" y="6772"/>
                </a:cubicBezTo>
                <a:cubicBezTo>
                  <a:pt x="7566" y="6772"/>
                  <a:pt x="7590" y="6772"/>
                  <a:pt x="7615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46200" y="2795760"/>
            <a:ext cx="304920" cy="1440"/>
          </a:xfrm>
          <a:custGeom>
            <a:avLst/>
            <a:gdLst/>
            <a:ahLst/>
            <a:rect l="l" t="t" r="r" b="b"/>
            <a:pathLst>
              <a:path w="845" h="1">
                <a:moveTo>
                  <a:pt x="6796" y="7764"/>
                </a:moveTo>
                <a:cubicBezTo>
                  <a:pt x="7077" y="7764"/>
                  <a:pt x="7359" y="7764"/>
                  <a:pt x="7640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3116160"/>
            <a:ext cx="303480" cy="19080"/>
          </a:xfrm>
          <a:custGeom>
            <a:avLst/>
            <a:gdLst/>
            <a:ahLst/>
            <a:rect l="l" t="t" r="r" b="b"/>
            <a:pathLst>
              <a:path w="845" h="50">
                <a:moveTo>
                  <a:pt x="6697" y="8657"/>
                </a:moveTo>
                <a:cubicBezTo>
                  <a:pt x="6929" y="8657"/>
                  <a:pt x="7154" y="8649"/>
                  <a:pt x="7367" y="8706"/>
                </a:cubicBezTo>
                <a:cubicBezTo>
                  <a:pt x="7435" y="8724"/>
                  <a:pt x="7473" y="8657"/>
                  <a:pt x="7541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28920" y="3911760"/>
            <a:ext cx="241200" cy="17280"/>
          </a:xfrm>
          <a:custGeom>
            <a:avLst/>
            <a:gdLst/>
            <a:ahLst/>
            <a:rect l="l" t="t" r="r" b="b"/>
            <a:pathLst>
              <a:path w="671" h="51">
                <a:moveTo>
                  <a:pt x="6747" y="10864"/>
                </a:moveTo>
                <a:cubicBezTo>
                  <a:pt x="6859" y="10886"/>
                  <a:pt x="6955" y="10889"/>
                  <a:pt x="7069" y="10889"/>
                </a:cubicBezTo>
                <a:cubicBezTo>
                  <a:pt x="7188" y="10889"/>
                  <a:pt x="7296" y="10914"/>
                  <a:pt x="7417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4321080"/>
            <a:ext cx="276480" cy="19080"/>
          </a:xfrm>
          <a:custGeom>
            <a:avLst/>
            <a:gdLst/>
            <a:ahLst/>
            <a:rect l="l" t="t" r="r" b="b"/>
            <a:pathLst>
              <a:path w="770" h="51">
                <a:moveTo>
                  <a:pt x="6697" y="12005"/>
                </a:moveTo>
                <a:cubicBezTo>
                  <a:pt x="6773" y="12038"/>
                  <a:pt x="6836" y="12030"/>
                  <a:pt x="6921" y="12030"/>
                </a:cubicBezTo>
                <a:cubicBezTo>
                  <a:pt x="7106" y="12030"/>
                  <a:pt x="7284" y="12024"/>
                  <a:pt x="7466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9200" y="4626000"/>
            <a:ext cx="287640" cy="9360"/>
          </a:xfrm>
          <a:custGeom>
            <a:avLst/>
            <a:gdLst/>
            <a:ahLst/>
            <a:rect l="l" t="t" r="r" b="b"/>
            <a:pathLst>
              <a:path w="795" h="26">
                <a:moveTo>
                  <a:pt x="6722" y="12849"/>
                </a:moveTo>
                <a:cubicBezTo>
                  <a:pt x="6940" y="12849"/>
                  <a:pt x="7153" y="12853"/>
                  <a:pt x="7367" y="12874"/>
                </a:cubicBezTo>
                <a:cubicBezTo>
                  <a:pt x="7441" y="12874"/>
                  <a:pt x="7466" y="12874"/>
                  <a:pt x="7516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94000" y="4911840"/>
            <a:ext cx="303120" cy="88920"/>
          </a:xfrm>
          <a:custGeom>
            <a:avLst/>
            <a:gdLst/>
            <a:ahLst/>
            <a:rect l="l" t="t" r="r" b="b"/>
            <a:pathLst>
              <a:path w="844" h="249">
                <a:moveTo>
                  <a:pt x="6648" y="13791"/>
                </a:moveTo>
                <a:cubicBezTo>
                  <a:pt x="6766" y="13799"/>
                  <a:pt x="6877" y="13832"/>
                  <a:pt x="6995" y="13841"/>
                </a:cubicBezTo>
                <a:cubicBezTo>
                  <a:pt x="7161" y="13854"/>
                  <a:pt x="7324" y="13881"/>
                  <a:pt x="7491" y="13891"/>
                </a:cubicBezTo>
              </a:path>
              <a:path w="844" h="249">
                <a:moveTo>
                  <a:pt x="6995" y="13717"/>
                </a:moveTo>
                <a:lnTo>
                  <a:pt x="6995" y="13717"/>
                </a:lnTo>
              </a:path>
              <a:path w="844" h="249">
                <a:moveTo>
                  <a:pt x="6995" y="13717"/>
                </a:moveTo>
                <a:lnTo>
                  <a:pt x="6995" y="13717"/>
                </a:lnTo>
              </a:path>
              <a:path w="844" h="249">
                <a:moveTo>
                  <a:pt x="6945" y="13791"/>
                </a:moveTo>
                <a:cubicBezTo>
                  <a:pt x="6937" y="13799"/>
                  <a:pt x="6929" y="13808"/>
                  <a:pt x="6921" y="13816"/>
                </a:cubicBezTo>
                <a:cubicBezTo>
                  <a:pt x="6976" y="13872"/>
                  <a:pt x="6961" y="13861"/>
                  <a:pt x="7020" y="13841"/>
                </a:cubicBezTo>
                <a:cubicBezTo>
                  <a:pt x="7049" y="13831"/>
                  <a:pt x="7065" y="13808"/>
                  <a:pt x="7069" y="13767"/>
                </a:cubicBezTo>
                <a:cubicBezTo>
                  <a:pt x="7073" y="13731"/>
                  <a:pt x="7045" y="13695"/>
                  <a:pt x="7020" y="13692"/>
                </a:cubicBezTo>
                <a:cubicBezTo>
                  <a:pt x="6955" y="13684"/>
                  <a:pt x="6939" y="13699"/>
                  <a:pt x="6896" y="13742"/>
                </a:cubicBezTo>
                <a:cubicBezTo>
                  <a:pt x="6856" y="13782"/>
                  <a:pt x="6846" y="13755"/>
                  <a:pt x="6846" y="13816"/>
                </a:cubicBezTo>
                <a:cubicBezTo>
                  <a:pt x="6907" y="13877"/>
                  <a:pt x="6891" y="13861"/>
                  <a:pt x="6970" y="13841"/>
                </a:cubicBezTo>
                <a:cubicBezTo>
                  <a:pt x="7002" y="13833"/>
                  <a:pt x="7053" y="13803"/>
                  <a:pt x="7069" y="13767"/>
                </a:cubicBezTo>
                <a:cubicBezTo>
                  <a:pt x="7078" y="13745"/>
                  <a:pt x="7056" y="13674"/>
                  <a:pt x="7045" y="13667"/>
                </a:cubicBezTo>
                <a:cubicBezTo>
                  <a:pt x="6997" y="13635"/>
                  <a:pt x="6965" y="13652"/>
                  <a:pt x="6921" y="13692"/>
                </a:cubicBezTo>
                <a:cubicBezTo>
                  <a:pt x="6883" y="13726"/>
                  <a:pt x="6859" y="13714"/>
                  <a:pt x="6846" y="13767"/>
                </a:cubicBezTo>
                <a:cubicBezTo>
                  <a:pt x="6860" y="13820"/>
                  <a:pt x="6885" y="13816"/>
                  <a:pt x="6921" y="13841"/>
                </a:cubicBezTo>
                <a:cubicBezTo>
                  <a:pt x="6983" y="13883"/>
                  <a:pt x="7010" y="13859"/>
                  <a:pt x="7069" y="13841"/>
                </a:cubicBezTo>
                <a:cubicBezTo>
                  <a:pt x="7124" y="13824"/>
                  <a:pt x="7110" y="13829"/>
                  <a:pt x="7119" y="13767"/>
                </a:cubicBezTo>
                <a:cubicBezTo>
                  <a:pt x="7119" y="13703"/>
                  <a:pt x="7112" y="13696"/>
                  <a:pt x="7045" y="13692"/>
                </a:cubicBezTo>
                <a:cubicBezTo>
                  <a:pt x="6950" y="13686"/>
                  <a:pt x="6901" y="13713"/>
                  <a:pt x="6821" y="13742"/>
                </a:cubicBezTo>
                <a:cubicBezTo>
                  <a:pt x="6786" y="13755"/>
                  <a:pt x="6796" y="13748"/>
                  <a:pt x="6796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0200" y="5187960"/>
            <a:ext cx="27000" cy="330120"/>
          </a:xfrm>
          <a:custGeom>
            <a:avLst/>
            <a:gdLst/>
            <a:ahLst/>
            <a:rect l="l" t="t" r="r" b="b"/>
            <a:pathLst>
              <a:path w="76" h="918">
                <a:moveTo>
                  <a:pt x="6945" y="14412"/>
                </a:moveTo>
                <a:cubicBezTo>
                  <a:pt x="6958" y="14474"/>
                  <a:pt x="6970" y="14519"/>
                  <a:pt x="6970" y="14585"/>
                </a:cubicBezTo>
                <a:cubicBezTo>
                  <a:pt x="6970" y="14679"/>
                  <a:pt x="6995" y="14760"/>
                  <a:pt x="6995" y="14858"/>
                </a:cubicBezTo>
                <a:cubicBezTo>
                  <a:pt x="6995" y="14946"/>
                  <a:pt x="7010" y="15025"/>
                  <a:pt x="7020" y="15106"/>
                </a:cubicBezTo>
                <a:cubicBezTo>
                  <a:pt x="7030" y="15185"/>
                  <a:pt x="7022" y="15258"/>
                  <a:pt x="6995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73200" y="1874880"/>
            <a:ext cx="90720" cy="3359160"/>
          </a:xfrm>
          <a:custGeom>
            <a:avLst/>
            <a:gdLst/>
            <a:ahLst/>
            <a:rect l="l" t="t" r="r" b="b"/>
            <a:pathLst>
              <a:path w="249" h="9328">
                <a:moveTo>
                  <a:pt x="7020" y="9748"/>
                </a:moveTo>
                <a:cubicBezTo>
                  <a:pt x="7020" y="9963"/>
                  <a:pt x="7050" y="10170"/>
                  <a:pt x="7069" y="10368"/>
                </a:cubicBezTo>
                <a:cubicBezTo>
                  <a:pt x="7078" y="10458"/>
                  <a:pt x="7087" y="10557"/>
                  <a:pt x="7094" y="10641"/>
                </a:cubicBezTo>
                <a:cubicBezTo>
                  <a:pt x="7139" y="11144"/>
                  <a:pt x="7108" y="11716"/>
                  <a:pt x="7069" y="12204"/>
                </a:cubicBezTo>
                <a:cubicBezTo>
                  <a:pt x="7060" y="12318"/>
                  <a:pt x="7053" y="12443"/>
                  <a:pt x="7045" y="12551"/>
                </a:cubicBezTo>
                <a:cubicBezTo>
                  <a:pt x="7037" y="12656"/>
                  <a:pt x="7041" y="12746"/>
                  <a:pt x="7020" y="12849"/>
                </a:cubicBezTo>
                <a:cubicBezTo>
                  <a:pt x="6998" y="12958"/>
                  <a:pt x="6978" y="13087"/>
                  <a:pt x="6970" y="13196"/>
                </a:cubicBezTo>
                <a:cubicBezTo>
                  <a:pt x="6962" y="13298"/>
                  <a:pt x="6947" y="13392"/>
                  <a:pt x="6945" y="13494"/>
                </a:cubicBezTo>
                <a:cubicBezTo>
                  <a:pt x="6943" y="13604"/>
                  <a:pt x="6927" y="13707"/>
                  <a:pt x="6921" y="13816"/>
                </a:cubicBezTo>
                <a:cubicBezTo>
                  <a:pt x="6915" y="13926"/>
                  <a:pt x="6902" y="14030"/>
                  <a:pt x="6896" y="14139"/>
                </a:cubicBezTo>
                <a:cubicBezTo>
                  <a:pt x="6891" y="14231"/>
                  <a:pt x="6877" y="14327"/>
                  <a:pt x="6871" y="14412"/>
                </a:cubicBezTo>
                <a:cubicBezTo>
                  <a:pt x="6867" y="14462"/>
                  <a:pt x="6881" y="14462"/>
                  <a:pt x="6871" y="14511"/>
                </a:cubicBezTo>
                <a:cubicBezTo>
                  <a:pt x="6871" y="14503"/>
                  <a:pt x="6871" y="14494"/>
                  <a:pt x="6871" y="14486"/>
                </a:cubicBezTo>
              </a:path>
              <a:path w="249" h="9328">
                <a:moveTo>
                  <a:pt x="7020" y="9674"/>
                </a:moveTo>
                <a:cubicBezTo>
                  <a:pt x="7020" y="9124"/>
                  <a:pt x="7056" y="8554"/>
                  <a:pt x="6995" y="8012"/>
                </a:cubicBezTo>
                <a:cubicBezTo>
                  <a:pt x="6971" y="7801"/>
                  <a:pt x="6997" y="7572"/>
                  <a:pt x="7020" y="7367"/>
                </a:cubicBezTo>
                <a:cubicBezTo>
                  <a:pt x="7076" y="6872"/>
                  <a:pt x="7008" y="6348"/>
                  <a:pt x="7045" y="5854"/>
                </a:cubicBezTo>
                <a:cubicBezTo>
                  <a:pt x="7051" y="5770"/>
                  <a:pt x="7049" y="5688"/>
                  <a:pt x="7069" y="5606"/>
                </a:cubicBezTo>
                <a:cubicBezTo>
                  <a:pt x="7089" y="5523"/>
                  <a:pt x="7109" y="5443"/>
                  <a:pt x="7119" y="5358"/>
                </a:cubicBezTo>
                <a:cubicBezTo>
                  <a:pt x="7126" y="5300"/>
                  <a:pt x="7119" y="5292"/>
                  <a:pt x="7119" y="5234"/>
                </a:cubicBezTo>
                <a:cubicBezTo>
                  <a:pt x="7119" y="5242"/>
                  <a:pt x="7119" y="5251"/>
                  <a:pt x="7119" y="52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8840" y="4402080"/>
            <a:ext cx="2063520" cy="1447920"/>
          </a:xfrm>
          <a:custGeom>
            <a:avLst/>
            <a:gdLst/>
            <a:ahLst/>
            <a:rect l="l" t="t" r="r" b="b"/>
            <a:pathLst>
              <a:path w="5731" h="4019">
                <a:moveTo>
                  <a:pt x="5829" y="12898"/>
                </a:moveTo>
                <a:cubicBezTo>
                  <a:pt x="5776" y="12881"/>
                  <a:pt x="5825" y="12852"/>
                  <a:pt x="5829" y="12799"/>
                </a:cubicBezTo>
                <a:cubicBezTo>
                  <a:pt x="5834" y="12722"/>
                  <a:pt x="5854" y="12655"/>
                  <a:pt x="5854" y="12576"/>
                </a:cubicBezTo>
                <a:cubicBezTo>
                  <a:pt x="5854" y="12522"/>
                  <a:pt x="5864" y="12431"/>
                  <a:pt x="5879" y="12378"/>
                </a:cubicBezTo>
                <a:cubicBezTo>
                  <a:pt x="5898" y="12309"/>
                  <a:pt x="5932" y="12284"/>
                  <a:pt x="5978" y="12254"/>
                </a:cubicBezTo>
                <a:cubicBezTo>
                  <a:pt x="6038" y="12214"/>
                  <a:pt x="6085" y="12225"/>
                  <a:pt x="6152" y="12254"/>
                </a:cubicBezTo>
                <a:cubicBezTo>
                  <a:pt x="6251" y="12297"/>
                  <a:pt x="6345" y="12331"/>
                  <a:pt x="6449" y="12378"/>
                </a:cubicBezTo>
              </a:path>
              <a:path w="5731" h="4019">
                <a:moveTo>
                  <a:pt x="719" y="14734"/>
                </a:moveTo>
                <a:cubicBezTo>
                  <a:pt x="823" y="14734"/>
                  <a:pt x="920" y="14750"/>
                  <a:pt x="1017" y="14759"/>
                </a:cubicBezTo>
                <a:cubicBezTo>
                  <a:pt x="1117" y="14769"/>
                  <a:pt x="1217" y="14773"/>
                  <a:pt x="1315" y="14784"/>
                </a:cubicBezTo>
                <a:cubicBezTo>
                  <a:pt x="1438" y="14798"/>
                  <a:pt x="1564" y="14823"/>
                  <a:pt x="1687" y="14833"/>
                </a:cubicBezTo>
                <a:cubicBezTo>
                  <a:pt x="1826" y="14845"/>
                  <a:pt x="1969" y="14855"/>
                  <a:pt x="2108" y="14858"/>
                </a:cubicBezTo>
                <a:cubicBezTo>
                  <a:pt x="2276" y="14862"/>
                  <a:pt x="2438" y="14879"/>
                  <a:pt x="2604" y="14883"/>
                </a:cubicBezTo>
                <a:cubicBezTo>
                  <a:pt x="2788" y="14887"/>
                  <a:pt x="2968" y="14898"/>
                  <a:pt x="3150" y="14908"/>
                </a:cubicBezTo>
                <a:cubicBezTo>
                  <a:pt x="3372" y="14920"/>
                  <a:pt x="3598" y="14928"/>
                  <a:pt x="3820" y="14932"/>
                </a:cubicBezTo>
                <a:cubicBezTo>
                  <a:pt x="4010" y="14936"/>
                  <a:pt x="4202" y="14934"/>
                  <a:pt x="4390" y="14957"/>
                </a:cubicBezTo>
                <a:cubicBezTo>
                  <a:pt x="4579" y="14980"/>
                  <a:pt x="4771" y="15001"/>
                  <a:pt x="4961" y="15007"/>
                </a:cubicBezTo>
                <a:cubicBezTo>
                  <a:pt x="5036" y="15009"/>
                  <a:pt x="5134" y="14997"/>
                  <a:pt x="5209" y="14982"/>
                </a:cubicBezTo>
                <a:cubicBezTo>
                  <a:pt x="5310" y="14962"/>
                  <a:pt x="5244" y="14947"/>
                  <a:pt x="5283" y="14908"/>
                </a:cubicBezTo>
              </a:path>
              <a:path w="5731" h="4019">
                <a:moveTo>
                  <a:pt x="1364" y="13742"/>
                </a:moveTo>
                <a:cubicBezTo>
                  <a:pt x="1364" y="13960"/>
                  <a:pt x="1373" y="14173"/>
                  <a:pt x="1389" y="14387"/>
                </a:cubicBezTo>
                <a:cubicBezTo>
                  <a:pt x="1400" y="14536"/>
                  <a:pt x="1410" y="14685"/>
                  <a:pt x="1414" y="14833"/>
                </a:cubicBezTo>
                <a:cubicBezTo>
                  <a:pt x="1419" y="15018"/>
                  <a:pt x="1425" y="15196"/>
                  <a:pt x="1439" y="15379"/>
                </a:cubicBezTo>
                <a:cubicBezTo>
                  <a:pt x="1458" y="15624"/>
                  <a:pt x="1441" y="15884"/>
                  <a:pt x="1414" y="16123"/>
                </a:cubicBezTo>
                <a:cubicBezTo>
                  <a:pt x="1414" y="16189"/>
                  <a:pt x="1414" y="16206"/>
                  <a:pt x="1414" y="16247"/>
                </a:cubicBezTo>
              </a:path>
              <a:path w="5731" h="4019">
                <a:moveTo>
                  <a:pt x="1364" y="14039"/>
                </a:moveTo>
                <a:cubicBezTo>
                  <a:pt x="1387" y="14062"/>
                  <a:pt x="1398" y="14070"/>
                  <a:pt x="1364" y="14064"/>
                </a:cubicBezTo>
                <a:cubicBezTo>
                  <a:pt x="1389" y="14064"/>
                  <a:pt x="1397" y="14064"/>
                  <a:pt x="1414" y="14064"/>
                </a:cubicBezTo>
                <a:cubicBezTo>
                  <a:pt x="1416" y="14063"/>
                  <a:pt x="1446" y="14047"/>
                  <a:pt x="1463" y="14039"/>
                </a:cubicBezTo>
                <a:cubicBezTo>
                  <a:pt x="1479" y="14071"/>
                  <a:pt x="1472" y="14057"/>
                  <a:pt x="1488" y="14089"/>
                </a:cubicBezTo>
                <a:cubicBezTo>
                  <a:pt x="1505" y="14097"/>
                  <a:pt x="1536" y="14113"/>
                  <a:pt x="1538" y="14114"/>
                </a:cubicBezTo>
                <a:cubicBezTo>
                  <a:pt x="1576" y="14131"/>
                  <a:pt x="1582" y="14125"/>
                  <a:pt x="1612" y="14139"/>
                </a:cubicBezTo>
                <a:cubicBezTo>
                  <a:pt x="1635" y="14161"/>
                  <a:pt x="1640" y="14169"/>
                  <a:pt x="1662" y="14163"/>
                </a:cubicBezTo>
                <a:cubicBezTo>
                  <a:pt x="1678" y="14195"/>
                  <a:pt x="1671" y="14181"/>
                  <a:pt x="1687" y="14213"/>
                </a:cubicBezTo>
                <a:cubicBezTo>
                  <a:pt x="1717" y="14233"/>
                  <a:pt x="1752" y="14262"/>
                  <a:pt x="1786" y="14288"/>
                </a:cubicBezTo>
                <a:cubicBezTo>
                  <a:pt x="1831" y="14322"/>
                  <a:pt x="1868" y="14347"/>
                  <a:pt x="1910" y="14387"/>
                </a:cubicBezTo>
                <a:cubicBezTo>
                  <a:pt x="1943" y="14419"/>
                  <a:pt x="1962" y="14457"/>
                  <a:pt x="1984" y="14486"/>
                </a:cubicBezTo>
                <a:cubicBezTo>
                  <a:pt x="2006" y="14505"/>
                  <a:pt x="2032" y="14540"/>
                  <a:pt x="2059" y="14560"/>
                </a:cubicBezTo>
                <a:cubicBezTo>
                  <a:pt x="2067" y="14560"/>
                  <a:pt x="2076" y="14560"/>
                  <a:pt x="2084" y="14560"/>
                </a:cubicBezTo>
                <a:cubicBezTo>
                  <a:pt x="2098" y="14595"/>
                  <a:pt x="2118" y="14625"/>
                  <a:pt x="2133" y="14660"/>
                </a:cubicBezTo>
                <a:cubicBezTo>
                  <a:pt x="2148" y="14694"/>
                  <a:pt x="2168" y="14725"/>
                  <a:pt x="2183" y="14759"/>
                </a:cubicBezTo>
                <a:cubicBezTo>
                  <a:pt x="2203" y="14804"/>
                  <a:pt x="2235" y="14837"/>
                  <a:pt x="2257" y="14883"/>
                </a:cubicBezTo>
                <a:cubicBezTo>
                  <a:pt x="2273" y="14916"/>
                  <a:pt x="2290" y="14948"/>
                  <a:pt x="2307" y="14982"/>
                </a:cubicBezTo>
                <a:cubicBezTo>
                  <a:pt x="2319" y="15007"/>
                  <a:pt x="2318" y="15059"/>
                  <a:pt x="2332" y="15081"/>
                </a:cubicBezTo>
                <a:cubicBezTo>
                  <a:pt x="2340" y="15093"/>
                  <a:pt x="2392" y="15125"/>
                  <a:pt x="2406" y="15156"/>
                </a:cubicBezTo>
                <a:cubicBezTo>
                  <a:pt x="2421" y="15189"/>
                  <a:pt x="2440" y="15221"/>
                  <a:pt x="2456" y="15255"/>
                </a:cubicBezTo>
                <a:cubicBezTo>
                  <a:pt x="2467" y="15277"/>
                  <a:pt x="2470" y="15306"/>
                  <a:pt x="2480" y="15329"/>
                </a:cubicBezTo>
                <a:cubicBezTo>
                  <a:pt x="2481" y="15331"/>
                  <a:pt x="2497" y="15362"/>
                  <a:pt x="2505" y="15379"/>
                </a:cubicBezTo>
                <a:cubicBezTo>
                  <a:pt x="2520" y="15394"/>
                  <a:pt x="2550" y="15427"/>
                  <a:pt x="2580" y="15453"/>
                </a:cubicBezTo>
                <a:cubicBezTo>
                  <a:pt x="2602" y="15472"/>
                  <a:pt x="2638" y="15490"/>
                  <a:pt x="2654" y="15503"/>
                </a:cubicBezTo>
                <a:cubicBezTo>
                  <a:pt x="2670" y="15519"/>
                  <a:pt x="2697" y="15550"/>
                  <a:pt x="2729" y="15577"/>
                </a:cubicBezTo>
                <a:cubicBezTo>
                  <a:pt x="2753" y="15577"/>
                  <a:pt x="2761" y="15577"/>
                  <a:pt x="2753" y="15602"/>
                </a:cubicBezTo>
                <a:cubicBezTo>
                  <a:pt x="2789" y="15612"/>
                  <a:pt x="2819" y="15620"/>
                  <a:pt x="2853" y="15627"/>
                </a:cubicBezTo>
                <a:cubicBezTo>
                  <a:pt x="2861" y="15627"/>
                  <a:pt x="2869" y="15627"/>
                  <a:pt x="2877" y="15627"/>
                </a:cubicBezTo>
                <a:cubicBezTo>
                  <a:pt x="2881" y="15629"/>
                  <a:pt x="2927" y="15673"/>
                  <a:pt x="2952" y="15677"/>
                </a:cubicBezTo>
                <a:cubicBezTo>
                  <a:pt x="2984" y="15682"/>
                  <a:pt x="3028" y="15698"/>
                  <a:pt x="3051" y="15701"/>
                </a:cubicBezTo>
                <a:cubicBezTo>
                  <a:pt x="3130" y="15713"/>
                  <a:pt x="3208" y="15696"/>
                  <a:pt x="3274" y="15677"/>
                </a:cubicBezTo>
                <a:cubicBezTo>
                  <a:pt x="3310" y="15666"/>
                  <a:pt x="3340" y="15669"/>
                  <a:pt x="3373" y="15652"/>
                </a:cubicBezTo>
                <a:cubicBezTo>
                  <a:pt x="3402" y="15637"/>
                  <a:pt x="3449" y="15618"/>
                  <a:pt x="3473" y="15602"/>
                </a:cubicBezTo>
                <a:cubicBezTo>
                  <a:pt x="3517" y="15572"/>
                  <a:pt x="3530" y="15566"/>
                  <a:pt x="3572" y="15528"/>
                </a:cubicBezTo>
                <a:cubicBezTo>
                  <a:pt x="3600" y="15502"/>
                  <a:pt x="3657" y="15474"/>
                  <a:pt x="3671" y="15453"/>
                </a:cubicBezTo>
                <a:cubicBezTo>
                  <a:pt x="3690" y="15424"/>
                  <a:pt x="3700" y="15386"/>
                  <a:pt x="3721" y="15354"/>
                </a:cubicBezTo>
                <a:cubicBezTo>
                  <a:pt x="3740" y="15325"/>
                  <a:pt x="3782" y="15287"/>
                  <a:pt x="3795" y="15255"/>
                </a:cubicBezTo>
                <a:cubicBezTo>
                  <a:pt x="3811" y="15214"/>
                  <a:pt x="3830" y="15172"/>
                  <a:pt x="3845" y="15131"/>
                </a:cubicBezTo>
                <a:cubicBezTo>
                  <a:pt x="3860" y="15090"/>
                  <a:pt x="3879" y="15049"/>
                  <a:pt x="3894" y="15007"/>
                </a:cubicBezTo>
                <a:cubicBezTo>
                  <a:pt x="3905" y="14978"/>
                  <a:pt x="3940" y="14909"/>
                  <a:pt x="3944" y="14883"/>
                </a:cubicBezTo>
                <a:cubicBezTo>
                  <a:pt x="3951" y="14833"/>
                  <a:pt x="3958" y="14803"/>
                  <a:pt x="3969" y="14759"/>
                </a:cubicBezTo>
                <a:cubicBezTo>
                  <a:pt x="3980" y="14716"/>
                  <a:pt x="3998" y="14654"/>
                  <a:pt x="4018" y="14610"/>
                </a:cubicBezTo>
                <a:cubicBezTo>
                  <a:pt x="4032" y="14579"/>
                  <a:pt x="4052" y="14539"/>
                  <a:pt x="4068" y="14511"/>
                </a:cubicBezTo>
                <a:cubicBezTo>
                  <a:pt x="4089" y="14473"/>
                  <a:pt x="4108" y="14444"/>
                  <a:pt x="4142" y="14412"/>
                </a:cubicBezTo>
                <a:cubicBezTo>
                  <a:pt x="4165" y="14390"/>
                  <a:pt x="4212" y="14353"/>
                  <a:pt x="4242" y="14337"/>
                </a:cubicBezTo>
                <a:cubicBezTo>
                  <a:pt x="4269" y="14323"/>
                  <a:pt x="4315" y="14326"/>
                  <a:pt x="4341" y="14312"/>
                </a:cubicBezTo>
                <a:cubicBezTo>
                  <a:pt x="4375" y="14293"/>
                  <a:pt x="4408" y="14280"/>
                  <a:pt x="4440" y="14263"/>
                </a:cubicBezTo>
                <a:cubicBezTo>
                  <a:pt x="4470" y="14247"/>
                  <a:pt x="4485" y="14230"/>
                  <a:pt x="4514" y="14213"/>
                </a:cubicBezTo>
              </a:path>
              <a:path w="5731" h="4019">
                <a:moveTo>
                  <a:pt x="769" y="13593"/>
                </a:moveTo>
                <a:cubicBezTo>
                  <a:pt x="769" y="13667"/>
                  <a:pt x="754" y="13715"/>
                  <a:pt x="744" y="13791"/>
                </a:cubicBezTo>
                <a:cubicBezTo>
                  <a:pt x="737" y="13846"/>
                  <a:pt x="744" y="13909"/>
                  <a:pt x="744" y="13965"/>
                </a:cubicBezTo>
                <a:cubicBezTo>
                  <a:pt x="769" y="13965"/>
                  <a:pt x="777" y="13965"/>
                  <a:pt x="769" y="13990"/>
                </a:cubicBezTo>
              </a:path>
              <a:path w="5731" h="4019">
                <a:moveTo>
                  <a:pt x="4564" y="14114"/>
                </a:moveTo>
                <a:cubicBezTo>
                  <a:pt x="4564" y="14122"/>
                  <a:pt x="4564" y="14131"/>
                  <a:pt x="4564" y="14139"/>
                </a:cubicBezTo>
                <a:cubicBezTo>
                  <a:pt x="4519" y="14153"/>
                  <a:pt x="4537" y="14177"/>
                  <a:pt x="4564" y="14213"/>
                </a:cubicBezTo>
              </a:path>
              <a:path w="5731" h="4019">
                <a:moveTo>
                  <a:pt x="4762" y="13692"/>
                </a:moveTo>
                <a:cubicBezTo>
                  <a:pt x="4762" y="13783"/>
                  <a:pt x="4762" y="13874"/>
                  <a:pt x="4762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28960" y="3463920"/>
            <a:ext cx="706320" cy="519120"/>
          </a:xfrm>
          <a:custGeom>
            <a:avLst/>
            <a:gdLst/>
            <a:ahLst/>
            <a:rect l="l" t="t" r="r" b="b"/>
            <a:pathLst>
              <a:path w="1961" h="1440">
                <a:moveTo>
                  <a:pt x="9426" y="9624"/>
                </a:moveTo>
                <a:cubicBezTo>
                  <a:pt x="9426" y="9691"/>
                  <a:pt x="9452" y="9905"/>
                  <a:pt x="9401" y="9922"/>
                </a:cubicBezTo>
              </a:path>
              <a:path w="1961" h="1440">
                <a:moveTo>
                  <a:pt x="9351" y="10195"/>
                </a:moveTo>
                <a:cubicBezTo>
                  <a:pt x="9351" y="10319"/>
                  <a:pt x="9351" y="10443"/>
                  <a:pt x="9351" y="10567"/>
                </a:cubicBezTo>
              </a:path>
              <a:path w="1961" h="1440">
                <a:moveTo>
                  <a:pt x="9674" y="10120"/>
                </a:moveTo>
                <a:cubicBezTo>
                  <a:pt x="9618" y="10200"/>
                  <a:pt x="9582" y="10251"/>
                  <a:pt x="9550" y="10344"/>
                </a:cubicBezTo>
                <a:cubicBezTo>
                  <a:pt x="9532" y="10396"/>
                  <a:pt x="9484" y="10526"/>
                  <a:pt x="9451" y="10567"/>
                </a:cubicBezTo>
                <a:cubicBezTo>
                  <a:pt x="9427" y="10597"/>
                  <a:pt x="9382" y="10655"/>
                  <a:pt x="9376" y="10716"/>
                </a:cubicBezTo>
                <a:cubicBezTo>
                  <a:pt x="9373" y="10749"/>
                  <a:pt x="9325" y="10770"/>
                  <a:pt x="9351" y="10790"/>
                </a:cubicBezTo>
                <a:cubicBezTo>
                  <a:pt x="9359" y="10790"/>
                  <a:pt x="9368" y="10790"/>
                  <a:pt x="9376" y="10790"/>
                </a:cubicBezTo>
              </a:path>
              <a:path w="1961" h="1440">
                <a:moveTo>
                  <a:pt x="9624" y="10567"/>
                </a:moveTo>
                <a:cubicBezTo>
                  <a:pt x="9726" y="10567"/>
                  <a:pt x="9803" y="10531"/>
                  <a:pt x="9823" y="10641"/>
                </a:cubicBezTo>
                <a:cubicBezTo>
                  <a:pt x="9835" y="10706"/>
                  <a:pt x="9815" y="10723"/>
                  <a:pt x="9773" y="10765"/>
                </a:cubicBezTo>
                <a:cubicBezTo>
                  <a:pt x="9737" y="10800"/>
                  <a:pt x="9708" y="10810"/>
                  <a:pt x="9674" y="10840"/>
                </a:cubicBezTo>
                <a:cubicBezTo>
                  <a:pt x="9651" y="10862"/>
                  <a:pt x="9643" y="10867"/>
                  <a:pt x="9649" y="10889"/>
                </a:cubicBezTo>
                <a:cubicBezTo>
                  <a:pt x="9693" y="10898"/>
                  <a:pt x="9756" y="10900"/>
                  <a:pt x="9798" y="10914"/>
                </a:cubicBezTo>
                <a:cubicBezTo>
                  <a:pt x="9850" y="10931"/>
                  <a:pt x="9924" y="10919"/>
                  <a:pt x="9971" y="10939"/>
                </a:cubicBezTo>
                <a:cubicBezTo>
                  <a:pt x="10005" y="10953"/>
                  <a:pt x="10047" y="10936"/>
                  <a:pt x="10071" y="10964"/>
                </a:cubicBezTo>
                <a:cubicBezTo>
                  <a:pt x="10071" y="10988"/>
                  <a:pt x="10071" y="10996"/>
                  <a:pt x="10096" y="10988"/>
                </a:cubicBezTo>
              </a:path>
              <a:path w="1961" h="1440">
                <a:moveTo>
                  <a:pt x="8136" y="9748"/>
                </a:moveTo>
                <a:cubicBezTo>
                  <a:pt x="8136" y="9822"/>
                  <a:pt x="8136" y="9897"/>
                  <a:pt x="8136" y="9971"/>
                </a:cubicBezTo>
              </a:path>
              <a:path w="1961" h="1440">
                <a:moveTo>
                  <a:pt x="8210" y="10046"/>
                </a:moveTo>
                <a:cubicBezTo>
                  <a:pt x="8225" y="10153"/>
                  <a:pt x="8228" y="10233"/>
                  <a:pt x="8235" y="10344"/>
                </a:cubicBezTo>
                <a:cubicBezTo>
                  <a:pt x="8239" y="10405"/>
                  <a:pt x="8218" y="10436"/>
                  <a:pt x="8210" y="10492"/>
                </a:cubicBezTo>
              </a:path>
              <a:path w="1961" h="1440">
                <a:moveTo>
                  <a:pt x="8409" y="10120"/>
                </a:moveTo>
                <a:cubicBezTo>
                  <a:pt x="8409" y="10197"/>
                  <a:pt x="8401" y="10271"/>
                  <a:pt x="8384" y="10344"/>
                </a:cubicBezTo>
                <a:cubicBezTo>
                  <a:pt x="8363" y="10432"/>
                  <a:pt x="8290" y="10482"/>
                  <a:pt x="8260" y="10567"/>
                </a:cubicBezTo>
                <a:cubicBezTo>
                  <a:pt x="8260" y="10602"/>
                  <a:pt x="8255" y="10619"/>
                  <a:pt x="8235" y="10641"/>
                </a:cubicBezTo>
              </a:path>
              <a:path w="1961" h="1440">
                <a:moveTo>
                  <a:pt x="8384" y="10567"/>
                </a:moveTo>
                <a:cubicBezTo>
                  <a:pt x="8309" y="10629"/>
                  <a:pt x="8346" y="10615"/>
                  <a:pt x="8359" y="10691"/>
                </a:cubicBezTo>
                <a:cubicBezTo>
                  <a:pt x="8411" y="10665"/>
                  <a:pt x="8408" y="10641"/>
                  <a:pt x="8483" y="10641"/>
                </a:cubicBezTo>
                <a:cubicBezTo>
                  <a:pt x="8491" y="10641"/>
                  <a:pt x="8500" y="10641"/>
                  <a:pt x="8508" y="10641"/>
                </a:cubicBezTo>
              </a:path>
              <a:path w="1961" h="1440">
                <a:moveTo>
                  <a:pt x="8682" y="10418"/>
                </a:moveTo>
                <a:cubicBezTo>
                  <a:pt x="8728" y="10496"/>
                  <a:pt x="8691" y="10554"/>
                  <a:pt x="8682" y="10641"/>
                </a:cubicBezTo>
                <a:cubicBezTo>
                  <a:pt x="8667" y="10778"/>
                  <a:pt x="8682" y="10925"/>
                  <a:pt x="8682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5616720"/>
            <a:ext cx="1440" cy="80640"/>
          </a:xfrm>
          <a:custGeom>
            <a:avLst/>
            <a:gdLst/>
            <a:ahLst/>
            <a:rect l="l" t="t" r="r" b="b"/>
            <a:pathLst>
              <a:path w="1" h="224">
                <a:moveTo>
                  <a:pt x="3175" y="15602"/>
                </a:moveTo>
                <a:cubicBezTo>
                  <a:pt x="3175" y="15676"/>
                  <a:pt x="3175" y="15751"/>
                  <a:pt x="3175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9000" y="5813280"/>
            <a:ext cx="189000" cy="133560"/>
          </a:xfrm>
          <a:custGeom>
            <a:avLst/>
            <a:gdLst/>
            <a:ahLst/>
            <a:rect l="l" t="t" r="r" b="b"/>
            <a:pathLst>
              <a:path w="522" h="373">
                <a:moveTo>
                  <a:pt x="3026" y="16173"/>
                </a:moveTo>
                <a:cubicBezTo>
                  <a:pt x="3081" y="16184"/>
                  <a:pt x="3116" y="16197"/>
                  <a:pt x="3175" y="16197"/>
                </a:cubicBezTo>
              </a:path>
              <a:path w="522" h="373">
                <a:moveTo>
                  <a:pt x="3398" y="16148"/>
                </a:moveTo>
                <a:cubicBezTo>
                  <a:pt x="3416" y="16207"/>
                  <a:pt x="3433" y="16270"/>
                  <a:pt x="3448" y="16321"/>
                </a:cubicBezTo>
                <a:cubicBezTo>
                  <a:pt x="3448" y="16346"/>
                  <a:pt x="3448" y="16354"/>
                  <a:pt x="3448" y="16371"/>
                </a:cubicBezTo>
              </a:path>
              <a:path w="522" h="373">
                <a:moveTo>
                  <a:pt x="3547" y="16321"/>
                </a:moveTo>
                <a:cubicBezTo>
                  <a:pt x="3508" y="16436"/>
                  <a:pt x="3492" y="16450"/>
                  <a:pt x="3497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70320" y="3456000"/>
            <a:ext cx="258840" cy="419040"/>
          </a:xfrm>
          <a:custGeom>
            <a:avLst/>
            <a:gdLst/>
            <a:ahLst/>
            <a:rect l="l" t="t" r="r" b="b"/>
            <a:pathLst>
              <a:path w="720" h="1167">
                <a:moveTo>
                  <a:pt x="14362" y="10046"/>
                </a:moveTo>
                <a:cubicBezTo>
                  <a:pt x="14431" y="9957"/>
                  <a:pt x="14411" y="9971"/>
                  <a:pt x="14511" y="9971"/>
                </a:cubicBezTo>
                <a:cubicBezTo>
                  <a:pt x="14542" y="9971"/>
                  <a:pt x="14614" y="10005"/>
                  <a:pt x="14610" y="10046"/>
                </a:cubicBezTo>
                <a:cubicBezTo>
                  <a:pt x="14607" y="10081"/>
                  <a:pt x="14574" y="10132"/>
                  <a:pt x="14536" y="10145"/>
                </a:cubicBezTo>
                <a:cubicBezTo>
                  <a:pt x="14500" y="10157"/>
                  <a:pt x="14483" y="10195"/>
                  <a:pt x="14511" y="10195"/>
                </a:cubicBezTo>
                <a:cubicBezTo>
                  <a:pt x="14552" y="10195"/>
                  <a:pt x="14594" y="10195"/>
                  <a:pt x="14635" y="10195"/>
                </a:cubicBezTo>
                <a:cubicBezTo>
                  <a:pt x="14635" y="10229"/>
                  <a:pt x="14632" y="10288"/>
                  <a:pt x="14610" y="10294"/>
                </a:cubicBezTo>
                <a:cubicBezTo>
                  <a:pt x="14548" y="10311"/>
                  <a:pt x="14551" y="10344"/>
                  <a:pt x="14486" y="10344"/>
                </a:cubicBezTo>
                <a:cubicBezTo>
                  <a:pt x="14403" y="10344"/>
                  <a:pt x="14413" y="10332"/>
                  <a:pt x="14362" y="10269"/>
                </a:cubicBezTo>
              </a:path>
              <a:path w="720" h="1167">
                <a:moveTo>
                  <a:pt x="14858" y="9996"/>
                </a:moveTo>
                <a:cubicBezTo>
                  <a:pt x="14819" y="10114"/>
                  <a:pt x="14775" y="10227"/>
                  <a:pt x="14734" y="10344"/>
                </a:cubicBezTo>
                <a:cubicBezTo>
                  <a:pt x="14705" y="10428"/>
                  <a:pt x="14626" y="10496"/>
                  <a:pt x="14610" y="10567"/>
                </a:cubicBezTo>
                <a:cubicBezTo>
                  <a:pt x="14598" y="10621"/>
                  <a:pt x="14566" y="10691"/>
                  <a:pt x="14560" y="10740"/>
                </a:cubicBezTo>
                <a:cubicBezTo>
                  <a:pt x="14560" y="10765"/>
                  <a:pt x="14560" y="10773"/>
                  <a:pt x="14536" y="10765"/>
                </a:cubicBezTo>
              </a:path>
              <a:path w="720" h="1167">
                <a:moveTo>
                  <a:pt x="14908" y="10418"/>
                </a:moveTo>
                <a:cubicBezTo>
                  <a:pt x="15002" y="10521"/>
                  <a:pt x="15034" y="10583"/>
                  <a:pt x="14858" y="10641"/>
                </a:cubicBezTo>
                <a:cubicBezTo>
                  <a:pt x="14841" y="10641"/>
                  <a:pt x="14825" y="10641"/>
                  <a:pt x="14808" y="10641"/>
                </a:cubicBezTo>
                <a:cubicBezTo>
                  <a:pt x="14808" y="10721"/>
                  <a:pt x="14805" y="10705"/>
                  <a:pt x="14858" y="10740"/>
                </a:cubicBezTo>
                <a:cubicBezTo>
                  <a:pt x="14918" y="10780"/>
                  <a:pt x="14965" y="10769"/>
                  <a:pt x="15032" y="10740"/>
                </a:cubicBezTo>
                <a:cubicBezTo>
                  <a:pt x="15048" y="10732"/>
                  <a:pt x="15065" y="10724"/>
                  <a:pt x="15081" y="10716"/>
                </a:cubicBezTo>
              </a:path>
              <a:path w="720" h="1167">
                <a:moveTo>
                  <a:pt x="14858" y="9599"/>
                </a:moveTo>
                <a:cubicBezTo>
                  <a:pt x="14837" y="9683"/>
                  <a:pt x="14825" y="9761"/>
                  <a:pt x="14808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7240" y="2116080"/>
            <a:ext cx="71640" cy="46080"/>
          </a:xfrm>
          <a:custGeom>
            <a:avLst/>
            <a:gdLst/>
            <a:ahLst/>
            <a:rect l="l" t="t" r="r" b="b"/>
            <a:pathLst>
              <a:path w="199" h="125">
                <a:moveTo>
                  <a:pt x="15032" y="5928"/>
                </a:moveTo>
                <a:cubicBezTo>
                  <a:pt x="14980" y="6022"/>
                  <a:pt x="14958" y="6003"/>
                  <a:pt x="15032" y="6003"/>
                </a:cubicBezTo>
                <a:cubicBezTo>
                  <a:pt x="15044" y="5966"/>
                  <a:pt x="15056" y="5981"/>
                  <a:pt x="15056" y="5928"/>
                </a:cubicBezTo>
                <a:cubicBezTo>
                  <a:pt x="15056" y="5904"/>
                  <a:pt x="15056" y="5895"/>
                  <a:pt x="15056" y="5879"/>
                </a:cubicBezTo>
                <a:cubicBezTo>
                  <a:pt x="14994" y="5879"/>
                  <a:pt x="15013" y="5908"/>
                  <a:pt x="14982" y="5928"/>
                </a:cubicBezTo>
                <a:cubicBezTo>
                  <a:pt x="14949" y="5949"/>
                  <a:pt x="14950" y="5972"/>
                  <a:pt x="15007" y="5978"/>
                </a:cubicBezTo>
                <a:cubicBezTo>
                  <a:pt x="15066" y="5985"/>
                  <a:pt x="15057" y="5964"/>
                  <a:pt x="15081" y="5928"/>
                </a:cubicBezTo>
                <a:cubicBezTo>
                  <a:pt x="15089" y="5920"/>
                  <a:pt x="15098" y="5912"/>
                  <a:pt x="15106" y="5904"/>
                </a:cubicBezTo>
                <a:cubicBezTo>
                  <a:pt x="15061" y="5870"/>
                  <a:pt x="15036" y="5869"/>
                  <a:pt x="14982" y="5904"/>
                </a:cubicBezTo>
                <a:cubicBezTo>
                  <a:pt x="14948" y="5926"/>
                  <a:pt x="14921" y="5937"/>
                  <a:pt x="14908" y="5978"/>
                </a:cubicBezTo>
                <a:cubicBezTo>
                  <a:pt x="14908" y="5986"/>
                  <a:pt x="14908" y="5995"/>
                  <a:pt x="14908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3080" y="2035080"/>
            <a:ext cx="5045040" cy="3251160"/>
          </a:xfrm>
          <a:custGeom>
            <a:avLst/>
            <a:gdLst/>
            <a:ahLst/>
            <a:rect l="l" t="t" r="r" b="b"/>
            <a:pathLst>
              <a:path w="14016" h="9030">
                <a:moveTo>
                  <a:pt x="5953" y="12353"/>
                </a:moveTo>
                <a:cubicBezTo>
                  <a:pt x="5983" y="12561"/>
                  <a:pt x="5985" y="12731"/>
                  <a:pt x="6052" y="12923"/>
                </a:cubicBezTo>
                <a:cubicBezTo>
                  <a:pt x="6072" y="12981"/>
                  <a:pt x="6099" y="13061"/>
                  <a:pt x="6127" y="13122"/>
                </a:cubicBezTo>
                <a:cubicBezTo>
                  <a:pt x="6154" y="13181"/>
                  <a:pt x="6193" y="13266"/>
                  <a:pt x="6226" y="13320"/>
                </a:cubicBezTo>
                <a:cubicBezTo>
                  <a:pt x="6270" y="13392"/>
                  <a:pt x="6341" y="13481"/>
                  <a:pt x="6400" y="13543"/>
                </a:cubicBezTo>
                <a:cubicBezTo>
                  <a:pt x="6548" y="13698"/>
                  <a:pt x="6654" y="13777"/>
                  <a:pt x="6871" y="13767"/>
                </a:cubicBezTo>
                <a:cubicBezTo>
                  <a:pt x="6912" y="13765"/>
                  <a:pt x="6980" y="13721"/>
                  <a:pt x="6995" y="13717"/>
                </a:cubicBezTo>
                <a:cubicBezTo>
                  <a:pt x="7037" y="13705"/>
                  <a:pt x="7075" y="13677"/>
                  <a:pt x="7094" y="13667"/>
                </a:cubicBezTo>
                <a:cubicBezTo>
                  <a:pt x="7146" y="13640"/>
                  <a:pt x="7196" y="13614"/>
                  <a:pt x="7243" y="13568"/>
                </a:cubicBezTo>
                <a:cubicBezTo>
                  <a:pt x="7337" y="13476"/>
                  <a:pt x="7361" y="13376"/>
                  <a:pt x="7417" y="13271"/>
                </a:cubicBezTo>
                <a:cubicBezTo>
                  <a:pt x="7448" y="13213"/>
                  <a:pt x="7467" y="13152"/>
                  <a:pt x="7491" y="13097"/>
                </a:cubicBezTo>
                <a:cubicBezTo>
                  <a:pt x="7508" y="13058"/>
                  <a:pt x="7525" y="13016"/>
                  <a:pt x="7541" y="12973"/>
                </a:cubicBezTo>
                <a:cubicBezTo>
                  <a:pt x="7558" y="12928"/>
                  <a:pt x="7575" y="12872"/>
                  <a:pt x="7590" y="12824"/>
                </a:cubicBezTo>
                <a:cubicBezTo>
                  <a:pt x="7608" y="12768"/>
                  <a:pt x="7625" y="12707"/>
                  <a:pt x="7640" y="12650"/>
                </a:cubicBezTo>
                <a:cubicBezTo>
                  <a:pt x="7670" y="12533"/>
                  <a:pt x="7693" y="12419"/>
                  <a:pt x="7714" y="12303"/>
                </a:cubicBezTo>
                <a:cubicBezTo>
                  <a:pt x="7731" y="12205"/>
                  <a:pt x="7749" y="12103"/>
                  <a:pt x="7764" y="12005"/>
                </a:cubicBezTo>
                <a:cubicBezTo>
                  <a:pt x="7780" y="11905"/>
                  <a:pt x="7793" y="11807"/>
                  <a:pt x="7813" y="11708"/>
                </a:cubicBezTo>
                <a:cubicBezTo>
                  <a:pt x="7826" y="11642"/>
                  <a:pt x="7826" y="11575"/>
                  <a:pt x="7838" y="11509"/>
                </a:cubicBezTo>
                <a:cubicBezTo>
                  <a:pt x="7851" y="11435"/>
                  <a:pt x="7874" y="11360"/>
                  <a:pt x="7888" y="11286"/>
                </a:cubicBezTo>
                <a:cubicBezTo>
                  <a:pt x="7905" y="11197"/>
                  <a:pt x="7923" y="11105"/>
                  <a:pt x="7938" y="11013"/>
                </a:cubicBezTo>
                <a:cubicBezTo>
                  <a:pt x="7951" y="10931"/>
                  <a:pt x="7950" y="10849"/>
                  <a:pt x="7962" y="10765"/>
                </a:cubicBezTo>
                <a:cubicBezTo>
                  <a:pt x="7979" y="10649"/>
                  <a:pt x="7997" y="10530"/>
                  <a:pt x="8012" y="10418"/>
                </a:cubicBezTo>
                <a:cubicBezTo>
                  <a:pt x="8026" y="10319"/>
                  <a:pt x="8050" y="10219"/>
                  <a:pt x="8062" y="10120"/>
                </a:cubicBezTo>
                <a:cubicBezTo>
                  <a:pt x="8106" y="9756"/>
                  <a:pt x="8121" y="9392"/>
                  <a:pt x="8161" y="9029"/>
                </a:cubicBezTo>
                <a:cubicBezTo>
                  <a:pt x="8171" y="8943"/>
                  <a:pt x="8198" y="8827"/>
                  <a:pt x="8210" y="8731"/>
                </a:cubicBezTo>
                <a:cubicBezTo>
                  <a:pt x="8220" y="8648"/>
                  <a:pt x="8220" y="8570"/>
                  <a:pt x="8235" y="8483"/>
                </a:cubicBezTo>
                <a:cubicBezTo>
                  <a:pt x="8249" y="8402"/>
                  <a:pt x="8269" y="8316"/>
                  <a:pt x="8285" y="8235"/>
                </a:cubicBezTo>
                <a:cubicBezTo>
                  <a:pt x="8303" y="8147"/>
                  <a:pt x="8336" y="8053"/>
                  <a:pt x="8359" y="7962"/>
                </a:cubicBezTo>
                <a:cubicBezTo>
                  <a:pt x="8378" y="7887"/>
                  <a:pt x="8387" y="7814"/>
                  <a:pt x="8409" y="7739"/>
                </a:cubicBezTo>
                <a:cubicBezTo>
                  <a:pt x="8433" y="7657"/>
                  <a:pt x="8456" y="7573"/>
                  <a:pt x="8483" y="7491"/>
                </a:cubicBezTo>
                <a:cubicBezTo>
                  <a:pt x="8523" y="7368"/>
                  <a:pt x="8561" y="7236"/>
                  <a:pt x="8607" y="7119"/>
                </a:cubicBezTo>
                <a:cubicBezTo>
                  <a:pt x="8668" y="6962"/>
                  <a:pt x="8748" y="6819"/>
                  <a:pt x="8806" y="6672"/>
                </a:cubicBezTo>
                <a:cubicBezTo>
                  <a:pt x="8863" y="6527"/>
                  <a:pt x="8925" y="6383"/>
                  <a:pt x="8979" y="6251"/>
                </a:cubicBezTo>
                <a:cubicBezTo>
                  <a:pt x="8996" y="6210"/>
                  <a:pt x="8983" y="6140"/>
                  <a:pt x="9004" y="6102"/>
                </a:cubicBezTo>
                <a:cubicBezTo>
                  <a:pt x="9025" y="6063"/>
                  <a:pt x="9054" y="6042"/>
                  <a:pt x="9079" y="6003"/>
                </a:cubicBezTo>
                <a:cubicBezTo>
                  <a:pt x="9116" y="5944"/>
                  <a:pt x="9159" y="5872"/>
                  <a:pt x="9203" y="5829"/>
                </a:cubicBezTo>
                <a:cubicBezTo>
                  <a:pt x="9263" y="5770"/>
                  <a:pt x="9288" y="5736"/>
                  <a:pt x="9376" y="5705"/>
                </a:cubicBezTo>
                <a:cubicBezTo>
                  <a:pt x="9416" y="5691"/>
                  <a:pt x="9456" y="5657"/>
                  <a:pt x="9500" y="5655"/>
                </a:cubicBezTo>
                <a:cubicBezTo>
                  <a:pt x="9577" y="5652"/>
                  <a:pt x="9633" y="5685"/>
                  <a:pt x="9699" y="5705"/>
                </a:cubicBezTo>
                <a:cubicBezTo>
                  <a:pt x="9739" y="5717"/>
                  <a:pt x="9761" y="5736"/>
                  <a:pt x="9798" y="5755"/>
                </a:cubicBezTo>
                <a:cubicBezTo>
                  <a:pt x="9840" y="5777"/>
                  <a:pt x="9872" y="5809"/>
                  <a:pt x="9897" y="5829"/>
                </a:cubicBezTo>
                <a:cubicBezTo>
                  <a:pt x="9934" y="5858"/>
                  <a:pt x="9979" y="5909"/>
                  <a:pt x="9996" y="5928"/>
                </a:cubicBezTo>
                <a:cubicBezTo>
                  <a:pt x="10033" y="5968"/>
                  <a:pt x="10061" y="6028"/>
                  <a:pt x="10096" y="6077"/>
                </a:cubicBezTo>
                <a:cubicBezTo>
                  <a:pt x="10120" y="6110"/>
                  <a:pt x="10148" y="6140"/>
                  <a:pt x="10170" y="6176"/>
                </a:cubicBezTo>
                <a:cubicBezTo>
                  <a:pt x="10200" y="6224"/>
                  <a:pt x="10215" y="6298"/>
                  <a:pt x="10244" y="6350"/>
                </a:cubicBezTo>
                <a:cubicBezTo>
                  <a:pt x="10275" y="6406"/>
                  <a:pt x="10293" y="6448"/>
                  <a:pt x="10319" y="6499"/>
                </a:cubicBezTo>
                <a:cubicBezTo>
                  <a:pt x="10346" y="6551"/>
                  <a:pt x="10371" y="6600"/>
                  <a:pt x="10393" y="6648"/>
                </a:cubicBezTo>
                <a:cubicBezTo>
                  <a:pt x="10420" y="6708"/>
                  <a:pt x="10442" y="6783"/>
                  <a:pt x="10468" y="6846"/>
                </a:cubicBezTo>
                <a:cubicBezTo>
                  <a:pt x="10519" y="6972"/>
                  <a:pt x="10558" y="7090"/>
                  <a:pt x="10592" y="7218"/>
                </a:cubicBezTo>
                <a:cubicBezTo>
                  <a:pt x="10609" y="7282"/>
                  <a:pt x="10627" y="7353"/>
                  <a:pt x="10641" y="7417"/>
                </a:cubicBezTo>
                <a:cubicBezTo>
                  <a:pt x="10681" y="7607"/>
                  <a:pt x="10707" y="7795"/>
                  <a:pt x="10740" y="7987"/>
                </a:cubicBezTo>
                <a:cubicBezTo>
                  <a:pt x="10753" y="8063"/>
                  <a:pt x="10751" y="8135"/>
                  <a:pt x="10765" y="8210"/>
                </a:cubicBezTo>
                <a:cubicBezTo>
                  <a:pt x="10782" y="8304"/>
                  <a:pt x="10802" y="8390"/>
                  <a:pt x="10815" y="8483"/>
                </a:cubicBezTo>
                <a:cubicBezTo>
                  <a:pt x="10829" y="8582"/>
                  <a:pt x="10850" y="8682"/>
                  <a:pt x="10864" y="8781"/>
                </a:cubicBezTo>
                <a:cubicBezTo>
                  <a:pt x="10876" y="8863"/>
                  <a:pt x="10876" y="8930"/>
                  <a:pt x="10889" y="9004"/>
                </a:cubicBezTo>
                <a:cubicBezTo>
                  <a:pt x="10906" y="9102"/>
                  <a:pt x="10919" y="9205"/>
                  <a:pt x="10939" y="9302"/>
                </a:cubicBezTo>
                <a:cubicBezTo>
                  <a:pt x="10951" y="9359"/>
                  <a:pt x="10976" y="9434"/>
                  <a:pt x="10988" y="9500"/>
                </a:cubicBezTo>
                <a:cubicBezTo>
                  <a:pt x="11003" y="9581"/>
                  <a:pt x="11019" y="9670"/>
                  <a:pt x="11038" y="9748"/>
                </a:cubicBezTo>
                <a:cubicBezTo>
                  <a:pt x="11062" y="9847"/>
                  <a:pt x="11091" y="9945"/>
                  <a:pt x="11112" y="10046"/>
                </a:cubicBezTo>
                <a:cubicBezTo>
                  <a:pt x="11129" y="10127"/>
                  <a:pt x="11149" y="10208"/>
                  <a:pt x="11162" y="10294"/>
                </a:cubicBezTo>
                <a:cubicBezTo>
                  <a:pt x="11176" y="10387"/>
                  <a:pt x="11177" y="10472"/>
                  <a:pt x="11187" y="10567"/>
                </a:cubicBezTo>
                <a:cubicBezTo>
                  <a:pt x="11204" y="10725"/>
                  <a:pt x="11207" y="10880"/>
                  <a:pt x="11212" y="11038"/>
                </a:cubicBezTo>
                <a:cubicBezTo>
                  <a:pt x="11221" y="11336"/>
                  <a:pt x="11231" y="11611"/>
                  <a:pt x="11261" y="11906"/>
                </a:cubicBezTo>
                <a:cubicBezTo>
                  <a:pt x="11269" y="11985"/>
                  <a:pt x="11279" y="12051"/>
                  <a:pt x="11286" y="12129"/>
                </a:cubicBezTo>
                <a:cubicBezTo>
                  <a:pt x="11298" y="12261"/>
                  <a:pt x="11323" y="12398"/>
                  <a:pt x="11336" y="12526"/>
                </a:cubicBezTo>
                <a:cubicBezTo>
                  <a:pt x="11350" y="12671"/>
                  <a:pt x="11365" y="12807"/>
                  <a:pt x="11385" y="12948"/>
                </a:cubicBezTo>
                <a:cubicBezTo>
                  <a:pt x="11396" y="13026"/>
                  <a:pt x="11397" y="13095"/>
                  <a:pt x="11410" y="13171"/>
                </a:cubicBezTo>
                <a:cubicBezTo>
                  <a:pt x="11425" y="13254"/>
                  <a:pt x="11445" y="13345"/>
                  <a:pt x="11460" y="13419"/>
                </a:cubicBezTo>
                <a:cubicBezTo>
                  <a:pt x="11475" y="13494"/>
                  <a:pt x="11493" y="13568"/>
                  <a:pt x="11509" y="13643"/>
                </a:cubicBezTo>
                <a:cubicBezTo>
                  <a:pt x="11523" y="13706"/>
                  <a:pt x="11517" y="13758"/>
                  <a:pt x="11534" y="13816"/>
                </a:cubicBezTo>
                <a:cubicBezTo>
                  <a:pt x="11544" y="13849"/>
                  <a:pt x="11545" y="13908"/>
                  <a:pt x="11559" y="13940"/>
                </a:cubicBezTo>
                <a:cubicBezTo>
                  <a:pt x="11573" y="13972"/>
                  <a:pt x="11594" y="14008"/>
                  <a:pt x="11609" y="14039"/>
                </a:cubicBezTo>
                <a:cubicBezTo>
                  <a:pt x="11632" y="14086"/>
                  <a:pt x="11652" y="14148"/>
                  <a:pt x="11683" y="14188"/>
                </a:cubicBezTo>
                <a:cubicBezTo>
                  <a:pt x="11708" y="14221"/>
                  <a:pt x="11726" y="14234"/>
                  <a:pt x="11757" y="14263"/>
                </a:cubicBezTo>
                <a:cubicBezTo>
                  <a:pt x="11832" y="14335"/>
                  <a:pt x="11907" y="14389"/>
                  <a:pt x="12005" y="14412"/>
                </a:cubicBezTo>
                <a:cubicBezTo>
                  <a:pt x="12082" y="14430"/>
                  <a:pt x="12126" y="14434"/>
                  <a:pt x="12204" y="14412"/>
                </a:cubicBezTo>
                <a:cubicBezTo>
                  <a:pt x="12302" y="14385"/>
                  <a:pt x="12303" y="14345"/>
                  <a:pt x="12378" y="14288"/>
                </a:cubicBezTo>
                <a:cubicBezTo>
                  <a:pt x="12526" y="14175"/>
                  <a:pt x="12630" y="13949"/>
                  <a:pt x="12725" y="13791"/>
                </a:cubicBezTo>
                <a:cubicBezTo>
                  <a:pt x="12763" y="13728"/>
                  <a:pt x="12787" y="13660"/>
                  <a:pt x="12824" y="13593"/>
                </a:cubicBezTo>
                <a:cubicBezTo>
                  <a:pt x="13263" y="12799"/>
                  <a:pt x="13453" y="12082"/>
                  <a:pt x="13568" y="11187"/>
                </a:cubicBezTo>
                <a:cubicBezTo>
                  <a:pt x="13582" y="11079"/>
                  <a:pt x="13581" y="10973"/>
                  <a:pt x="13593" y="10864"/>
                </a:cubicBezTo>
                <a:cubicBezTo>
                  <a:pt x="13606" y="10741"/>
                  <a:pt x="13628" y="10615"/>
                  <a:pt x="13643" y="10492"/>
                </a:cubicBezTo>
                <a:cubicBezTo>
                  <a:pt x="13655" y="10392"/>
                  <a:pt x="13678" y="10294"/>
                  <a:pt x="13692" y="10195"/>
                </a:cubicBezTo>
                <a:cubicBezTo>
                  <a:pt x="13708" y="10079"/>
                  <a:pt x="13726" y="9965"/>
                  <a:pt x="13742" y="9847"/>
                </a:cubicBezTo>
                <a:cubicBezTo>
                  <a:pt x="13759" y="9723"/>
                  <a:pt x="13769" y="9601"/>
                  <a:pt x="13791" y="9475"/>
                </a:cubicBezTo>
                <a:cubicBezTo>
                  <a:pt x="13805" y="9393"/>
                  <a:pt x="13822" y="9270"/>
                  <a:pt x="13841" y="9178"/>
                </a:cubicBezTo>
                <a:cubicBezTo>
                  <a:pt x="13862" y="9076"/>
                  <a:pt x="13898" y="8982"/>
                  <a:pt x="13915" y="8880"/>
                </a:cubicBezTo>
                <a:cubicBezTo>
                  <a:pt x="13931" y="8780"/>
                  <a:pt x="13946" y="8682"/>
                  <a:pt x="13965" y="8582"/>
                </a:cubicBezTo>
                <a:cubicBezTo>
                  <a:pt x="13981" y="8496"/>
                  <a:pt x="13994" y="8425"/>
                  <a:pt x="14015" y="8334"/>
                </a:cubicBezTo>
                <a:cubicBezTo>
                  <a:pt x="14038" y="8238"/>
                  <a:pt x="14064" y="8157"/>
                  <a:pt x="14089" y="8062"/>
                </a:cubicBezTo>
                <a:cubicBezTo>
                  <a:pt x="14115" y="7966"/>
                  <a:pt x="14131" y="7884"/>
                  <a:pt x="14163" y="7789"/>
                </a:cubicBezTo>
                <a:cubicBezTo>
                  <a:pt x="14194" y="7695"/>
                  <a:pt x="14205" y="7607"/>
                  <a:pt x="14238" y="7516"/>
                </a:cubicBezTo>
                <a:cubicBezTo>
                  <a:pt x="14275" y="7413"/>
                  <a:pt x="14345" y="7277"/>
                  <a:pt x="14387" y="7169"/>
                </a:cubicBezTo>
                <a:cubicBezTo>
                  <a:pt x="14443" y="7025"/>
                  <a:pt x="14514" y="6891"/>
                  <a:pt x="14560" y="6747"/>
                </a:cubicBezTo>
                <a:cubicBezTo>
                  <a:pt x="14579" y="6689"/>
                  <a:pt x="14591" y="6636"/>
                  <a:pt x="14610" y="6573"/>
                </a:cubicBezTo>
                <a:cubicBezTo>
                  <a:pt x="14630" y="6507"/>
                  <a:pt x="14634" y="6447"/>
                  <a:pt x="14660" y="6375"/>
                </a:cubicBezTo>
                <a:cubicBezTo>
                  <a:pt x="14679" y="6321"/>
                  <a:pt x="14683" y="6283"/>
                  <a:pt x="14709" y="6226"/>
                </a:cubicBezTo>
                <a:cubicBezTo>
                  <a:pt x="14744" y="6151"/>
                  <a:pt x="14761" y="6071"/>
                  <a:pt x="14808" y="6028"/>
                </a:cubicBezTo>
                <a:cubicBezTo>
                  <a:pt x="14848" y="5991"/>
                  <a:pt x="14834" y="5982"/>
                  <a:pt x="14883" y="5953"/>
                </a:cubicBezTo>
                <a:cubicBezTo>
                  <a:pt x="14925" y="5928"/>
                  <a:pt x="14960" y="5944"/>
                  <a:pt x="15007" y="5928"/>
                </a:cubicBezTo>
                <a:cubicBezTo>
                  <a:pt x="15217" y="5858"/>
                  <a:pt x="15351" y="5934"/>
                  <a:pt x="15503" y="6052"/>
                </a:cubicBezTo>
                <a:cubicBezTo>
                  <a:pt x="15536" y="6078"/>
                  <a:pt x="15570" y="6165"/>
                  <a:pt x="15602" y="6201"/>
                </a:cubicBezTo>
                <a:cubicBezTo>
                  <a:pt x="15709" y="6320"/>
                  <a:pt x="15785" y="6456"/>
                  <a:pt x="15850" y="6598"/>
                </a:cubicBezTo>
                <a:cubicBezTo>
                  <a:pt x="15885" y="6674"/>
                  <a:pt x="15918" y="6744"/>
                  <a:pt x="15949" y="6821"/>
                </a:cubicBezTo>
                <a:cubicBezTo>
                  <a:pt x="15971" y="6876"/>
                  <a:pt x="15980" y="6938"/>
                  <a:pt x="15999" y="6995"/>
                </a:cubicBezTo>
                <a:cubicBezTo>
                  <a:pt x="16025" y="7074"/>
                  <a:pt x="16051" y="7161"/>
                  <a:pt x="16073" y="7243"/>
                </a:cubicBezTo>
                <a:cubicBezTo>
                  <a:pt x="16092" y="7315"/>
                  <a:pt x="16105" y="7393"/>
                  <a:pt x="16123" y="7466"/>
                </a:cubicBezTo>
                <a:cubicBezTo>
                  <a:pt x="16143" y="7549"/>
                  <a:pt x="16154" y="7631"/>
                  <a:pt x="16173" y="7714"/>
                </a:cubicBezTo>
                <a:cubicBezTo>
                  <a:pt x="16190" y="7787"/>
                  <a:pt x="16205" y="7865"/>
                  <a:pt x="16222" y="7938"/>
                </a:cubicBezTo>
                <a:cubicBezTo>
                  <a:pt x="16272" y="8150"/>
                  <a:pt x="16314" y="8346"/>
                  <a:pt x="16346" y="8558"/>
                </a:cubicBezTo>
                <a:cubicBezTo>
                  <a:pt x="16365" y="8682"/>
                  <a:pt x="16384" y="8805"/>
                  <a:pt x="16396" y="8930"/>
                </a:cubicBezTo>
                <a:cubicBezTo>
                  <a:pt x="16404" y="9015"/>
                  <a:pt x="16413" y="9093"/>
                  <a:pt x="16421" y="9178"/>
                </a:cubicBezTo>
                <a:cubicBezTo>
                  <a:pt x="16438" y="9368"/>
                  <a:pt x="16427" y="9557"/>
                  <a:pt x="16446" y="9748"/>
                </a:cubicBezTo>
                <a:cubicBezTo>
                  <a:pt x="16459" y="9882"/>
                  <a:pt x="16484" y="10018"/>
                  <a:pt x="16495" y="10145"/>
                </a:cubicBezTo>
                <a:cubicBezTo>
                  <a:pt x="16510" y="10311"/>
                  <a:pt x="16525" y="10478"/>
                  <a:pt x="16545" y="10641"/>
                </a:cubicBezTo>
                <a:cubicBezTo>
                  <a:pt x="16555" y="10724"/>
                  <a:pt x="16557" y="10805"/>
                  <a:pt x="16570" y="10889"/>
                </a:cubicBezTo>
                <a:cubicBezTo>
                  <a:pt x="16586" y="10986"/>
                  <a:pt x="16599" y="11091"/>
                  <a:pt x="16619" y="11187"/>
                </a:cubicBezTo>
                <a:cubicBezTo>
                  <a:pt x="16637" y="11270"/>
                  <a:pt x="16651" y="11353"/>
                  <a:pt x="16669" y="11435"/>
                </a:cubicBezTo>
                <a:cubicBezTo>
                  <a:pt x="16701" y="11584"/>
                  <a:pt x="16756" y="11736"/>
                  <a:pt x="16793" y="11881"/>
                </a:cubicBezTo>
                <a:cubicBezTo>
                  <a:pt x="16819" y="11982"/>
                  <a:pt x="16839" y="12076"/>
                  <a:pt x="16867" y="12179"/>
                </a:cubicBezTo>
                <a:cubicBezTo>
                  <a:pt x="16889" y="12261"/>
                  <a:pt x="16896" y="12346"/>
                  <a:pt x="16917" y="12427"/>
                </a:cubicBezTo>
                <a:cubicBezTo>
                  <a:pt x="16941" y="12520"/>
                  <a:pt x="16967" y="12610"/>
                  <a:pt x="16991" y="12700"/>
                </a:cubicBezTo>
                <a:cubicBezTo>
                  <a:pt x="17012" y="12780"/>
                  <a:pt x="17044" y="12846"/>
                  <a:pt x="17066" y="12923"/>
                </a:cubicBezTo>
                <a:cubicBezTo>
                  <a:pt x="17094" y="13020"/>
                  <a:pt x="17112" y="13121"/>
                  <a:pt x="17140" y="13221"/>
                </a:cubicBezTo>
                <a:cubicBezTo>
                  <a:pt x="17155" y="13272"/>
                  <a:pt x="17174" y="13338"/>
                  <a:pt x="17190" y="13395"/>
                </a:cubicBezTo>
                <a:cubicBezTo>
                  <a:pt x="17210" y="13468"/>
                  <a:pt x="17222" y="13544"/>
                  <a:pt x="17239" y="13618"/>
                </a:cubicBezTo>
                <a:cubicBezTo>
                  <a:pt x="17250" y="13667"/>
                  <a:pt x="17274" y="13736"/>
                  <a:pt x="17289" y="13791"/>
                </a:cubicBezTo>
                <a:cubicBezTo>
                  <a:pt x="17314" y="13883"/>
                  <a:pt x="17328" y="13976"/>
                  <a:pt x="17363" y="14064"/>
                </a:cubicBezTo>
                <a:cubicBezTo>
                  <a:pt x="17378" y="14101"/>
                  <a:pt x="17395" y="14127"/>
                  <a:pt x="17413" y="14163"/>
                </a:cubicBezTo>
                <a:cubicBezTo>
                  <a:pt x="17433" y="14204"/>
                  <a:pt x="17443" y="14233"/>
                  <a:pt x="17462" y="14263"/>
                </a:cubicBezTo>
                <a:cubicBezTo>
                  <a:pt x="17486" y="14301"/>
                  <a:pt x="17507" y="14325"/>
                  <a:pt x="17537" y="14362"/>
                </a:cubicBezTo>
                <a:cubicBezTo>
                  <a:pt x="17570" y="14403"/>
                  <a:pt x="17570" y="14425"/>
                  <a:pt x="17611" y="14461"/>
                </a:cubicBezTo>
                <a:cubicBezTo>
                  <a:pt x="17648" y="14494"/>
                  <a:pt x="17673" y="14510"/>
                  <a:pt x="17711" y="14536"/>
                </a:cubicBezTo>
                <a:cubicBezTo>
                  <a:pt x="17816" y="14607"/>
                  <a:pt x="17934" y="14674"/>
                  <a:pt x="18058" y="14684"/>
                </a:cubicBezTo>
                <a:cubicBezTo>
                  <a:pt x="18210" y="14697"/>
                  <a:pt x="18313" y="14637"/>
                  <a:pt x="18455" y="14585"/>
                </a:cubicBezTo>
                <a:cubicBezTo>
                  <a:pt x="18599" y="14532"/>
                  <a:pt x="18700" y="14481"/>
                  <a:pt x="18827" y="14387"/>
                </a:cubicBezTo>
                <a:cubicBezTo>
                  <a:pt x="18892" y="14339"/>
                  <a:pt x="18941" y="14287"/>
                  <a:pt x="19000" y="14238"/>
                </a:cubicBezTo>
                <a:cubicBezTo>
                  <a:pt x="19228" y="14051"/>
                  <a:pt x="19468" y="13790"/>
                  <a:pt x="19645" y="13618"/>
                </a:cubicBezTo>
                <a:cubicBezTo>
                  <a:pt x="19604" y="13616"/>
                  <a:pt x="19617" y="13594"/>
                  <a:pt x="19546" y="13593"/>
                </a:cubicBezTo>
                <a:cubicBezTo>
                  <a:pt x="19394" y="13591"/>
                  <a:pt x="19238" y="13613"/>
                  <a:pt x="19100" y="13618"/>
                </a:cubicBezTo>
                <a:cubicBezTo>
                  <a:pt x="19140" y="13616"/>
                  <a:pt x="19110" y="13575"/>
                  <a:pt x="19149" y="13568"/>
                </a:cubicBezTo>
                <a:cubicBezTo>
                  <a:pt x="19181" y="13562"/>
                  <a:pt x="19289" y="13487"/>
                  <a:pt x="19323" y="13494"/>
                </a:cubicBezTo>
                <a:cubicBezTo>
                  <a:pt x="19488" y="13530"/>
                  <a:pt x="19498" y="13539"/>
                  <a:pt x="19645" y="13643"/>
                </a:cubicBezTo>
                <a:cubicBezTo>
                  <a:pt x="19777" y="13736"/>
                  <a:pt x="19837" y="13846"/>
                  <a:pt x="19943" y="13940"/>
                </a:cubicBezTo>
                <a:cubicBezTo>
                  <a:pt x="19951" y="13948"/>
                  <a:pt x="19960" y="13957"/>
                  <a:pt x="19968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amplitude, period, translation, and graph the function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14040" y="3429000"/>
            <a:ext cx="5257800" cy="1343160"/>
            <a:chOff x="914040" y="3429000"/>
            <a:chExt cx="5257800" cy="1343160"/>
          </a:xfrm>
        </p:grpSpPr>
        <p:sp>
          <p:nvSpPr>
            <p:cNvPr id="76" name=""/>
            <p:cNvSpPr/>
            <p:nvPr/>
          </p:nvSpPr>
          <p:spPr>
            <a:xfrm>
              <a:off x="2514600" y="3429000"/>
              <a:ext cx="0" cy="134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914040" y="40046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9040" y="608040"/>
            <a:ext cx="2009880" cy="571320"/>
          </a:xfrm>
          <a:custGeom>
            <a:avLst/>
            <a:gdLst/>
            <a:ahLst/>
            <a:rect l="l" t="t" r="r" b="b"/>
            <a:pathLst>
              <a:path w="5582" h="1588">
                <a:moveTo>
                  <a:pt x="1538" y="2456"/>
                </a:moveTo>
                <a:cubicBezTo>
                  <a:pt x="1520" y="2456"/>
                  <a:pt x="1518" y="2474"/>
                  <a:pt x="1513" y="2431"/>
                </a:cubicBezTo>
                <a:cubicBezTo>
                  <a:pt x="1507" y="2384"/>
                  <a:pt x="1501" y="2371"/>
                  <a:pt x="1488" y="2332"/>
                </a:cubicBezTo>
                <a:cubicBezTo>
                  <a:pt x="1478" y="2302"/>
                  <a:pt x="1469" y="2252"/>
                  <a:pt x="1439" y="2232"/>
                </a:cubicBezTo>
                <a:cubicBezTo>
                  <a:pt x="1386" y="2195"/>
                  <a:pt x="1355" y="2220"/>
                  <a:pt x="1339" y="2257"/>
                </a:cubicBezTo>
                <a:cubicBezTo>
                  <a:pt x="1295" y="2356"/>
                  <a:pt x="1264" y="2429"/>
                  <a:pt x="1240" y="2530"/>
                </a:cubicBezTo>
                <a:cubicBezTo>
                  <a:pt x="1218" y="2624"/>
                  <a:pt x="1209" y="2711"/>
                  <a:pt x="1191" y="2803"/>
                </a:cubicBezTo>
                <a:cubicBezTo>
                  <a:pt x="1171" y="2906"/>
                  <a:pt x="1166" y="2994"/>
                  <a:pt x="1166" y="3101"/>
                </a:cubicBezTo>
                <a:cubicBezTo>
                  <a:pt x="1166" y="3161"/>
                  <a:pt x="1187" y="3215"/>
                  <a:pt x="1240" y="3249"/>
                </a:cubicBezTo>
                <a:cubicBezTo>
                  <a:pt x="1322" y="3301"/>
                  <a:pt x="1361" y="3266"/>
                  <a:pt x="1439" y="3225"/>
                </a:cubicBezTo>
                <a:cubicBezTo>
                  <a:pt x="1503" y="3192"/>
                  <a:pt x="1525" y="3160"/>
                  <a:pt x="1563" y="3101"/>
                </a:cubicBezTo>
              </a:path>
              <a:path w="5582" h="1588">
                <a:moveTo>
                  <a:pt x="1860" y="2629"/>
                </a:moveTo>
                <a:cubicBezTo>
                  <a:pt x="1837" y="2740"/>
                  <a:pt x="1746" y="2975"/>
                  <a:pt x="1786" y="3101"/>
                </a:cubicBezTo>
                <a:cubicBezTo>
                  <a:pt x="1800" y="3146"/>
                  <a:pt x="1826" y="3160"/>
                  <a:pt x="1836" y="3200"/>
                </a:cubicBezTo>
                <a:cubicBezTo>
                  <a:pt x="1889" y="3200"/>
                  <a:pt x="1897" y="3188"/>
                  <a:pt x="1935" y="3150"/>
                </a:cubicBezTo>
                <a:cubicBezTo>
                  <a:pt x="2011" y="3074"/>
                  <a:pt x="2033" y="3021"/>
                  <a:pt x="2059" y="2927"/>
                </a:cubicBezTo>
                <a:cubicBezTo>
                  <a:pt x="2085" y="2832"/>
                  <a:pt x="2093" y="2769"/>
                  <a:pt x="2084" y="2679"/>
                </a:cubicBezTo>
                <a:cubicBezTo>
                  <a:pt x="2076" y="2597"/>
                  <a:pt x="2054" y="2573"/>
                  <a:pt x="1984" y="2530"/>
                </a:cubicBezTo>
                <a:cubicBezTo>
                  <a:pt x="1958" y="2514"/>
                  <a:pt x="1897" y="2459"/>
                  <a:pt x="1860" y="2480"/>
                </a:cubicBezTo>
                <a:cubicBezTo>
                  <a:pt x="1838" y="2503"/>
                  <a:pt x="1830" y="2508"/>
                  <a:pt x="1836" y="2530"/>
                </a:cubicBezTo>
              </a:path>
              <a:path w="5582" h="1588">
                <a:moveTo>
                  <a:pt x="2580" y="2356"/>
                </a:moveTo>
                <a:cubicBezTo>
                  <a:pt x="2543" y="2384"/>
                  <a:pt x="2498" y="2406"/>
                  <a:pt x="2456" y="2431"/>
                </a:cubicBezTo>
                <a:cubicBezTo>
                  <a:pt x="2411" y="2458"/>
                  <a:pt x="2331" y="2475"/>
                  <a:pt x="2307" y="2530"/>
                </a:cubicBezTo>
                <a:cubicBezTo>
                  <a:pt x="2293" y="2561"/>
                  <a:pt x="2279" y="2563"/>
                  <a:pt x="2307" y="2604"/>
                </a:cubicBezTo>
                <a:cubicBezTo>
                  <a:pt x="2339" y="2651"/>
                  <a:pt x="2392" y="2667"/>
                  <a:pt x="2431" y="2704"/>
                </a:cubicBezTo>
                <a:cubicBezTo>
                  <a:pt x="2473" y="2743"/>
                  <a:pt x="2582" y="2807"/>
                  <a:pt x="2604" y="2853"/>
                </a:cubicBezTo>
                <a:cubicBezTo>
                  <a:pt x="2620" y="2888"/>
                  <a:pt x="2601" y="2974"/>
                  <a:pt x="2580" y="3001"/>
                </a:cubicBezTo>
                <a:cubicBezTo>
                  <a:pt x="2525" y="3073"/>
                  <a:pt x="2437" y="3088"/>
                  <a:pt x="2356" y="3101"/>
                </a:cubicBezTo>
                <a:cubicBezTo>
                  <a:pt x="2329" y="3105"/>
                  <a:pt x="2195" y="3119"/>
                  <a:pt x="2208" y="3076"/>
                </a:cubicBezTo>
                <a:cubicBezTo>
                  <a:pt x="2216" y="3059"/>
                  <a:pt x="2224" y="3043"/>
                  <a:pt x="2232" y="3026"/>
                </a:cubicBezTo>
              </a:path>
              <a:path w="5582" h="1588">
                <a:moveTo>
                  <a:pt x="3125" y="1836"/>
                </a:moveTo>
                <a:cubicBezTo>
                  <a:pt x="3079" y="1956"/>
                  <a:pt x="3028" y="2068"/>
                  <a:pt x="2977" y="2183"/>
                </a:cubicBezTo>
                <a:cubicBezTo>
                  <a:pt x="2933" y="2282"/>
                  <a:pt x="2891" y="2423"/>
                  <a:pt x="2877" y="2530"/>
                </a:cubicBezTo>
                <a:cubicBezTo>
                  <a:pt x="2861" y="2646"/>
                  <a:pt x="2853" y="2759"/>
                  <a:pt x="2853" y="2877"/>
                </a:cubicBezTo>
                <a:cubicBezTo>
                  <a:pt x="2853" y="2963"/>
                  <a:pt x="2878" y="2997"/>
                  <a:pt x="2902" y="3076"/>
                </a:cubicBezTo>
                <a:cubicBezTo>
                  <a:pt x="2916" y="3122"/>
                  <a:pt x="2942" y="3142"/>
                  <a:pt x="3001" y="3125"/>
                </a:cubicBezTo>
                <a:cubicBezTo>
                  <a:pt x="3018" y="3117"/>
                  <a:pt x="3034" y="3109"/>
                  <a:pt x="3051" y="3101"/>
                </a:cubicBezTo>
              </a:path>
              <a:path w="5582" h="1588">
                <a:moveTo>
                  <a:pt x="3398" y="2183"/>
                </a:moveTo>
                <a:cubicBezTo>
                  <a:pt x="3407" y="2253"/>
                  <a:pt x="3437" y="2310"/>
                  <a:pt x="3448" y="2381"/>
                </a:cubicBezTo>
                <a:cubicBezTo>
                  <a:pt x="3461" y="2466"/>
                  <a:pt x="3477" y="2552"/>
                  <a:pt x="3522" y="2629"/>
                </a:cubicBezTo>
                <a:cubicBezTo>
                  <a:pt x="3566" y="2705"/>
                  <a:pt x="3624" y="2758"/>
                  <a:pt x="3671" y="2828"/>
                </a:cubicBezTo>
                <a:cubicBezTo>
                  <a:pt x="3696" y="2864"/>
                  <a:pt x="3744" y="2937"/>
                  <a:pt x="3770" y="2952"/>
                </a:cubicBezTo>
                <a:cubicBezTo>
                  <a:pt x="3798" y="2952"/>
                  <a:pt x="3809" y="2950"/>
                  <a:pt x="3820" y="2927"/>
                </a:cubicBezTo>
              </a:path>
              <a:path w="5582" h="1588">
                <a:moveTo>
                  <a:pt x="3845" y="2183"/>
                </a:moveTo>
                <a:cubicBezTo>
                  <a:pt x="3734" y="2303"/>
                  <a:pt x="3684" y="2412"/>
                  <a:pt x="3597" y="2555"/>
                </a:cubicBezTo>
                <a:cubicBezTo>
                  <a:pt x="3541" y="2647"/>
                  <a:pt x="3494" y="2733"/>
                  <a:pt x="3448" y="2828"/>
                </a:cubicBezTo>
                <a:cubicBezTo>
                  <a:pt x="3421" y="2884"/>
                  <a:pt x="3385" y="2916"/>
                  <a:pt x="3373" y="2977"/>
                </a:cubicBezTo>
              </a:path>
              <a:path w="5582" h="1588">
                <a:moveTo>
                  <a:pt x="4291" y="2257"/>
                </a:moveTo>
                <a:cubicBezTo>
                  <a:pt x="4273" y="2385"/>
                  <a:pt x="4266" y="2500"/>
                  <a:pt x="4266" y="2629"/>
                </a:cubicBezTo>
                <a:cubicBezTo>
                  <a:pt x="4266" y="2671"/>
                  <a:pt x="4266" y="2864"/>
                  <a:pt x="4266" y="2828"/>
                </a:cubicBezTo>
              </a:path>
              <a:path w="5582" h="1588">
                <a:moveTo>
                  <a:pt x="4068" y="2580"/>
                </a:moveTo>
                <a:cubicBezTo>
                  <a:pt x="4133" y="2580"/>
                  <a:pt x="4179" y="2559"/>
                  <a:pt x="4242" y="2555"/>
                </a:cubicBezTo>
                <a:cubicBezTo>
                  <a:pt x="4299" y="2552"/>
                  <a:pt x="4385" y="2545"/>
                  <a:pt x="4440" y="2530"/>
                </a:cubicBezTo>
                <a:cubicBezTo>
                  <a:pt x="4457" y="2522"/>
                  <a:pt x="4473" y="2513"/>
                  <a:pt x="4490" y="2505"/>
                </a:cubicBezTo>
              </a:path>
              <a:path w="5582" h="1588">
                <a:moveTo>
                  <a:pt x="4936" y="1984"/>
                </a:moveTo>
                <a:cubicBezTo>
                  <a:pt x="5019" y="1943"/>
                  <a:pt x="5091" y="1914"/>
                  <a:pt x="5184" y="1910"/>
                </a:cubicBezTo>
                <a:cubicBezTo>
                  <a:pt x="5265" y="1906"/>
                  <a:pt x="5325" y="1885"/>
                  <a:pt x="5407" y="1885"/>
                </a:cubicBezTo>
                <a:cubicBezTo>
                  <a:pt x="5458" y="1885"/>
                  <a:pt x="5494" y="1873"/>
                  <a:pt x="5507" y="1836"/>
                </a:cubicBezTo>
              </a:path>
              <a:path w="5582" h="1588">
                <a:moveTo>
                  <a:pt x="5110" y="1960"/>
                </a:moveTo>
                <a:cubicBezTo>
                  <a:pt x="5093" y="2075"/>
                  <a:pt x="5066" y="2193"/>
                  <a:pt x="5060" y="2307"/>
                </a:cubicBezTo>
                <a:cubicBezTo>
                  <a:pt x="5057" y="2356"/>
                  <a:pt x="5060" y="2407"/>
                  <a:pt x="5060" y="2456"/>
                </a:cubicBezTo>
              </a:path>
              <a:path w="5582" h="1588">
                <a:moveTo>
                  <a:pt x="5259" y="2009"/>
                </a:moveTo>
                <a:cubicBezTo>
                  <a:pt x="5259" y="2092"/>
                  <a:pt x="5273" y="2248"/>
                  <a:pt x="5234" y="2332"/>
                </a:cubicBezTo>
                <a:cubicBezTo>
                  <a:pt x="5216" y="2371"/>
                  <a:pt x="5209" y="2359"/>
                  <a:pt x="5209" y="2406"/>
                </a:cubicBezTo>
              </a:path>
              <a:path w="5582" h="1588">
                <a:moveTo>
                  <a:pt x="5655" y="1786"/>
                </a:moveTo>
                <a:cubicBezTo>
                  <a:pt x="5620" y="1916"/>
                  <a:pt x="5566" y="2026"/>
                  <a:pt x="5531" y="2158"/>
                </a:cubicBezTo>
                <a:cubicBezTo>
                  <a:pt x="5499" y="2275"/>
                  <a:pt x="5471" y="2390"/>
                  <a:pt x="5432" y="2505"/>
                </a:cubicBezTo>
                <a:cubicBezTo>
                  <a:pt x="5406" y="2581"/>
                  <a:pt x="5390" y="2658"/>
                  <a:pt x="5358" y="2729"/>
                </a:cubicBezTo>
                <a:cubicBezTo>
                  <a:pt x="5346" y="2755"/>
                  <a:pt x="5294" y="2864"/>
                  <a:pt x="5283" y="2877"/>
                </a:cubicBezTo>
                <a:cubicBezTo>
                  <a:pt x="5275" y="2877"/>
                  <a:pt x="5267" y="2877"/>
                  <a:pt x="5259" y="2877"/>
                </a:cubicBezTo>
              </a:path>
              <a:path w="5582" h="1588">
                <a:moveTo>
                  <a:pt x="5928" y="2257"/>
                </a:moveTo>
                <a:cubicBezTo>
                  <a:pt x="6022" y="2257"/>
                  <a:pt x="6043" y="2236"/>
                  <a:pt x="6077" y="2282"/>
                </a:cubicBezTo>
                <a:cubicBezTo>
                  <a:pt x="6070" y="2330"/>
                  <a:pt x="6044" y="2419"/>
                  <a:pt x="6003" y="2456"/>
                </a:cubicBezTo>
                <a:cubicBezTo>
                  <a:pt x="5957" y="2498"/>
                  <a:pt x="5861" y="2524"/>
                  <a:pt x="5804" y="2555"/>
                </a:cubicBezTo>
                <a:cubicBezTo>
                  <a:pt x="5764" y="2575"/>
                  <a:pt x="5758" y="2584"/>
                  <a:pt x="5730" y="2580"/>
                </a:cubicBezTo>
                <a:cubicBezTo>
                  <a:pt x="5743" y="2617"/>
                  <a:pt x="5783" y="2615"/>
                  <a:pt x="5829" y="2629"/>
                </a:cubicBezTo>
                <a:cubicBezTo>
                  <a:pt x="5915" y="2655"/>
                  <a:pt x="5921" y="2696"/>
                  <a:pt x="5928" y="2778"/>
                </a:cubicBezTo>
                <a:cubicBezTo>
                  <a:pt x="5932" y="2822"/>
                  <a:pt x="5932" y="2845"/>
                  <a:pt x="5904" y="2877"/>
                </a:cubicBezTo>
                <a:cubicBezTo>
                  <a:pt x="5887" y="2896"/>
                  <a:pt x="5844" y="2932"/>
                  <a:pt x="5829" y="2927"/>
                </a:cubicBezTo>
                <a:cubicBezTo>
                  <a:pt x="5799" y="2918"/>
                  <a:pt x="5716" y="2891"/>
                  <a:pt x="5705" y="2853"/>
                </a:cubicBezTo>
                <a:cubicBezTo>
                  <a:pt x="5692" y="2808"/>
                  <a:pt x="5724" y="2749"/>
                  <a:pt x="5730" y="2704"/>
                </a:cubicBezTo>
              </a:path>
              <a:path w="5582" h="1588">
                <a:moveTo>
                  <a:pt x="6300" y="1712"/>
                </a:moveTo>
                <a:cubicBezTo>
                  <a:pt x="6360" y="1682"/>
                  <a:pt x="6377" y="1681"/>
                  <a:pt x="6449" y="1712"/>
                </a:cubicBezTo>
                <a:cubicBezTo>
                  <a:pt x="6554" y="1758"/>
                  <a:pt x="6618" y="1839"/>
                  <a:pt x="6672" y="1935"/>
                </a:cubicBezTo>
                <a:cubicBezTo>
                  <a:pt x="6784" y="2134"/>
                  <a:pt x="6775" y="2383"/>
                  <a:pt x="6747" y="2604"/>
                </a:cubicBezTo>
                <a:cubicBezTo>
                  <a:pt x="6738" y="2676"/>
                  <a:pt x="6744" y="2808"/>
                  <a:pt x="6722" y="2877"/>
                </a:cubicBezTo>
                <a:cubicBezTo>
                  <a:pt x="6705" y="2930"/>
                  <a:pt x="6643" y="2977"/>
                  <a:pt x="6598" y="3001"/>
                </a:cubicBezTo>
                <a:cubicBezTo>
                  <a:pt x="6590" y="3001"/>
                  <a:pt x="6581" y="3001"/>
                  <a:pt x="6573" y="30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09960" y="1214280"/>
            <a:ext cx="27000" cy="393840"/>
          </a:xfrm>
          <a:custGeom>
            <a:avLst/>
            <a:gdLst/>
            <a:ahLst/>
            <a:rect l="l" t="t" r="r" b="b"/>
            <a:pathLst>
              <a:path w="76" h="1093">
                <a:moveTo>
                  <a:pt x="8434" y="3373"/>
                </a:moveTo>
                <a:cubicBezTo>
                  <a:pt x="8434" y="3478"/>
                  <a:pt x="8421" y="3570"/>
                  <a:pt x="8409" y="3671"/>
                </a:cubicBezTo>
                <a:cubicBezTo>
                  <a:pt x="8397" y="3777"/>
                  <a:pt x="8394" y="3890"/>
                  <a:pt x="8384" y="3994"/>
                </a:cubicBezTo>
                <a:cubicBezTo>
                  <a:pt x="8369" y="4148"/>
                  <a:pt x="8384" y="4310"/>
                  <a:pt x="8384" y="4465"/>
                </a:cubicBezTo>
                <a:cubicBezTo>
                  <a:pt x="8384" y="4411"/>
                  <a:pt x="8372" y="4428"/>
                  <a:pt x="8359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62680" y="1204920"/>
            <a:ext cx="501480" cy="366840"/>
          </a:xfrm>
          <a:custGeom>
            <a:avLst/>
            <a:gdLst/>
            <a:ahLst/>
            <a:rect l="l" t="t" r="r" b="b"/>
            <a:pathLst>
              <a:path w="1390" h="1018">
                <a:moveTo>
                  <a:pt x="14064" y="3448"/>
                </a:moveTo>
                <a:cubicBezTo>
                  <a:pt x="14104" y="3416"/>
                  <a:pt x="14161" y="3382"/>
                  <a:pt x="14213" y="3373"/>
                </a:cubicBezTo>
                <a:cubicBezTo>
                  <a:pt x="14283" y="3361"/>
                  <a:pt x="14351" y="3358"/>
                  <a:pt x="14412" y="3373"/>
                </a:cubicBezTo>
                <a:cubicBezTo>
                  <a:pt x="14476" y="3389"/>
                  <a:pt x="14571" y="3415"/>
                  <a:pt x="14560" y="3497"/>
                </a:cubicBezTo>
                <a:cubicBezTo>
                  <a:pt x="14551" y="3567"/>
                  <a:pt x="14472" y="3666"/>
                  <a:pt x="14436" y="3721"/>
                </a:cubicBezTo>
                <a:cubicBezTo>
                  <a:pt x="14378" y="3810"/>
                  <a:pt x="14321" y="3910"/>
                  <a:pt x="14263" y="3994"/>
                </a:cubicBezTo>
                <a:cubicBezTo>
                  <a:pt x="14202" y="4082"/>
                  <a:pt x="14157" y="4142"/>
                  <a:pt x="14114" y="4242"/>
                </a:cubicBezTo>
                <a:cubicBezTo>
                  <a:pt x="14079" y="4323"/>
                  <a:pt x="14094" y="4300"/>
                  <a:pt x="14114" y="4341"/>
                </a:cubicBezTo>
                <a:cubicBezTo>
                  <a:pt x="14128" y="4369"/>
                  <a:pt x="14163" y="4381"/>
                  <a:pt x="14213" y="4366"/>
                </a:cubicBezTo>
                <a:cubicBezTo>
                  <a:pt x="14283" y="4345"/>
                  <a:pt x="14345" y="4325"/>
                  <a:pt x="14412" y="4291"/>
                </a:cubicBezTo>
                <a:cubicBezTo>
                  <a:pt x="14485" y="4254"/>
                  <a:pt x="14561" y="4227"/>
                  <a:pt x="14635" y="4192"/>
                </a:cubicBezTo>
              </a:path>
              <a:path w="1390" h="1018">
                <a:moveTo>
                  <a:pt x="14883" y="3522"/>
                </a:moveTo>
                <a:cubicBezTo>
                  <a:pt x="14971" y="3515"/>
                  <a:pt x="15073" y="3499"/>
                  <a:pt x="15156" y="3473"/>
                </a:cubicBezTo>
                <a:cubicBezTo>
                  <a:pt x="15229" y="3450"/>
                  <a:pt x="15302" y="3429"/>
                  <a:pt x="15379" y="3423"/>
                </a:cubicBezTo>
                <a:cubicBezTo>
                  <a:pt x="15411" y="3421"/>
                  <a:pt x="15423" y="3406"/>
                  <a:pt x="15453" y="3398"/>
                </a:cubicBezTo>
              </a:path>
              <a:path w="1390" h="1018">
                <a:moveTo>
                  <a:pt x="15056" y="3522"/>
                </a:moveTo>
                <a:cubicBezTo>
                  <a:pt x="15018" y="3657"/>
                  <a:pt x="15000" y="3782"/>
                  <a:pt x="14982" y="3919"/>
                </a:cubicBezTo>
                <a:cubicBezTo>
                  <a:pt x="14971" y="4000"/>
                  <a:pt x="14987" y="4076"/>
                  <a:pt x="15007" y="4142"/>
                </a:cubicBezTo>
                <a:cubicBezTo>
                  <a:pt x="15023" y="4195"/>
                  <a:pt x="15032" y="4150"/>
                  <a:pt x="15056" y="4118"/>
                </a:cubicBezTo>
              </a:path>
              <a:path w="1390" h="1018">
                <a:moveTo>
                  <a:pt x="15230" y="3597"/>
                </a:moveTo>
                <a:cubicBezTo>
                  <a:pt x="15249" y="3727"/>
                  <a:pt x="15255" y="3839"/>
                  <a:pt x="15255" y="3969"/>
                </a:cubicBezTo>
                <a:cubicBezTo>
                  <a:pt x="15255" y="4049"/>
                  <a:pt x="15260" y="4101"/>
                  <a:pt x="15280" y="4167"/>
                </a:cubicBezTo>
                <a:cubicBezTo>
                  <a:pt x="15292" y="4206"/>
                  <a:pt x="15319" y="4227"/>
                  <a:pt x="15329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70800" y="1571760"/>
            <a:ext cx="608040" cy="465120"/>
          </a:xfrm>
          <a:custGeom>
            <a:avLst/>
            <a:gdLst/>
            <a:ahLst/>
            <a:rect l="l" t="t" r="r" b="b"/>
            <a:pathLst>
              <a:path w="1688" h="1290">
                <a:moveTo>
                  <a:pt x="18529" y="4366"/>
                </a:moveTo>
                <a:cubicBezTo>
                  <a:pt x="18529" y="4428"/>
                  <a:pt x="18547" y="4483"/>
                  <a:pt x="18554" y="4539"/>
                </a:cubicBezTo>
                <a:cubicBezTo>
                  <a:pt x="18568" y="4651"/>
                  <a:pt x="18569" y="4775"/>
                  <a:pt x="18579" y="4887"/>
                </a:cubicBezTo>
                <a:cubicBezTo>
                  <a:pt x="18594" y="5057"/>
                  <a:pt x="18532" y="5278"/>
                  <a:pt x="18554" y="5432"/>
                </a:cubicBezTo>
                <a:cubicBezTo>
                  <a:pt x="18557" y="5453"/>
                  <a:pt x="18581" y="5565"/>
                  <a:pt x="18604" y="5556"/>
                </a:cubicBezTo>
                <a:cubicBezTo>
                  <a:pt x="18612" y="5548"/>
                  <a:pt x="18620" y="5539"/>
                  <a:pt x="18628" y="5531"/>
                </a:cubicBezTo>
              </a:path>
              <a:path w="1688" h="1290">
                <a:moveTo>
                  <a:pt x="18752" y="5234"/>
                </a:moveTo>
                <a:cubicBezTo>
                  <a:pt x="18912" y="5226"/>
                  <a:pt x="18900" y="5221"/>
                  <a:pt x="19025" y="5159"/>
                </a:cubicBezTo>
                <a:cubicBezTo>
                  <a:pt x="19098" y="5123"/>
                  <a:pt x="19103" y="5096"/>
                  <a:pt x="19149" y="5035"/>
                </a:cubicBezTo>
                <a:cubicBezTo>
                  <a:pt x="19183" y="4990"/>
                  <a:pt x="19187" y="4953"/>
                  <a:pt x="19149" y="4911"/>
                </a:cubicBezTo>
                <a:cubicBezTo>
                  <a:pt x="19110" y="4868"/>
                  <a:pt x="19090" y="4889"/>
                  <a:pt x="19050" y="4911"/>
                </a:cubicBezTo>
                <a:cubicBezTo>
                  <a:pt x="18992" y="4944"/>
                  <a:pt x="18953" y="4970"/>
                  <a:pt x="18926" y="5035"/>
                </a:cubicBezTo>
                <a:cubicBezTo>
                  <a:pt x="18892" y="5117"/>
                  <a:pt x="18876" y="5172"/>
                  <a:pt x="18876" y="5259"/>
                </a:cubicBezTo>
                <a:cubicBezTo>
                  <a:pt x="18876" y="5325"/>
                  <a:pt x="18874" y="5402"/>
                  <a:pt x="18901" y="5457"/>
                </a:cubicBezTo>
                <a:cubicBezTo>
                  <a:pt x="18917" y="5489"/>
                  <a:pt x="18967" y="5529"/>
                  <a:pt x="19000" y="5531"/>
                </a:cubicBezTo>
                <a:cubicBezTo>
                  <a:pt x="19056" y="5535"/>
                  <a:pt x="19060" y="5536"/>
                  <a:pt x="19100" y="5507"/>
                </a:cubicBezTo>
              </a:path>
              <a:path w="1688" h="1290">
                <a:moveTo>
                  <a:pt x="19794" y="4440"/>
                </a:moveTo>
                <a:cubicBezTo>
                  <a:pt x="19756" y="4421"/>
                  <a:pt x="19695" y="4397"/>
                  <a:pt x="19645" y="4415"/>
                </a:cubicBezTo>
                <a:cubicBezTo>
                  <a:pt x="19583" y="4437"/>
                  <a:pt x="19527" y="4485"/>
                  <a:pt x="19496" y="4539"/>
                </a:cubicBezTo>
                <a:cubicBezTo>
                  <a:pt x="19444" y="4628"/>
                  <a:pt x="19422" y="4739"/>
                  <a:pt x="19397" y="4837"/>
                </a:cubicBezTo>
                <a:cubicBezTo>
                  <a:pt x="19365" y="4960"/>
                  <a:pt x="19397" y="5080"/>
                  <a:pt x="19397" y="5209"/>
                </a:cubicBezTo>
                <a:cubicBezTo>
                  <a:pt x="19397" y="5315"/>
                  <a:pt x="19417" y="5405"/>
                  <a:pt x="19422" y="5507"/>
                </a:cubicBezTo>
                <a:cubicBezTo>
                  <a:pt x="19423" y="5526"/>
                  <a:pt x="19428" y="5654"/>
                  <a:pt x="19447" y="5655"/>
                </a:cubicBezTo>
                <a:cubicBezTo>
                  <a:pt x="19447" y="5631"/>
                  <a:pt x="19447" y="5622"/>
                  <a:pt x="19447" y="5606"/>
                </a:cubicBezTo>
              </a:path>
              <a:path w="1688" h="1290">
                <a:moveTo>
                  <a:pt x="19372" y="5234"/>
                </a:moveTo>
                <a:cubicBezTo>
                  <a:pt x="19461" y="5234"/>
                  <a:pt x="19501" y="5223"/>
                  <a:pt x="19571" y="5209"/>
                </a:cubicBezTo>
                <a:cubicBezTo>
                  <a:pt x="19649" y="5193"/>
                  <a:pt x="19707" y="5165"/>
                  <a:pt x="19769" y="5110"/>
                </a:cubicBezTo>
                <a:cubicBezTo>
                  <a:pt x="19802" y="5077"/>
                  <a:pt x="19836" y="5044"/>
                  <a:pt x="19869" y="5011"/>
                </a:cubicBezTo>
              </a:path>
              <a:path w="1688" h="1290">
                <a:moveTo>
                  <a:pt x="19943" y="4638"/>
                </a:moveTo>
                <a:cubicBezTo>
                  <a:pt x="19982" y="4772"/>
                  <a:pt x="20013" y="4892"/>
                  <a:pt x="20017" y="5035"/>
                </a:cubicBezTo>
                <a:cubicBezTo>
                  <a:pt x="20021" y="5171"/>
                  <a:pt x="20006" y="5312"/>
                  <a:pt x="20042" y="5432"/>
                </a:cubicBezTo>
                <a:cubicBezTo>
                  <a:pt x="20055" y="5476"/>
                  <a:pt x="20036" y="5466"/>
                  <a:pt x="20067" y="5507"/>
                </a:cubicBezTo>
              </a:path>
              <a:path w="1688" h="1290">
                <a:moveTo>
                  <a:pt x="19794" y="5234"/>
                </a:moveTo>
                <a:cubicBezTo>
                  <a:pt x="19935" y="5234"/>
                  <a:pt x="20075" y="5234"/>
                  <a:pt x="20216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18240" y="1608120"/>
            <a:ext cx="519120" cy="517680"/>
          </a:xfrm>
          <a:custGeom>
            <a:avLst/>
            <a:gdLst/>
            <a:ahLst/>
            <a:rect l="l" t="t" r="r" b="b"/>
            <a:pathLst>
              <a:path w="1439" h="1440">
                <a:moveTo>
                  <a:pt x="20886" y="4663"/>
                </a:moveTo>
                <a:cubicBezTo>
                  <a:pt x="20900" y="4604"/>
                  <a:pt x="20974" y="4577"/>
                  <a:pt x="21034" y="4564"/>
                </a:cubicBezTo>
                <a:cubicBezTo>
                  <a:pt x="21111" y="4548"/>
                  <a:pt x="21176" y="4539"/>
                  <a:pt x="21258" y="4539"/>
                </a:cubicBezTo>
                <a:cubicBezTo>
                  <a:pt x="21321" y="4539"/>
                  <a:pt x="21420" y="4530"/>
                  <a:pt x="21481" y="4514"/>
                </a:cubicBezTo>
                <a:cubicBezTo>
                  <a:pt x="21555" y="4495"/>
                  <a:pt x="21629" y="4480"/>
                  <a:pt x="21704" y="4465"/>
                </a:cubicBezTo>
              </a:path>
              <a:path w="1439" h="1440">
                <a:moveTo>
                  <a:pt x="21183" y="4738"/>
                </a:moveTo>
                <a:cubicBezTo>
                  <a:pt x="21185" y="4752"/>
                  <a:pt x="21207" y="4984"/>
                  <a:pt x="21233" y="5035"/>
                </a:cubicBezTo>
                <a:cubicBezTo>
                  <a:pt x="21268" y="5104"/>
                  <a:pt x="21270" y="5074"/>
                  <a:pt x="21282" y="5011"/>
                </a:cubicBezTo>
              </a:path>
              <a:path w="1439" h="1440">
                <a:moveTo>
                  <a:pt x="21307" y="4663"/>
                </a:moveTo>
                <a:cubicBezTo>
                  <a:pt x="21334" y="4766"/>
                  <a:pt x="21376" y="4881"/>
                  <a:pt x="21382" y="4986"/>
                </a:cubicBezTo>
                <a:cubicBezTo>
                  <a:pt x="21385" y="5046"/>
                  <a:pt x="21374" y="5040"/>
                  <a:pt x="21406" y="5085"/>
                </a:cubicBezTo>
              </a:path>
              <a:path w="1439" h="1440">
                <a:moveTo>
                  <a:pt x="21803" y="4539"/>
                </a:moveTo>
                <a:cubicBezTo>
                  <a:pt x="21781" y="4684"/>
                  <a:pt x="21765" y="4819"/>
                  <a:pt x="21729" y="4961"/>
                </a:cubicBezTo>
                <a:cubicBezTo>
                  <a:pt x="21699" y="5078"/>
                  <a:pt x="21668" y="5193"/>
                  <a:pt x="21630" y="5308"/>
                </a:cubicBezTo>
                <a:cubicBezTo>
                  <a:pt x="21593" y="5419"/>
                  <a:pt x="21529" y="5542"/>
                  <a:pt x="21506" y="5655"/>
                </a:cubicBezTo>
                <a:cubicBezTo>
                  <a:pt x="21503" y="5670"/>
                  <a:pt x="21502" y="5834"/>
                  <a:pt x="21530" y="5755"/>
                </a:cubicBezTo>
                <a:cubicBezTo>
                  <a:pt x="21538" y="5722"/>
                  <a:pt x="21547" y="5688"/>
                  <a:pt x="21555" y="5655"/>
                </a:cubicBezTo>
              </a:path>
              <a:path w="1439" h="1440">
                <a:moveTo>
                  <a:pt x="21878" y="5259"/>
                </a:moveTo>
                <a:cubicBezTo>
                  <a:pt x="22022" y="5233"/>
                  <a:pt x="22057" y="5220"/>
                  <a:pt x="22175" y="5308"/>
                </a:cubicBezTo>
                <a:cubicBezTo>
                  <a:pt x="22225" y="5345"/>
                  <a:pt x="22196" y="5391"/>
                  <a:pt x="22175" y="5432"/>
                </a:cubicBezTo>
                <a:cubicBezTo>
                  <a:pt x="22150" y="5480"/>
                  <a:pt x="22094" y="5504"/>
                  <a:pt x="22076" y="5531"/>
                </a:cubicBezTo>
                <a:cubicBezTo>
                  <a:pt x="22076" y="5556"/>
                  <a:pt x="22076" y="5564"/>
                  <a:pt x="22051" y="5556"/>
                </a:cubicBezTo>
                <a:cubicBezTo>
                  <a:pt x="22095" y="5582"/>
                  <a:pt x="22132" y="5581"/>
                  <a:pt x="22175" y="5606"/>
                </a:cubicBezTo>
                <a:cubicBezTo>
                  <a:pt x="22220" y="5632"/>
                  <a:pt x="22300" y="5651"/>
                  <a:pt x="22324" y="5705"/>
                </a:cubicBezTo>
                <a:cubicBezTo>
                  <a:pt x="22344" y="5752"/>
                  <a:pt x="22231" y="5810"/>
                  <a:pt x="22200" y="5829"/>
                </a:cubicBezTo>
                <a:cubicBezTo>
                  <a:pt x="22138" y="5867"/>
                  <a:pt x="22101" y="5898"/>
                  <a:pt x="22027" y="5904"/>
                </a:cubicBezTo>
                <a:cubicBezTo>
                  <a:pt x="21986" y="5907"/>
                  <a:pt x="21944" y="5904"/>
                  <a:pt x="21903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1040" y="3330720"/>
            <a:ext cx="5357880" cy="1285560"/>
          </a:xfrm>
          <a:custGeom>
            <a:avLst/>
            <a:gdLst/>
            <a:ahLst/>
            <a:rect l="l" t="t" r="r" b="b"/>
            <a:pathLst>
              <a:path w="14884" h="3573">
                <a:moveTo>
                  <a:pt x="12700" y="10691"/>
                </a:moveTo>
                <a:cubicBezTo>
                  <a:pt x="12690" y="10730"/>
                  <a:pt x="12688" y="10773"/>
                  <a:pt x="12675" y="10815"/>
                </a:cubicBezTo>
                <a:cubicBezTo>
                  <a:pt x="12648" y="10904"/>
                  <a:pt x="12646" y="10997"/>
                  <a:pt x="12626" y="11088"/>
                </a:cubicBezTo>
                <a:cubicBezTo>
                  <a:pt x="12606" y="11176"/>
                  <a:pt x="12601" y="11244"/>
                  <a:pt x="12601" y="11336"/>
                </a:cubicBezTo>
                <a:cubicBezTo>
                  <a:pt x="12601" y="11386"/>
                  <a:pt x="12601" y="11435"/>
                  <a:pt x="12601" y="11485"/>
                </a:cubicBezTo>
              </a:path>
              <a:path w="14884" h="3573">
                <a:moveTo>
                  <a:pt x="12378" y="12129"/>
                </a:moveTo>
                <a:cubicBezTo>
                  <a:pt x="12385" y="12076"/>
                  <a:pt x="12390" y="12037"/>
                  <a:pt x="12452" y="12030"/>
                </a:cubicBezTo>
                <a:cubicBezTo>
                  <a:pt x="12539" y="12020"/>
                  <a:pt x="12570" y="12111"/>
                  <a:pt x="12576" y="12179"/>
                </a:cubicBezTo>
                <a:cubicBezTo>
                  <a:pt x="12582" y="12252"/>
                  <a:pt x="12593" y="12365"/>
                  <a:pt x="12551" y="12427"/>
                </a:cubicBezTo>
                <a:cubicBezTo>
                  <a:pt x="12507" y="12492"/>
                  <a:pt x="12478" y="12545"/>
                  <a:pt x="12402" y="12551"/>
                </a:cubicBezTo>
                <a:cubicBezTo>
                  <a:pt x="12378" y="12551"/>
                  <a:pt x="12369" y="12551"/>
                  <a:pt x="12353" y="12551"/>
                </a:cubicBezTo>
                <a:cubicBezTo>
                  <a:pt x="12353" y="12511"/>
                  <a:pt x="12343" y="12458"/>
                  <a:pt x="12378" y="12427"/>
                </a:cubicBezTo>
                <a:cubicBezTo>
                  <a:pt x="12413" y="12396"/>
                  <a:pt x="12487" y="12413"/>
                  <a:pt x="12526" y="12427"/>
                </a:cubicBezTo>
                <a:cubicBezTo>
                  <a:pt x="12603" y="12454"/>
                  <a:pt x="12670" y="12489"/>
                  <a:pt x="12750" y="12502"/>
                </a:cubicBezTo>
                <a:cubicBezTo>
                  <a:pt x="12832" y="12515"/>
                  <a:pt x="12883" y="12459"/>
                  <a:pt x="12923" y="12402"/>
                </a:cubicBezTo>
              </a:path>
              <a:path w="14884" h="3573">
                <a:moveTo>
                  <a:pt x="12998" y="12030"/>
                </a:moveTo>
                <a:cubicBezTo>
                  <a:pt x="13081" y="12030"/>
                  <a:pt x="13163" y="12030"/>
                  <a:pt x="13246" y="12030"/>
                </a:cubicBezTo>
              </a:path>
              <a:path w="14884" h="3573">
                <a:moveTo>
                  <a:pt x="13047" y="12204"/>
                </a:moveTo>
                <a:cubicBezTo>
                  <a:pt x="13034" y="12236"/>
                  <a:pt x="12883" y="12443"/>
                  <a:pt x="12998" y="12502"/>
                </a:cubicBezTo>
                <a:cubicBezTo>
                  <a:pt x="13006" y="12502"/>
                  <a:pt x="13014" y="12502"/>
                  <a:pt x="13022" y="12502"/>
                </a:cubicBezTo>
              </a:path>
              <a:path w="14884" h="3573">
                <a:moveTo>
                  <a:pt x="13295" y="12154"/>
                </a:moveTo>
                <a:cubicBezTo>
                  <a:pt x="13295" y="12262"/>
                  <a:pt x="13304" y="12330"/>
                  <a:pt x="13320" y="12427"/>
                </a:cubicBezTo>
                <a:cubicBezTo>
                  <a:pt x="13320" y="12444"/>
                  <a:pt x="13320" y="12460"/>
                  <a:pt x="13320" y="12477"/>
                </a:cubicBezTo>
              </a:path>
              <a:path w="14884" h="3573">
                <a:moveTo>
                  <a:pt x="18926" y="10691"/>
                </a:moveTo>
                <a:cubicBezTo>
                  <a:pt x="18926" y="10862"/>
                  <a:pt x="18946" y="11018"/>
                  <a:pt x="18951" y="11187"/>
                </a:cubicBezTo>
                <a:cubicBezTo>
                  <a:pt x="18951" y="11253"/>
                  <a:pt x="18951" y="11270"/>
                  <a:pt x="18951" y="11311"/>
                </a:cubicBezTo>
              </a:path>
              <a:path w="14884" h="3573">
                <a:moveTo>
                  <a:pt x="18728" y="12129"/>
                </a:moveTo>
                <a:cubicBezTo>
                  <a:pt x="18750" y="12107"/>
                  <a:pt x="18755" y="12099"/>
                  <a:pt x="18777" y="12105"/>
                </a:cubicBezTo>
                <a:cubicBezTo>
                  <a:pt x="18740" y="12114"/>
                  <a:pt x="18716" y="12141"/>
                  <a:pt x="18703" y="12179"/>
                </a:cubicBezTo>
                <a:cubicBezTo>
                  <a:pt x="18687" y="12228"/>
                  <a:pt x="18664" y="12274"/>
                  <a:pt x="18728" y="12303"/>
                </a:cubicBezTo>
                <a:cubicBezTo>
                  <a:pt x="18793" y="12332"/>
                  <a:pt x="18940" y="12299"/>
                  <a:pt x="19000" y="12278"/>
                </a:cubicBezTo>
                <a:cubicBezTo>
                  <a:pt x="19051" y="12260"/>
                  <a:pt x="19101" y="12228"/>
                  <a:pt x="19149" y="12204"/>
                </a:cubicBezTo>
              </a:path>
              <a:path w="14884" h="3573">
                <a:moveTo>
                  <a:pt x="19050" y="12105"/>
                </a:moveTo>
                <a:cubicBezTo>
                  <a:pt x="19046" y="12129"/>
                  <a:pt x="18948" y="12481"/>
                  <a:pt x="18976" y="12576"/>
                </a:cubicBezTo>
                <a:cubicBezTo>
                  <a:pt x="18991" y="12626"/>
                  <a:pt x="18992" y="12639"/>
                  <a:pt x="19025" y="12650"/>
                </a:cubicBezTo>
              </a:path>
              <a:path w="14884" h="3573">
                <a:moveTo>
                  <a:pt x="19397" y="12105"/>
                </a:moveTo>
                <a:cubicBezTo>
                  <a:pt x="19513" y="12105"/>
                  <a:pt x="19629" y="12105"/>
                  <a:pt x="19745" y="12105"/>
                </a:cubicBezTo>
              </a:path>
              <a:path w="14884" h="3573">
                <a:moveTo>
                  <a:pt x="19372" y="12254"/>
                </a:moveTo>
                <a:cubicBezTo>
                  <a:pt x="19358" y="12310"/>
                  <a:pt x="19266" y="12480"/>
                  <a:pt x="19372" y="12526"/>
                </a:cubicBezTo>
                <a:cubicBezTo>
                  <a:pt x="19429" y="12551"/>
                  <a:pt x="19451" y="12488"/>
                  <a:pt x="19472" y="12452"/>
                </a:cubicBezTo>
              </a:path>
              <a:path w="14884" h="3573">
                <a:moveTo>
                  <a:pt x="19645" y="12105"/>
                </a:moveTo>
                <a:cubicBezTo>
                  <a:pt x="19631" y="12266"/>
                  <a:pt x="19613" y="12420"/>
                  <a:pt x="19596" y="12576"/>
                </a:cubicBezTo>
              </a:path>
              <a:path w="14884" h="3573">
                <a:moveTo>
                  <a:pt x="9525" y="10790"/>
                </a:moveTo>
                <a:cubicBezTo>
                  <a:pt x="9505" y="10861"/>
                  <a:pt x="9486" y="10937"/>
                  <a:pt x="9500" y="11013"/>
                </a:cubicBezTo>
                <a:cubicBezTo>
                  <a:pt x="9516" y="11099"/>
                  <a:pt x="9525" y="11151"/>
                  <a:pt x="9525" y="11237"/>
                </a:cubicBezTo>
                <a:cubicBezTo>
                  <a:pt x="9525" y="11270"/>
                  <a:pt x="9525" y="11286"/>
                  <a:pt x="9525" y="11311"/>
                </a:cubicBezTo>
              </a:path>
              <a:path w="14884" h="3573">
                <a:moveTo>
                  <a:pt x="9302" y="11633"/>
                </a:moveTo>
                <a:cubicBezTo>
                  <a:pt x="9362" y="11625"/>
                  <a:pt x="9386" y="11609"/>
                  <a:pt x="9451" y="11609"/>
                </a:cubicBezTo>
                <a:cubicBezTo>
                  <a:pt x="9535" y="11609"/>
                  <a:pt x="9574" y="11603"/>
                  <a:pt x="9649" y="11584"/>
                </a:cubicBezTo>
                <a:cubicBezTo>
                  <a:pt x="9657" y="11584"/>
                  <a:pt x="9666" y="11584"/>
                  <a:pt x="9674" y="11584"/>
                </a:cubicBezTo>
              </a:path>
              <a:path w="14884" h="3573">
                <a:moveTo>
                  <a:pt x="9525" y="11534"/>
                </a:moveTo>
                <a:cubicBezTo>
                  <a:pt x="9466" y="11674"/>
                  <a:pt x="9443" y="11765"/>
                  <a:pt x="9451" y="11906"/>
                </a:cubicBezTo>
                <a:cubicBezTo>
                  <a:pt x="9454" y="11957"/>
                  <a:pt x="9464" y="11963"/>
                  <a:pt x="9475" y="12005"/>
                </a:cubicBezTo>
              </a:path>
              <a:path w="14884" h="3573">
                <a:moveTo>
                  <a:pt x="9674" y="11609"/>
                </a:moveTo>
                <a:cubicBezTo>
                  <a:pt x="9705" y="11700"/>
                  <a:pt x="9735" y="11793"/>
                  <a:pt x="9773" y="11881"/>
                </a:cubicBezTo>
                <a:cubicBezTo>
                  <a:pt x="9793" y="11928"/>
                  <a:pt x="9816" y="11966"/>
                  <a:pt x="9847" y="12005"/>
                </a:cubicBezTo>
              </a:path>
              <a:path w="14884" h="3573">
                <a:moveTo>
                  <a:pt x="7045" y="11088"/>
                </a:moveTo>
                <a:cubicBezTo>
                  <a:pt x="7045" y="11080"/>
                  <a:pt x="7045" y="11071"/>
                  <a:pt x="7045" y="11063"/>
                </a:cubicBezTo>
                <a:cubicBezTo>
                  <a:pt x="7171" y="11063"/>
                  <a:pt x="7444" y="11015"/>
                  <a:pt x="7541" y="11088"/>
                </a:cubicBezTo>
                <a:cubicBezTo>
                  <a:pt x="7553" y="11050"/>
                  <a:pt x="7570" y="11063"/>
                  <a:pt x="7615" y="11063"/>
                </a:cubicBezTo>
                <a:cubicBezTo>
                  <a:pt x="7628" y="11101"/>
                  <a:pt x="7644" y="11088"/>
                  <a:pt x="7689" y="11088"/>
                </a:cubicBezTo>
                <a:cubicBezTo>
                  <a:pt x="7726" y="11088"/>
                  <a:pt x="7883" y="11088"/>
                  <a:pt x="7838" y="11088"/>
                </a:cubicBezTo>
              </a:path>
              <a:path w="14884" h="3573">
                <a:moveTo>
                  <a:pt x="6648" y="9748"/>
                </a:moveTo>
                <a:cubicBezTo>
                  <a:pt x="6725" y="9691"/>
                  <a:pt x="6818" y="9683"/>
                  <a:pt x="6921" y="9674"/>
                </a:cubicBezTo>
                <a:cubicBezTo>
                  <a:pt x="7129" y="9656"/>
                  <a:pt x="7371" y="9719"/>
                  <a:pt x="7565" y="9699"/>
                </a:cubicBezTo>
                <a:cubicBezTo>
                  <a:pt x="7606" y="9679"/>
                  <a:pt x="7612" y="9670"/>
                  <a:pt x="7640" y="9674"/>
                </a:cubicBezTo>
              </a:path>
              <a:path w="14884" h="3573">
                <a:moveTo>
                  <a:pt x="6623" y="12477"/>
                </a:moveTo>
                <a:cubicBezTo>
                  <a:pt x="6634" y="12409"/>
                  <a:pt x="6666" y="12405"/>
                  <a:pt x="6747" y="12402"/>
                </a:cubicBezTo>
                <a:cubicBezTo>
                  <a:pt x="6940" y="12395"/>
                  <a:pt x="7155" y="12378"/>
                  <a:pt x="7342" y="12427"/>
                </a:cubicBezTo>
                <a:cubicBezTo>
                  <a:pt x="7415" y="12451"/>
                  <a:pt x="7439" y="12460"/>
                  <a:pt x="7491" y="12452"/>
                </a:cubicBezTo>
              </a:path>
              <a:path w="14884" h="3573">
                <a:moveTo>
                  <a:pt x="6524" y="9252"/>
                </a:moveTo>
                <a:cubicBezTo>
                  <a:pt x="6524" y="9442"/>
                  <a:pt x="6524" y="9633"/>
                  <a:pt x="6524" y="9823"/>
                </a:cubicBezTo>
              </a:path>
              <a:path w="14884" h="3573">
                <a:moveTo>
                  <a:pt x="5953" y="9599"/>
                </a:moveTo>
                <a:cubicBezTo>
                  <a:pt x="5961" y="9599"/>
                  <a:pt x="5970" y="9599"/>
                  <a:pt x="5978" y="9599"/>
                </a:cubicBezTo>
                <a:cubicBezTo>
                  <a:pt x="5965" y="9523"/>
                  <a:pt x="5931" y="9550"/>
                  <a:pt x="5904" y="9599"/>
                </a:cubicBezTo>
                <a:cubicBezTo>
                  <a:pt x="5904" y="9634"/>
                  <a:pt x="5908" y="9652"/>
                  <a:pt x="5928" y="9674"/>
                </a:cubicBezTo>
                <a:cubicBezTo>
                  <a:pt x="5948" y="9627"/>
                  <a:pt x="5964" y="9513"/>
                  <a:pt x="5928" y="9550"/>
                </a:cubicBezTo>
                <a:cubicBezTo>
                  <a:pt x="5910" y="9568"/>
                  <a:pt x="5835" y="9592"/>
                  <a:pt x="5829" y="9599"/>
                </a:cubicBezTo>
                <a:cubicBezTo>
                  <a:pt x="5829" y="9634"/>
                  <a:pt x="5824" y="9652"/>
                  <a:pt x="5804" y="9674"/>
                </a:cubicBezTo>
                <a:cubicBezTo>
                  <a:pt x="5878" y="9674"/>
                  <a:pt x="5946" y="9702"/>
                  <a:pt x="5953" y="9624"/>
                </a:cubicBezTo>
                <a:cubicBezTo>
                  <a:pt x="5953" y="9616"/>
                  <a:pt x="5953" y="9607"/>
                  <a:pt x="5953" y="9599"/>
                </a:cubicBezTo>
                <a:cubicBezTo>
                  <a:pt x="5903" y="9599"/>
                  <a:pt x="5895" y="9610"/>
                  <a:pt x="5854" y="9624"/>
                </a:cubicBezTo>
                <a:cubicBezTo>
                  <a:pt x="5805" y="9640"/>
                  <a:pt x="5826" y="9655"/>
                  <a:pt x="5854" y="9674"/>
                </a:cubicBezTo>
              </a:path>
              <a:path w="14884" h="3573">
                <a:moveTo>
                  <a:pt x="11733" y="9674"/>
                </a:moveTo>
                <a:cubicBezTo>
                  <a:pt x="11683" y="9699"/>
                  <a:pt x="11738" y="9676"/>
                  <a:pt x="11757" y="9674"/>
                </a:cubicBezTo>
                <a:cubicBezTo>
                  <a:pt x="11790" y="9674"/>
                  <a:pt x="11799" y="9666"/>
                  <a:pt x="11782" y="9624"/>
                </a:cubicBezTo>
                <a:cubicBezTo>
                  <a:pt x="11719" y="9603"/>
                  <a:pt x="11794" y="9616"/>
                  <a:pt x="11733" y="9624"/>
                </a:cubicBezTo>
                <a:cubicBezTo>
                  <a:pt x="11679" y="9631"/>
                  <a:pt x="11703" y="9689"/>
                  <a:pt x="11733" y="9699"/>
                </a:cubicBezTo>
                <a:cubicBezTo>
                  <a:pt x="11780" y="9687"/>
                  <a:pt x="11816" y="9637"/>
                  <a:pt x="11757" y="9599"/>
                </a:cubicBezTo>
                <a:cubicBezTo>
                  <a:pt x="11736" y="9585"/>
                  <a:pt x="11635" y="9619"/>
                  <a:pt x="11633" y="9624"/>
                </a:cubicBezTo>
                <a:cubicBezTo>
                  <a:pt x="11626" y="9639"/>
                  <a:pt x="11590" y="9721"/>
                  <a:pt x="11609" y="9748"/>
                </a:cubicBezTo>
                <a:cubicBezTo>
                  <a:pt x="11643" y="9797"/>
                  <a:pt x="11725" y="9709"/>
                  <a:pt x="11733" y="9699"/>
                </a:cubicBezTo>
                <a:cubicBezTo>
                  <a:pt x="11741" y="9691"/>
                  <a:pt x="11749" y="9682"/>
                  <a:pt x="11757" y="9674"/>
                </a:cubicBezTo>
                <a:cubicBezTo>
                  <a:pt x="11740" y="9570"/>
                  <a:pt x="11729" y="9643"/>
                  <a:pt x="11683" y="9674"/>
                </a:cubicBezTo>
                <a:cubicBezTo>
                  <a:pt x="11626" y="9712"/>
                  <a:pt x="11645" y="9651"/>
                  <a:pt x="11658" y="9699"/>
                </a:cubicBezTo>
                <a:cubicBezTo>
                  <a:pt x="11658" y="9715"/>
                  <a:pt x="11658" y="9732"/>
                  <a:pt x="11658" y="9748"/>
                </a:cubicBezTo>
                <a:cubicBezTo>
                  <a:pt x="11691" y="9732"/>
                  <a:pt x="11716" y="9683"/>
                  <a:pt x="11733" y="9674"/>
                </a:cubicBezTo>
                <a:cubicBezTo>
                  <a:pt x="11766" y="9674"/>
                  <a:pt x="11774" y="9665"/>
                  <a:pt x="11757" y="9624"/>
                </a:cubicBezTo>
                <a:cubicBezTo>
                  <a:pt x="11669" y="9624"/>
                  <a:pt x="11696" y="9631"/>
                  <a:pt x="11633" y="9674"/>
                </a:cubicBezTo>
                <a:cubicBezTo>
                  <a:pt x="11625" y="9674"/>
                  <a:pt x="11617" y="9674"/>
                  <a:pt x="11609" y="9674"/>
                </a:cubicBezTo>
              </a:path>
              <a:path w="14884" h="3573">
                <a:moveTo>
                  <a:pt x="8558" y="12601"/>
                </a:moveTo>
                <a:cubicBezTo>
                  <a:pt x="8614" y="12582"/>
                  <a:pt x="8566" y="12567"/>
                  <a:pt x="8558" y="12551"/>
                </a:cubicBezTo>
                <a:cubicBezTo>
                  <a:pt x="8541" y="12515"/>
                  <a:pt x="8537" y="12529"/>
                  <a:pt x="8508" y="12551"/>
                </a:cubicBezTo>
                <a:cubicBezTo>
                  <a:pt x="8485" y="12574"/>
                  <a:pt x="8477" y="12578"/>
                  <a:pt x="8483" y="12601"/>
                </a:cubicBezTo>
                <a:cubicBezTo>
                  <a:pt x="8522" y="12601"/>
                  <a:pt x="8553" y="12617"/>
                  <a:pt x="8558" y="12576"/>
                </a:cubicBezTo>
                <a:cubicBezTo>
                  <a:pt x="8558" y="12551"/>
                  <a:pt x="8558" y="12543"/>
                  <a:pt x="8558" y="12526"/>
                </a:cubicBezTo>
                <a:cubicBezTo>
                  <a:pt x="8542" y="12531"/>
                  <a:pt x="8496" y="12549"/>
                  <a:pt x="8483" y="12576"/>
                </a:cubicBezTo>
                <a:cubicBezTo>
                  <a:pt x="8472" y="12599"/>
                  <a:pt x="8517" y="12624"/>
                  <a:pt x="8533" y="12626"/>
                </a:cubicBezTo>
                <a:cubicBezTo>
                  <a:pt x="8563" y="12630"/>
                  <a:pt x="8563" y="12602"/>
                  <a:pt x="8582" y="12576"/>
                </a:cubicBezTo>
                <a:cubicBezTo>
                  <a:pt x="8572" y="12544"/>
                  <a:pt x="8527" y="12548"/>
                  <a:pt x="8508" y="12576"/>
                </a:cubicBezTo>
                <a:cubicBezTo>
                  <a:pt x="8508" y="12601"/>
                  <a:pt x="8508" y="12609"/>
                  <a:pt x="8508" y="12626"/>
                </a:cubicBezTo>
              </a:path>
              <a:path w="14884" h="3573">
                <a:moveTo>
                  <a:pt x="17537" y="9847"/>
                </a:moveTo>
                <a:cubicBezTo>
                  <a:pt x="17517" y="9888"/>
                  <a:pt x="17498" y="9904"/>
                  <a:pt x="17537" y="9897"/>
                </a:cubicBezTo>
                <a:cubicBezTo>
                  <a:pt x="17601" y="9897"/>
                  <a:pt x="17587" y="9885"/>
                  <a:pt x="17587" y="9823"/>
                </a:cubicBezTo>
                <a:cubicBezTo>
                  <a:pt x="17564" y="9823"/>
                  <a:pt x="17511" y="9840"/>
                  <a:pt x="17512" y="9847"/>
                </a:cubicBezTo>
                <a:cubicBezTo>
                  <a:pt x="17520" y="9864"/>
                  <a:pt x="17529" y="9880"/>
                  <a:pt x="17537" y="9897"/>
                </a:cubicBezTo>
              </a:path>
              <a:path w="14884" h="3573">
                <a:moveTo>
                  <a:pt x="15205" y="12774"/>
                </a:moveTo>
                <a:cubicBezTo>
                  <a:pt x="15197" y="12774"/>
                  <a:pt x="15188" y="12774"/>
                  <a:pt x="15180" y="12774"/>
                </a:cubicBezTo>
                <a:cubicBezTo>
                  <a:pt x="15192" y="12809"/>
                  <a:pt x="15218" y="12797"/>
                  <a:pt x="15230" y="12774"/>
                </a:cubicBezTo>
                <a:cubicBezTo>
                  <a:pt x="15260" y="12717"/>
                  <a:pt x="15175" y="12730"/>
                  <a:pt x="15156" y="12774"/>
                </a:cubicBezTo>
                <a:cubicBezTo>
                  <a:pt x="15156" y="12799"/>
                  <a:pt x="15156" y="12807"/>
                  <a:pt x="15131" y="12799"/>
                </a:cubicBezTo>
                <a:cubicBezTo>
                  <a:pt x="15163" y="12823"/>
                  <a:pt x="15190" y="12829"/>
                  <a:pt x="15205" y="12799"/>
                </a:cubicBezTo>
                <a:cubicBezTo>
                  <a:pt x="15221" y="12766"/>
                  <a:pt x="15230" y="12774"/>
                  <a:pt x="15230" y="12725"/>
                </a:cubicBezTo>
                <a:cubicBezTo>
                  <a:pt x="15197" y="12736"/>
                  <a:pt x="15200" y="12764"/>
                  <a:pt x="15180" y="12774"/>
                </a:cubicBezTo>
                <a:cubicBezTo>
                  <a:pt x="15172" y="12774"/>
                  <a:pt x="15164" y="12774"/>
                  <a:pt x="15156" y="12774"/>
                </a:cubicBezTo>
              </a:path>
              <a:path w="14884" h="3573">
                <a:moveTo>
                  <a:pt x="4911" y="10344"/>
                </a:moveTo>
                <a:cubicBezTo>
                  <a:pt x="4920" y="10328"/>
                  <a:pt x="4958" y="10256"/>
                  <a:pt x="4986" y="10220"/>
                </a:cubicBezTo>
                <a:cubicBezTo>
                  <a:pt x="5015" y="10181"/>
                  <a:pt x="5055" y="10170"/>
                  <a:pt x="5085" y="10120"/>
                </a:cubicBezTo>
                <a:cubicBezTo>
                  <a:pt x="5116" y="10069"/>
                  <a:pt x="5143" y="10014"/>
                  <a:pt x="5184" y="9971"/>
                </a:cubicBezTo>
                <a:cubicBezTo>
                  <a:pt x="5197" y="9957"/>
                  <a:pt x="5270" y="9914"/>
                  <a:pt x="5283" y="9897"/>
                </a:cubicBezTo>
                <a:cubicBezTo>
                  <a:pt x="5332" y="9836"/>
                  <a:pt x="5372" y="9825"/>
                  <a:pt x="5432" y="9773"/>
                </a:cubicBezTo>
                <a:cubicBezTo>
                  <a:pt x="5480" y="9731"/>
                  <a:pt x="5523" y="9744"/>
                  <a:pt x="5581" y="9699"/>
                </a:cubicBezTo>
                <a:cubicBezTo>
                  <a:pt x="5632" y="9659"/>
                  <a:pt x="5675" y="9647"/>
                  <a:pt x="5730" y="9624"/>
                </a:cubicBezTo>
                <a:cubicBezTo>
                  <a:pt x="5794" y="9597"/>
                  <a:pt x="5833" y="9599"/>
                  <a:pt x="5904" y="9599"/>
                </a:cubicBezTo>
                <a:cubicBezTo>
                  <a:pt x="6024" y="9599"/>
                  <a:pt x="6138" y="9605"/>
                  <a:pt x="6251" y="9624"/>
                </a:cubicBezTo>
                <a:cubicBezTo>
                  <a:pt x="6319" y="9635"/>
                  <a:pt x="6326" y="9659"/>
                  <a:pt x="6400" y="9674"/>
                </a:cubicBezTo>
              </a:path>
              <a:path w="14884" h="3573">
                <a:moveTo>
                  <a:pt x="6077" y="9525"/>
                </a:moveTo>
                <a:cubicBezTo>
                  <a:pt x="6133" y="9552"/>
                  <a:pt x="6177" y="9571"/>
                  <a:pt x="6226" y="9599"/>
                </a:cubicBezTo>
                <a:cubicBezTo>
                  <a:pt x="6311" y="9648"/>
                  <a:pt x="6390" y="9690"/>
                  <a:pt x="6474" y="9748"/>
                </a:cubicBezTo>
                <a:cubicBezTo>
                  <a:pt x="6521" y="9780"/>
                  <a:pt x="6596" y="9799"/>
                  <a:pt x="6648" y="9847"/>
                </a:cubicBezTo>
                <a:cubicBezTo>
                  <a:pt x="6714" y="9908"/>
                  <a:pt x="6741" y="9996"/>
                  <a:pt x="6796" y="10046"/>
                </a:cubicBezTo>
                <a:cubicBezTo>
                  <a:pt x="6870" y="10113"/>
                  <a:pt x="6957" y="10152"/>
                  <a:pt x="7020" y="10220"/>
                </a:cubicBezTo>
                <a:cubicBezTo>
                  <a:pt x="7090" y="10296"/>
                  <a:pt x="7138" y="10410"/>
                  <a:pt x="7193" y="10492"/>
                </a:cubicBezTo>
                <a:cubicBezTo>
                  <a:pt x="7240" y="10562"/>
                  <a:pt x="7277" y="10613"/>
                  <a:pt x="7317" y="10691"/>
                </a:cubicBezTo>
                <a:cubicBezTo>
                  <a:pt x="7356" y="10767"/>
                  <a:pt x="7379" y="10840"/>
                  <a:pt x="7417" y="10914"/>
                </a:cubicBezTo>
                <a:cubicBezTo>
                  <a:pt x="7448" y="10974"/>
                  <a:pt x="7485" y="11027"/>
                  <a:pt x="7516" y="11088"/>
                </a:cubicBezTo>
                <a:cubicBezTo>
                  <a:pt x="7548" y="11151"/>
                  <a:pt x="7554" y="11198"/>
                  <a:pt x="7590" y="11261"/>
                </a:cubicBezTo>
                <a:cubicBezTo>
                  <a:pt x="7614" y="11303"/>
                  <a:pt x="7643" y="11345"/>
                  <a:pt x="7665" y="11385"/>
                </a:cubicBezTo>
                <a:cubicBezTo>
                  <a:pt x="7699" y="11449"/>
                  <a:pt x="7732" y="11502"/>
                  <a:pt x="7764" y="11559"/>
                </a:cubicBezTo>
                <a:cubicBezTo>
                  <a:pt x="7791" y="11607"/>
                  <a:pt x="7814" y="11666"/>
                  <a:pt x="7838" y="11708"/>
                </a:cubicBezTo>
                <a:cubicBezTo>
                  <a:pt x="7859" y="11746"/>
                  <a:pt x="7891" y="11771"/>
                  <a:pt x="7913" y="11807"/>
                </a:cubicBezTo>
                <a:cubicBezTo>
                  <a:pt x="7938" y="11848"/>
                  <a:pt x="7939" y="11892"/>
                  <a:pt x="7962" y="11931"/>
                </a:cubicBezTo>
                <a:cubicBezTo>
                  <a:pt x="7978" y="11959"/>
                  <a:pt x="8029" y="11992"/>
                  <a:pt x="8037" y="12005"/>
                </a:cubicBezTo>
                <a:cubicBezTo>
                  <a:pt x="8058" y="12041"/>
                  <a:pt x="8061" y="12089"/>
                  <a:pt x="8086" y="12129"/>
                </a:cubicBezTo>
                <a:cubicBezTo>
                  <a:pt x="8127" y="12195"/>
                  <a:pt x="8166" y="12262"/>
                  <a:pt x="8210" y="12328"/>
                </a:cubicBezTo>
                <a:cubicBezTo>
                  <a:pt x="8227" y="12354"/>
                  <a:pt x="8248" y="12387"/>
                  <a:pt x="8260" y="12402"/>
                </a:cubicBezTo>
                <a:cubicBezTo>
                  <a:pt x="8295" y="12446"/>
                  <a:pt x="8292" y="12441"/>
                  <a:pt x="8334" y="12477"/>
                </a:cubicBezTo>
                <a:cubicBezTo>
                  <a:pt x="8357" y="12497"/>
                  <a:pt x="8353" y="12508"/>
                  <a:pt x="8384" y="12526"/>
                </a:cubicBezTo>
                <a:cubicBezTo>
                  <a:pt x="8420" y="12547"/>
                  <a:pt x="8447" y="12560"/>
                  <a:pt x="8483" y="12576"/>
                </a:cubicBezTo>
                <a:cubicBezTo>
                  <a:pt x="8518" y="12591"/>
                  <a:pt x="8543" y="12594"/>
                  <a:pt x="8582" y="12601"/>
                </a:cubicBezTo>
                <a:cubicBezTo>
                  <a:pt x="8626" y="12609"/>
                  <a:pt x="8659" y="12626"/>
                  <a:pt x="8682" y="12626"/>
                </a:cubicBezTo>
                <a:cubicBezTo>
                  <a:pt x="8715" y="12626"/>
                  <a:pt x="8743" y="12606"/>
                  <a:pt x="8781" y="12601"/>
                </a:cubicBezTo>
                <a:cubicBezTo>
                  <a:pt x="8825" y="12595"/>
                  <a:pt x="8863" y="12589"/>
                  <a:pt x="8905" y="12576"/>
                </a:cubicBezTo>
                <a:cubicBezTo>
                  <a:pt x="8937" y="12566"/>
                  <a:pt x="8972" y="12538"/>
                  <a:pt x="9004" y="12526"/>
                </a:cubicBezTo>
                <a:cubicBezTo>
                  <a:pt x="9038" y="12513"/>
                  <a:pt x="9036" y="12496"/>
                  <a:pt x="9079" y="12477"/>
                </a:cubicBezTo>
                <a:cubicBezTo>
                  <a:pt x="9115" y="12461"/>
                  <a:pt x="9142" y="12448"/>
                  <a:pt x="9178" y="12427"/>
                </a:cubicBezTo>
                <a:cubicBezTo>
                  <a:pt x="9222" y="12401"/>
                  <a:pt x="9283" y="12384"/>
                  <a:pt x="9327" y="12353"/>
                </a:cubicBezTo>
                <a:cubicBezTo>
                  <a:pt x="9540" y="12199"/>
                  <a:pt x="9715" y="11985"/>
                  <a:pt x="9872" y="11782"/>
                </a:cubicBezTo>
                <a:cubicBezTo>
                  <a:pt x="9914" y="11728"/>
                  <a:pt x="9952" y="11688"/>
                  <a:pt x="9996" y="11633"/>
                </a:cubicBezTo>
                <a:cubicBezTo>
                  <a:pt x="10053" y="11561"/>
                  <a:pt x="10106" y="11476"/>
                  <a:pt x="10170" y="11410"/>
                </a:cubicBezTo>
                <a:cubicBezTo>
                  <a:pt x="10220" y="11358"/>
                  <a:pt x="10270" y="11315"/>
                  <a:pt x="10319" y="11261"/>
                </a:cubicBezTo>
                <a:cubicBezTo>
                  <a:pt x="10363" y="11212"/>
                  <a:pt x="10401" y="11170"/>
                  <a:pt x="10443" y="11112"/>
                </a:cubicBezTo>
                <a:cubicBezTo>
                  <a:pt x="10494" y="11042"/>
                  <a:pt x="10539" y="10957"/>
                  <a:pt x="10592" y="10889"/>
                </a:cubicBezTo>
                <a:cubicBezTo>
                  <a:pt x="10630" y="10841"/>
                  <a:pt x="10677" y="10797"/>
                  <a:pt x="10716" y="10740"/>
                </a:cubicBezTo>
                <a:cubicBezTo>
                  <a:pt x="10764" y="10671"/>
                  <a:pt x="10810" y="10581"/>
                  <a:pt x="10864" y="10517"/>
                </a:cubicBezTo>
                <a:cubicBezTo>
                  <a:pt x="10904" y="10469"/>
                  <a:pt x="10966" y="10420"/>
                  <a:pt x="11013" y="10368"/>
                </a:cubicBezTo>
                <a:cubicBezTo>
                  <a:pt x="11059" y="10317"/>
                  <a:pt x="11093" y="10270"/>
                  <a:pt x="11137" y="10220"/>
                </a:cubicBezTo>
                <a:cubicBezTo>
                  <a:pt x="11169" y="10183"/>
                  <a:pt x="11200" y="10161"/>
                  <a:pt x="11237" y="10120"/>
                </a:cubicBezTo>
                <a:cubicBezTo>
                  <a:pt x="11281" y="10071"/>
                  <a:pt x="11345" y="10011"/>
                  <a:pt x="11385" y="9971"/>
                </a:cubicBezTo>
                <a:cubicBezTo>
                  <a:pt x="11432" y="9923"/>
                  <a:pt x="11443" y="9865"/>
                  <a:pt x="11485" y="9823"/>
                </a:cubicBezTo>
                <a:cubicBezTo>
                  <a:pt x="11504" y="9804"/>
                  <a:pt x="11563" y="9764"/>
                  <a:pt x="11584" y="9748"/>
                </a:cubicBezTo>
                <a:cubicBezTo>
                  <a:pt x="11648" y="9699"/>
                  <a:pt x="11654" y="9701"/>
                  <a:pt x="11733" y="9674"/>
                </a:cubicBezTo>
                <a:cubicBezTo>
                  <a:pt x="11782" y="9657"/>
                  <a:pt x="11771" y="9628"/>
                  <a:pt x="11832" y="9624"/>
                </a:cubicBezTo>
                <a:cubicBezTo>
                  <a:pt x="11866" y="9622"/>
                  <a:pt x="11899" y="9666"/>
                  <a:pt x="11956" y="9674"/>
                </a:cubicBezTo>
                <a:cubicBezTo>
                  <a:pt x="12014" y="9682"/>
                  <a:pt x="12075" y="9679"/>
                  <a:pt x="12129" y="9699"/>
                </a:cubicBezTo>
                <a:cubicBezTo>
                  <a:pt x="12172" y="9714"/>
                  <a:pt x="12224" y="9797"/>
                  <a:pt x="12278" y="9823"/>
                </a:cubicBezTo>
                <a:cubicBezTo>
                  <a:pt x="12347" y="9857"/>
                  <a:pt x="12432" y="9878"/>
                  <a:pt x="12502" y="9922"/>
                </a:cubicBezTo>
                <a:cubicBezTo>
                  <a:pt x="12551" y="9953"/>
                  <a:pt x="12648" y="10027"/>
                  <a:pt x="12700" y="10071"/>
                </a:cubicBezTo>
                <a:cubicBezTo>
                  <a:pt x="12750" y="10113"/>
                  <a:pt x="12811" y="10162"/>
                  <a:pt x="12849" y="10195"/>
                </a:cubicBezTo>
                <a:cubicBezTo>
                  <a:pt x="12910" y="10248"/>
                  <a:pt x="12956" y="10296"/>
                  <a:pt x="12998" y="10344"/>
                </a:cubicBezTo>
                <a:cubicBezTo>
                  <a:pt x="13054" y="10408"/>
                  <a:pt x="13094" y="10429"/>
                  <a:pt x="13146" y="10492"/>
                </a:cubicBezTo>
                <a:cubicBezTo>
                  <a:pt x="13178" y="10531"/>
                  <a:pt x="13223" y="10610"/>
                  <a:pt x="13246" y="10641"/>
                </a:cubicBezTo>
                <a:cubicBezTo>
                  <a:pt x="13295" y="10708"/>
                  <a:pt x="13348" y="10772"/>
                  <a:pt x="13395" y="10840"/>
                </a:cubicBezTo>
                <a:cubicBezTo>
                  <a:pt x="13459" y="10934"/>
                  <a:pt x="13518" y="11066"/>
                  <a:pt x="13593" y="11162"/>
                </a:cubicBezTo>
                <a:cubicBezTo>
                  <a:pt x="13635" y="11215"/>
                  <a:pt x="13671" y="11259"/>
                  <a:pt x="13717" y="11311"/>
                </a:cubicBezTo>
                <a:cubicBezTo>
                  <a:pt x="13765" y="11365"/>
                  <a:pt x="13823" y="11411"/>
                  <a:pt x="13866" y="11460"/>
                </a:cubicBezTo>
                <a:cubicBezTo>
                  <a:pt x="13949" y="11553"/>
                  <a:pt x="14036" y="11646"/>
                  <a:pt x="14114" y="11733"/>
                </a:cubicBezTo>
                <a:cubicBezTo>
                  <a:pt x="14208" y="11838"/>
                  <a:pt x="14292" y="11953"/>
                  <a:pt x="14387" y="12055"/>
                </a:cubicBezTo>
                <a:cubicBezTo>
                  <a:pt x="14455" y="12128"/>
                  <a:pt x="14528" y="12196"/>
                  <a:pt x="14585" y="12254"/>
                </a:cubicBezTo>
                <a:cubicBezTo>
                  <a:pt x="14716" y="12387"/>
                  <a:pt x="14852" y="12545"/>
                  <a:pt x="15007" y="12626"/>
                </a:cubicBezTo>
                <a:cubicBezTo>
                  <a:pt x="15031" y="12639"/>
                  <a:pt x="15079" y="12641"/>
                  <a:pt x="15106" y="12650"/>
                </a:cubicBezTo>
                <a:cubicBezTo>
                  <a:pt x="15148" y="12664"/>
                  <a:pt x="15210" y="12701"/>
                  <a:pt x="15255" y="12700"/>
                </a:cubicBezTo>
                <a:cubicBezTo>
                  <a:pt x="15311" y="12699"/>
                  <a:pt x="15358" y="12665"/>
                  <a:pt x="15404" y="12650"/>
                </a:cubicBezTo>
                <a:cubicBezTo>
                  <a:pt x="15444" y="12637"/>
                  <a:pt x="15467" y="12624"/>
                  <a:pt x="15503" y="12601"/>
                </a:cubicBezTo>
                <a:cubicBezTo>
                  <a:pt x="15621" y="12528"/>
                  <a:pt x="15680" y="12418"/>
                  <a:pt x="15751" y="12303"/>
                </a:cubicBezTo>
                <a:cubicBezTo>
                  <a:pt x="15781" y="12255"/>
                  <a:pt x="15789" y="12206"/>
                  <a:pt x="15825" y="12154"/>
                </a:cubicBezTo>
                <a:cubicBezTo>
                  <a:pt x="15882" y="12070"/>
                  <a:pt x="15942" y="11990"/>
                  <a:pt x="15999" y="11906"/>
                </a:cubicBezTo>
                <a:cubicBezTo>
                  <a:pt x="16050" y="11830"/>
                  <a:pt x="16093" y="11756"/>
                  <a:pt x="16148" y="11683"/>
                </a:cubicBezTo>
                <a:cubicBezTo>
                  <a:pt x="16193" y="11623"/>
                  <a:pt x="16232" y="11569"/>
                  <a:pt x="16272" y="11509"/>
                </a:cubicBezTo>
                <a:cubicBezTo>
                  <a:pt x="16549" y="11094"/>
                  <a:pt x="16704" y="10580"/>
                  <a:pt x="17041" y="10220"/>
                </a:cubicBezTo>
                <a:cubicBezTo>
                  <a:pt x="17079" y="10180"/>
                  <a:pt x="17120" y="10159"/>
                  <a:pt x="17165" y="10120"/>
                </a:cubicBezTo>
                <a:cubicBezTo>
                  <a:pt x="17195" y="10094"/>
                  <a:pt x="17253" y="10071"/>
                  <a:pt x="17289" y="10046"/>
                </a:cubicBezTo>
                <a:cubicBezTo>
                  <a:pt x="17357" y="9998"/>
                  <a:pt x="17378" y="10004"/>
                  <a:pt x="17438" y="9971"/>
                </a:cubicBezTo>
                <a:cubicBezTo>
                  <a:pt x="17513" y="9930"/>
                  <a:pt x="17511" y="9924"/>
                  <a:pt x="17587" y="9897"/>
                </a:cubicBezTo>
                <a:cubicBezTo>
                  <a:pt x="17639" y="9879"/>
                  <a:pt x="17674" y="9834"/>
                  <a:pt x="17735" y="9823"/>
                </a:cubicBezTo>
                <a:cubicBezTo>
                  <a:pt x="17940" y="9787"/>
                  <a:pt x="18125" y="9847"/>
                  <a:pt x="18306" y="9897"/>
                </a:cubicBezTo>
                <a:cubicBezTo>
                  <a:pt x="18410" y="9925"/>
                  <a:pt x="18525" y="9949"/>
                  <a:pt x="18628" y="9996"/>
                </a:cubicBezTo>
                <a:cubicBezTo>
                  <a:pt x="18702" y="10030"/>
                  <a:pt x="18774" y="10086"/>
                  <a:pt x="18852" y="10120"/>
                </a:cubicBezTo>
                <a:cubicBezTo>
                  <a:pt x="18903" y="10142"/>
                  <a:pt x="18935" y="10178"/>
                  <a:pt x="18976" y="10195"/>
                </a:cubicBezTo>
                <a:cubicBezTo>
                  <a:pt x="18997" y="10204"/>
                  <a:pt x="19030" y="10185"/>
                  <a:pt x="19050" y="10195"/>
                </a:cubicBezTo>
              </a:path>
              <a:path w="14884" h="3573">
                <a:moveTo>
                  <a:pt x="19124" y="9823"/>
                </a:moveTo>
                <a:cubicBezTo>
                  <a:pt x="19195" y="9908"/>
                  <a:pt x="19236" y="9968"/>
                  <a:pt x="19273" y="10071"/>
                </a:cubicBezTo>
                <a:cubicBezTo>
                  <a:pt x="19304" y="10158"/>
                  <a:pt x="19351" y="10263"/>
                  <a:pt x="19397" y="10344"/>
                </a:cubicBezTo>
                <a:cubicBezTo>
                  <a:pt x="19426" y="10372"/>
                  <a:pt x="19434" y="10385"/>
                  <a:pt x="19422" y="10418"/>
                </a:cubicBezTo>
                <a:cubicBezTo>
                  <a:pt x="19356" y="10467"/>
                  <a:pt x="19328" y="10426"/>
                  <a:pt x="19248" y="10418"/>
                </a:cubicBezTo>
                <a:cubicBezTo>
                  <a:pt x="19108" y="10404"/>
                  <a:pt x="18997" y="10349"/>
                  <a:pt x="18852" y="10344"/>
                </a:cubicBezTo>
                <a:cubicBezTo>
                  <a:pt x="18762" y="10341"/>
                  <a:pt x="18690" y="10349"/>
                  <a:pt x="18604" y="10368"/>
                </a:cubicBezTo>
              </a:path>
              <a:path w="14884" h="3573">
                <a:moveTo>
                  <a:pt x="4911" y="9922"/>
                </a:moveTo>
                <a:cubicBezTo>
                  <a:pt x="4894" y="9973"/>
                  <a:pt x="4893" y="10039"/>
                  <a:pt x="4887" y="10120"/>
                </a:cubicBezTo>
                <a:cubicBezTo>
                  <a:pt x="4879" y="10231"/>
                  <a:pt x="4870" y="10321"/>
                  <a:pt x="4862" y="10418"/>
                </a:cubicBezTo>
                <a:cubicBezTo>
                  <a:pt x="4858" y="10466"/>
                  <a:pt x="4928" y="10544"/>
                  <a:pt x="4961" y="10567"/>
                </a:cubicBezTo>
                <a:cubicBezTo>
                  <a:pt x="5045" y="10626"/>
                  <a:pt x="5202" y="10508"/>
                  <a:pt x="5259" y="10517"/>
                </a:cubicBezTo>
                <a:cubicBezTo>
                  <a:pt x="5289" y="10521"/>
                  <a:pt x="5500" y="10567"/>
                  <a:pt x="5531" y="10592"/>
                </a:cubicBezTo>
                <a:cubicBezTo>
                  <a:pt x="5539" y="10608"/>
                  <a:pt x="5548" y="10625"/>
                  <a:pt x="5556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81160" y="4456080"/>
            <a:ext cx="106560" cy="1800"/>
          </a:xfrm>
          <a:custGeom>
            <a:avLst/>
            <a:gdLst/>
            <a:ahLst/>
            <a:rect l="l" t="t" r="r" b="b"/>
            <a:pathLst>
              <a:path w="299" h="1">
                <a:moveTo>
                  <a:pt x="5779" y="12378"/>
                </a:moveTo>
                <a:cubicBezTo>
                  <a:pt x="5878" y="12378"/>
                  <a:pt x="5978" y="12378"/>
                  <a:pt x="6077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03640" y="4357800"/>
            <a:ext cx="9360" cy="214200"/>
          </a:xfrm>
          <a:custGeom>
            <a:avLst/>
            <a:gdLst/>
            <a:ahLst/>
            <a:rect l="l" t="t" r="r" b="b"/>
            <a:pathLst>
              <a:path w="25" h="596">
                <a:moveTo>
                  <a:pt x="6400" y="12105"/>
                </a:moveTo>
                <a:cubicBezTo>
                  <a:pt x="6418" y="12250"/>
                  <a:pt x="6424" y="12381"/>
                  <a:pt x="6424" y="12526"/>
                </a:cubicBezTo>
                <a:cubicBezTo>
                  <a:pt x="6424" y="12584"/>
                  <a:pt x="6424" y="12642"/>
                  <a:pt x="6424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45000" y="3956040"/>
            <a:ext cx="3197160" cy="54000"/>
          </a:xfrm>
          <a:custGeom>
            <a:avLst/>
            <a:gdLst/>
            <a:ahLst/>
            <a:rect l="l" t="t" r="r" b="b"/>
            <a:pathLst>
              <a:path w="8881" h="150">
                <a:moveTo>
                  <a:pt x="12626" y="11088"/>
                </a:moveTo>
                <a:cubicBezTo>
                  <a:pt x="12743" y="11101"/>
                  <a:pt x="12852" y="11110"/>
                  <a:pt x="12973" y="11112"/>
                </a:cubicBezTo>
                <a:cubicBezTo>
                  <a:pt x="13142" y="11115"/>
                  <a:pt x="13302" y="11094"/>
                  <a:pt x="13469" y="11088"/>
                </a:cubicBezTo>
                <a:cubicBezTo>
                  <a:pt x="13703" y="11079"/>
                  <a:pt x="13931" y="11105"/>
                  <a:pt x="14163" y="11112"/>
                </a:cubicBezTo>
                <a:cubicBezTo>
                  <a:pt x="14331" y="11117"/>
                  <a:pt x="14493" y="11131"/>
                  <a:pt x="14660" y="11137"/>
                </a:cubicBezTo>
                <a:cubicBezTo>
                  <a:pt x="15158" y="11154"/>
                  <a:pt x="15653" y="11112"/>
                  <a:pt x="16148" y="11112"/>
                </a:cubicBezTo>
                <a:cubicBezTo>
                  <a:pt x="16341" y="11112"/>
                  <a:pt x="16526" y="11091"/>
                  <a:pt x="16718" y="11088"/>
                </a:cubicBezTo>
                <a:cubicBezTo>
                  <a:pt x="16902" y="11085"/>
                  <a:pt x="17081" y="11070"/>
                  <a:pt x="17264" y="11063"/>
                </a:cubicBezTo>
                <a:cubicBezTo>
                  <a:pt x="17455" y="11055"/>
                  <a:pt x="17644" y="11041"/>
                  <a:pt x="17835" y="11038"/>
                </a:cubicBezTo>
                <a:cubicBezTo>
                  <a:pt x="18014" y="11035"/>
                  <a:pt x="18201" y="11029"/>
                  <a:pt x="18380" y="11013"/>
                </a:cubicBezTo>
                <a:cubicBezTo>
                  <a:pt x="18613" y="10992"/>
                  <a:pt x="18840" y="10988"/>
                  <a:pt x="19075" y="10988"/>
                </a:cubicBezTo>
                <a:cubicBezTo>
                  <a:pt x="19324" y="10988"/>
                  <a:pt x="19573" y="11005"/>
                  <a:pt x="19819" y="11013"/>
                </a:cubicBezTo>
                <a:cubicBezTo>
                  <a:pt x="20067" y="11021"/>
                  <a:pt x="20315" y="11021"/>
                  <a:pt x="20563" y="11038"/>
                </a:cubicBezTo>
                <a:cubicBezTo>
                  <a:pt x="20751" y="11051"/>
                  <a:pt x="20945" y="11049"/>
                  <a:pt x="21134" y="11063"/>
                </a:cubicBezTo>
                <a:cubicBezTo>
                  <a:pt x="21233" y="11071"/>
                  <a:pt x="21307" y="11101"/>
                  <a:pt x="21406" y="11063"/>
                </a:cubicBezTo>
                <a:cubicBezTo>
                  <a:pt x="21439" y="11050"/>
                  <a:pt x="21476" y="11056"/>
                  <a:pt x="21506" y="11038"/>
                </a:cubicBezTo>
                <a:cubicBezTo>
                  <a:pt x="21506" y="11010"/>
                  <a:pt x="21504" y="10999"/>
                  <a:pt x="21481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period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218960" y="3733920"/>
            <a:ext cx="5257800" cy="1274760"/>
            <a:chOff x="1218960" y="3733920"/>
            <a:chExt cx="5257800" cy="1274760"/>
          </a:xfrm>
        </p:grpSpPr>
        <p:sp>
          <p:nvSpPr>
            <p:cNvPr id="89" name=""/>
            <p:cNvSpPr/>
            <p:nvPr/>
          </p:nvSpPr>
          <p:spPr>
            <a:xfrm>
              <a:off x="2819520" y="373392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218960" y="42800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794120" cy="164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94000" y="4687920"/>
            <a:ext cx="517320" cy="223920"/>
          </a:xfrm>
          <a:custGeom>
            <a:avLst/>
            <a:gdLst/>
            <a:ahLst/>
            <a:rect l="l" t="t" r="r" b="b"/>
            <a:pathLst>
              <a:path w="1439" h="622">
                <a:moveTo>
                  <a:pt x="7590" y="13295"/>
                </a:moveTo>
                <a:cubicBezTo>
                  <a:pt x="7704" y="13295"/>
                  <a:pt x="7802" y="13315"/>
                  <a:pt x="7913" y="13320"/>
                </a:cubicBezTo>
                <a:cubicBezTo>
                  <a:pt x="7970" y="13323"/>
                  <a:pt x="8029" y="13320"/>
                  <a:pt x="8086" y="13320"/>
                </a:cubicBezTo>
              </a:path>
              <a:path w="1439" h="622">
                <a:moveTo>
                  <a:pt x="6648" y="13196"/>
                </a:moveTo>
                <a:cubicBezTo>
                  <a:pt x="6744" y="13215"/>
                  <a:pt x="6824" y="13221"/>
                  <a:pt x="6921" y="13221"/>
                </a:cubicBezTo>
                <a:cubicBezTo>
                  <a:pt x="6937" y="13221"/>
                  <a:pt x="6954" y="13221"/>
                  <a:pt x="6970" y="13221"/>
                </a:cubicBezTo>
              </a:path>
              <a:path w="1439" h="622">
                <a:moveTo>
                  <a:pt x="7268" y="13022"/>
                </a:moveTo>
                <a:cubicBezTo>
                  <a:pt x="7292" y="13166"/>
                  <a:pt x="7273" y="13254"/>
                  <a:pt x="7268" y="13395"/>
                </a:cubicBezTo>
                <a:cubicBezTo>
                  <a:pt x="7265" y="13471"/>
                  <a:pt x="7251" y="13531"/>
                  <a:pt x="7218" y="13593"/>
                </a:cubicBezTo>
                <a:cubicBezTo>
                  <a:pt x="7210" y="13610"/>
                  <a:pt x="7201" y="13626"/>
                  <a:pt x="7193" y="136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7960" y="4249800"/>
            <a:ext cx="260280" cy="9360"/>
          </a:xfrm>
          <a:custGeom>
            <a:avLst/>
            <a:gdLst/>
            <a:ahLst/>
            <a:rect l="l" t="t" r="r" b="b"/>
            <a:pathLst>
              <a:path w="720" h="26">
                <a:moveTo>
                  <a:pt x="7962" y="11807"/>
                </a:moveTo>
                <a:cubicBezTo>
                  <a:pt x="7934" y="11807"/>
                  <a:pt x="7924" y="11810"/>
                  <a:pt x="7913" y="11832"/>
                </a:cubicBezTo>
                <a:cubicBezTo>
                  <a:pt x="7992" y="11832"/>
                  <a:pt x="8067" y="11829"/>
                  <a:pt x="8111" y="11807"/>
                </a:cubicBezTo>
                <a:cubicBezTo>
                  <a:pt x="8225" y="11750"/>
                  <a:pt x="8500" y="11807"/>
                  <a:pt x="8632" y="11807"/>
                </a:cubicBezTo>
                <a:cubicBezTo>
                  <a:pt x="8541" y="11807"/>
                  <a:pt x="8462" y="11806"/>
                  <a:pt x="8384" y="11832"/>
                </a:cubicBezTo>
                <a:cubicBezTo>
                  <a:pt x="8310" y="11857"/>
                  <a:pt x="8196" y="11827"/>
                  <a:pt x="8136" y="11807"/>
                </a:cubicBezTo>
                <a:cubicBezTo>
                  <a:pt x="8090" y="11792"/>
                  <a:pt x="8011" y="11807"/>
                  <a:pt x="7962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55920" y="2990880"/>
            <a:ext cx="714240" cy="814320"/>
          </a:xfrm>
          <a:custGeom>
            <a:avLst/>
            <a:gdLst/>
            <a:ahLst/>
            <a:rect l="l" t="t" r="r" b="b"/>
            <a:pathLst>
              <a:path w="1986" h="2258">
                <a:moveTo>
                  <a:pt x="7590" y="10294"/>
                </a:moveTo>
                <a:cubicBezTo>
                  <a:pt x="7645" y="10261"/>
                  <a:pt x="7696" y="10269"/>
                  <a:pt x="7764" y="10269"/>
                </a:cubicBezTo>
                <a:cubicBezTo>
                  <a:pt x="7946" y="10269"/>
                  <a:pt x="8128" y="10269"/>
                  <a:pt x="8310" y="10269"/>
                </a:cubicBezTo>
              </a:path>
              <a:path w="1986" h="2258">
                <a:moveTo>
                  <a:pt x="7441" y="9897"/>
                </a:moveTo>
                <a:cubicBezTo>
                  <a:pt x="7441" y="10029"/>
                  <a:pt x="7431" y="10142"/>
                  <a:pt x="7417" y="10269"/>
                </a:cubicBezTo>
                <a:cubicBezTo>
                  <a:pt x="7417" y="10327"/>
                  <a:pt x="7417" y="10335"/>
                  <a:pt x="7417" y="10368"/>
                </a:cubicBezTo>
              </a:path>
              <a:path w="1986" h="2258">
                <a:moveTo>
                  <a:pt x="7838" y="10567"/>
                </a:moveTo>
                <a:cubicBezTo>
                  <a:pt x="7857" y="10525"/>
                  <a:pt x="7890" y="10464"/>
                  <a:pt x="7888" y="10418"/>
                </a:cubicBezTo>
                <a:cubicBezTo>
                  <a:pt x="7886" y="10368"/>
                  <a:pt x="7880" y="10341"/>
                  <a:pt x="7863" y="10294"/>
                </a:cubicBezTo>
                <a:cubicBezTo>
                  <a:pt x="7844" y="10241"/>
                  <a:pt x="7838" y="10209"/>
                  <a:pt x="7838" y="10145"/>
                </a:cubicBezTo>
                <a:cubicBezTo>
                  <a:pt x="7838" y="9677"/>
                  <a:pt x="7809" y="9192"/>
                  <a:pt x="7863" y="8731"/>
                </a:cubicBezTo>
                <a:cubicBezTo>
                  <a:pt x="7879" y="8594"/>
                  <a:pt x="7839" y="8406"/>
                  <a:pt x="7888" y="8310"/>
                </a:cubicBezTo>
              </a:path>
              <a:path w="1986" h="2258">
                <a:moveTo>
                  <a:pt x="7417" y="9004"/>
                </a:moveTo>
                <a:cubicBezTo>
                  <a:pt x="7542" y="9004"/>
                  <a:pt x="7640" y="8962"/>
                  <a:pt x="7764" y="8954"/>
                </a:cubicBezTo>
                <a:cubicBezTo>
                  <a:pt x="7908" y="8945"/>
                  <a:pt x="8046" y="8949"/>
                  <a:pt x="8186" y="8930"/>
                </a:cubicBezTo>
                <a:cubicBezTo>
                  <a:pt x="8241" y="8923"/>
                  <a:pt x="8303" y="8930"/>
                  <a:pt x="8359" y="8930"/>
                </a:cubicBezTo>
              </a:path>
              <a:path w="1986" h="2258">
                <a:moveTo>
                  <a:pt x="6821" y="8731"/>
                </a:moveTo>
                <a:cubicBezTo>
                  <a:pt x="6834" y="8693"/>
                  <a:pt x="6851" y="8706"/>
                  <a:pt x="6896" y="8706"/>
                </a:cubicBezTo>
                <a:cubicBezTo>
                  <a:pt x="6962" y="8706"/>
                  <a:pt x="7028" y="8706"/>
                  <a:pt x="7094" y="8706"/>
                </a:cubicBezTo>
                <a:cubicBezTo>
                  <a:pt x="7094" y="8765"/>
                  <a:pt x="7080" y="8831"/>
                  <a:pt x="7069" y="8855"/>
                </a:cubicBezTo>
                <a:cubicBezTo>
                  <a:pt x="7040" y="8922"/>
                  <a:pt x="7016" y="8963"/>
                  <a:pt x="6970" y="9004"/>
                </a:cubicBezTo>
                <a:cubicBezTo>
                  <a:pt x="6918" y="9050"/>
                  <a:pt x="6933" y="9003"/>
                  <a:pt x="6921" y="9079"/>
                </a:cubicBezTo>
                <a:cubicBezTo>
                  <a:pt x="7059" y="9079"/>
                  <a:pt x="7214" y="9056"/>
                  <a:pt x="7342" y="9103"/>
                </a:cubicBezTo>
              </a:path>
              <a:path w="1986" h="2258">
                <a:moveTo>
                  <a:pt x="8731" y="8880"/>
                </a:moveTo>
                <a:cubicBezTo>
                  <a:pt x="8759" y="8852"/>
                  <a:pt x="8768" y="8839"/>
                  <a:pt x="8756" y="8806"/>
                </a:cubicBezTo>
                <a:cubicBezTo>
                  <a:pt x="8681" y="8806"/>
                  <a:pt x="8736" y="8842"/>
                  <a:pt x="8682" y="8855"/>
                </a:cubicBezTo>
                <a:cubicBezTo>
                  <a:pt x="8622" y="8870"/>
                  <a:pt x="8686" y="8948"/>
                  <a:pt x="8706" y="8930"/>
                </a:cubicBezTo>
                <a:cubicBezTo>
                  <a:pt x="8720" y="8917"/>
                  <a:pt x="8789" y="8834"/>
                  <a:pt x="8781" y="8806"/>
                </a:cubicBezTo>
                <a:cubicBezTo>
                  <a:pt x="8756" y="8806"/>
                  <a:pt x="8748" y="8806"/>
                  <a:pt x="8756" y="8781"/>
                </a:cubicBezTo>
                <a:cubicBezTo>
                  <a:pt x="8738" y="8787"/>
                  <a:pt x="8689" y="8842"/>
                  <a:pt x="8682" y="8855"/>
                </a:cubicBezTo>
                <a:cubicBezTo>
                  <a:pt x="8651" y="8911"/>
                  <a:pt x="8718" y="8930"/>
                  <a:pt x="8756" y="8930"/>
                </a:cubicBezTo>
                <a:cubicBezTo>
                  <a:pt x="8820" y="8930"/>
                  <a:pt x="8806" y="8917"/>
                  <a:pt x="8806" y="8855"/>
                </a:cubicBezTo>
                <a:cubicBezTo>
                  <a:pt x="8806" y="8839"/>
                  <a:pt x="8806" y="8822"/>
                  <a:pt x="8806" y="8806"/>
                </a:cubicBezTo>
                <a:cubicBezTo>
                  <a:pt x="8763" y="8806"/>
                  <a:pt x="8720" y="8830"/>
                  <a:pt x="8706" y="8855"/>
                </a:cubicBezTo>
                <a:cubicBezTo>
                  <a:pt x="8684" y="8893"/>
                  <a:pt x="8712" y="8918"/>
                  <a:pt x="8731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6160" y="2205000"/>
            <a:ext cx="46080" cy="393840"/>
          </a:xfrm>
          <a:custGeom>
            <a:avLst/>
            <a:gdLst/>
            <a:ahLst/>
            <a:rect l="l" t="t" r="r" b="b"/>
            <a:pathLst>
              <a:path w="125" h="1092">
                <a:moveTo>
                  <a:pt x="8781" y="6127"/>
                </a:moveTo>
                <a:cubicBezTo>
                  <a:pt x="8781" y="6201"/>
                  <a:pt x="8770" y="6279"/>
                  <a:pt x="8756" y="6350"/>
                </a:cubicBezTo>
                <a:cubicBezTo>
                  <a:pt x="8733" y="6474"/>
                  <a:pt x="8706" y="6600"/>
                  <a:pt x="8682" y="6722"/>
                </a:cubicBezTo>
                <a:cubicBezTo>
                  <a:pt x="8660" y="6835"/>
                  <a:pt x="8661" y="6884"/>
                  <a:pt x="8682" y="6995"/>
                </a:cubicBezTo>
                <a:cubicBezTo>
                  <a:pt x="8695" y="7064"/>
                  <a:pt x="8682" y="7147"/>
                  <a:pt x="8682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92880" y="2625840"/>
            <a:ext cx="903240" cy="536400"/>
          </a:xfrm>
          <a:custGeom>
            <a:avLst/>
            <a:gdLst/>
            <a:ahLst/>
            <a:rect l="l" t="t" r="r" b="b"/>
            <a:pathLst>
              <a:path w="2506" h="1489">
                <a:moveTo>
                  <a:pt x="17760" y="7913"/>
                </a:moveTo>
                <a:cubicBezTo>
                  <a:pt x="17789" y="8005"/>
                  <a:pt x="17790" y="8051"/>
                  <a:pt x="17835" y="8111"/>
                </a:cubicBezTo>
                <a:cubicBezTo>
                  <a:pt x="17835" y="8049"/>
                  <a:pt x="17825" y="8021"/>
                  <a:pt x="17810" y="7962"/>
                </a:cubicBezTo>
                <a:cubicBezTo>
                  <a:pt x="17784" y="7861"/>
                  <a:pt x="17816" y="7748"/>
                  <a:pt x="17859" y="7665"/>
                </a:cubicBezTo>
                <a:cubicBezTo>
                  <a:pt x="17902" y="7582"/>
                  <a:pt x="17962" y="7545"/>
                  <a:pt x="18033" y="7491"/>
                </a:cubicBezTo>
                <a:cubicBezTo>
                  <a:pt x="18073" y="7461"/>
                  <a:pt x="18118" y="7466"/>
                  <a:pt x="18157" y="7441"/>
                </a:cubicBezTo>
                <a:cubicBezTo>
                  <a:pt x="18196" y="7416"/>
                  <a:pt x="18208" y="7417"/>
                  <a:pt x="18256" y="7417"/>
                </a:cubicBezTo>
              </a:path>
              <a:path w="2506" h="1489">
                <a:moveTo>
                  <a:pt x="18430" y="7789"/>
                </a:moveTo>
                <a:cubicBezTo>
                  <a:pt x="18430" y="7892"/>
                  <a:pt x="18445" y="7969"/>
                  <a:pt x="18455" y="8062"/>
                </a:cubicBezTo>
                <a:cubicBezTo>
                  <a:pt x="18455" y="8086"/>
                  <a:pt x="18455" y="8095"/>
                  <a:pt x="18455" y="8111"/>
                </a:cubicBezTo>
                <a:cubicBezTo>
                  <a:pt x="18500" y="8095"/>
                  <a:pt x="18479" y="8017"/>
                  <a:pt x="18479" y="7962"/>
                </a:cubicBezTo>
              </a:path>
              <a:path w="2506" h="1489">
                <a:moveTo>
                  <a:pt x="18455" y="7342"/>
                </a:moveTo>
                <a:cubicBezTo>
                  <a:pt x="18447" y="7342"/>
                  <a:pt x="18438" y="7342"/>
                  <a:pt x="18430" y="7342"/>
                </a:cubicBezTo>
              </a:path>
              <a:path w="2506" h="1489">
                <a:moveTo>
                  <a:pt x="18926" y="7714"/>
                </a:moveTo>
                <a:cubicBezTo>
                  <a:pt x="18900" y="7670"/>
                  <a:pt x="18883" y="7626"/>
                  <a:pt x="18852" y="7590"/>
                </a:cubicBezTo>
                <a:cubicBezTo>
                  <a:pt x="18805" y="7537"/>
                  <a:pt x="18778" y="7580"/>
                  <a:pt x="18752" y="7615"/>
                </a:cubicBezTo>
                <a:cubicBezTo>
                  <a:pt x="18709" y="7672"/>
                  <a:pt x="18686" y="7740"/>
                  <a:pt x="18678" y="7813"/>
                </a:cubicBezTo>
                <a:cubicBezTo>
                  <a:pt x="18670" y="7881"/>
                  <a:pt x="18666" y="7977"/>
                  <a:pt x="18703" y="8037"/>
                </a:cubicBezTo>
                <a:cubicBezTo>
                  <a:pt x="18731" y="8083"/>
                  <a:pt x="18772" y="8063"/>
                  <a:pt x="18802" y="8037"/>
                </a:cubicBezTo>
                <a:cubicBezTo>
                  <a:pt x="18830" y="8012"/>
                  <a:pt x="18848" y="7949"/>
                  <a:pt x="18852" y="7913"/>
                </a:cubicBezTo>
                <a:cubicBezTo>
                  <a:pt x="18857" y="7873"/>
                  <a:pt x="18852" y="7830"/>
                  <a:pt x="18852" y="7789"/>
                </a:cubicBezTo>
                <a:cubicBezTo>
                  <a:pt x="18878" y="7824"/>
                  <a:pt x="18895" y="7893"/>
                  <a:pt x="18901" y="7938"/>
                </a:cubicBezTo>
                <a:cubicBezTo>
                  <a:pt x="18915" y="8043"/>
                  <a:pt x="18908" y="8155"/>
                  <a:pt x="18926" y="8260"/>
                </a:cubicBezTo>
                <a:cubicBezTo>
                  <a:pt x="18941" y="8348"/>
                  <a:pt x="18997" y="8468"/>
                  <a:pt x="18976" y="8558"/>
                </a:cubicBezTo>
                <a:cubicBezTo>
                  <a:pt x="18965" y="8602"/>
                  <a:pt x="18944" y="8683"/>
                  <a:pt x="18926" y="8731"/>
                </a:cubicBezTo>
                <a:cubicBezTo>
                  <a:pt x="18888" y="8832"/>
                  <a:pt x="18852" y="8770"/>
                  <a:pt x="18827" y="8731"/>
                </a:cubicBezTo>
                <a:cubicBezTo>
                  <a:pt x="18819" y="8723"/>
                  <a:pt x="18810" y="8714"/>
                  <a:pt x="18802" y="8706"/>
                </a:cubicBezTo>
              </a:path>
              <a:path w="2506" h="1489">
                <a:moveTo>
                  <a:pt x="19100" y="7293"/>
                </a:moveTo>
                <a:cubicBezTo>
                  <a:pt x="19100" y="7501"/>
                  <a:pt x="19099" y="7712"/>
                  <a:pt x="19124" y="7913"/>
                </a:cubicBezTo>
                <a:cubicBezTo>
                  <a:pt x="19131" y="7966"/>
                  <a:pt x="19149" y="8008"/>
                  <a:pt x="19149" y="8062"/>
                </a:cubicBezTo>
                <a:cubicBezTo>
                  <a:pt x="19149" y="8070"/>
                  <a:pt x="19149" y="8078"/>
                  <a:pt x="19149" y="8086"/>
                </a:cubicBezTo>
                <a:cubicBezTo>
                  <a:pt x="19149" y="7991"/>
                  <a:pt x="19143" y="7905"/>
                  <a:pt x="19174" y="7813"/>
                </a:cubicBezTo>
                <a:cubicBezTo>
                  <a:pt x="19197" y="7745"/>
                  <a:pt x="19249" y="7732"/>
                  <a:pt x="19298" y="7689"/>
                </a:cubicBezTo>
                <a:cubicBezTo>
                  <a:pt x="19306" y="7681"/>
                  <a:pt x="19315" y="7673"/>
                  <a:pt x="19323" y="7665"/>
                </a:cubicBezTo>
                <a:cubicBezTo>
                  <a:pt x="19365" y="7706"/>
                  <a:pt x="19390" y="7740"/>
                  <a:pt x="19422" y="7789"/>
                </a:cubicBezTo>
                <a:cubicBezTo>
                  <a:pt x="19455" y="7840"/>
                  <a:pt x="19488" y="7914"/>
                  <a:pt x="19521" y="7938"/>
                </a:cubicBezTo>
                <a:cubicBezTo>
                  <a:pt x="19565" y="7970"/>
                  <a:pt x="19564" y="7987"/>
                  <a:pt x="19621" y="7987"/>
                </a:cubicBezTo>
                <a:cubicBezTo>
                  <a:pt x="19676" y="7987"/>
                  <a:pt x="19686" y="7933"/>
                  <a:pt x="19695" y="7888"/>
                </a:cubicBezTo>
              </a:path>
              <a:path w="2506" h="1489">
                <a:moveTo>
                  <a:pt x="19670" y="7739"/>
                </a:moveTo>
                <a:cubicBezTo>
                  <a:pt x="19732" y="7686"/>
                  <a:pt x="19723" y="7695"/>
                  <a:pt x="19794" y="7665"/>
                </a:cubicBezTo>
              </a:path>
              <a:path w="2506" h="1489">
                <a:moveTo>
                  <a:pt x="19993" y="7689"/>
                </a:moveTo>
                <a:cubicBezTo>
                  <a:pt x="20064" y="7673"/>
                  <a:pt x="20131" y="7658"/>
                  <a:pt x="20191" y="7640"/>
                </a:cubicBezTo>
                <a:cubicBezTo>
                  <a:pt x="20237" y="7626"/>
                  <a:pt x="20250" y="7663"/>
                  <a:pt x="20265" y="7615"/>
                </a:cubicBezTo>
              </a:path>
              <a:path w="2506" h="1489">
                <a:moveTo>
                  <a:pt x="20017" y="7466"/>
                </a:moveTo>
                <a:cubicBezTo>
                  <a:pt x="20051" y="7583"/>
                  <a:pt x="20099" y="7717"/>
                  <a:pt x="20117" y="7838"/>
                </a:cubicBezTo>
                <a:cubicBezTo>
                  <a:pt x="20131" y="7932"/>
                  <a:pt x="20117" y="8040"/>
                  <a:pt x="20117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43120" y="3133800"/>
            <a:ext cx="4581720" cy="1152360"/>
          </a:xfrm>
          <a:custGeom>
            <a:avLst/>
            <a:gdLst/>
            <a:ahLst/>
            <a:rect l="l" t="t" r="r" b="b"/>
            <a:pathLst>
              <a:path w="12726" h="3201">
                <a:moveTo>
                  <a:pt x="18405" y="10046"/>
                </a:moveTo>
                <a:cubicBezTo>
                  <a:pt x="18456" y="10063"/>
                  <a:pt x="18451" y="10136"/>
                  <a:pt x="18455" y="10195"/>
                </a:cubicBezTo>
                <a:cubicBezTo>
                  <a:pt x="18460" y="10269"/>
                  <a:pt x="18479" y="10337"/>
                  <a:pt x="18479" y="10418"/>
                </a:cubicBezTo>
                <a:cubicBezTo>
                  <a:pt x="18479" y="10453"/>
                  <a:pt x="18525" y="10545"/>
                  <a:pt x="18554" y="10567"/>
                </a:cubicBezTo>
                <a:cubicBezTo>
                  <a:pt x="18562" y="10567"/>
                  <a:pt x="18571" y="10567"/>
                  <a:pt x="18579" y="10567"/>
                </a:cubicBezTo>
                <a:cubicBezTo>
                  <a:pt x="18644" y="10539"/>
                  <a:pt x="18702" y="10491"/>
                  <a:pt x="18752" y="10418"/>
                </a:cubicBezTo>
                <a:cubicBezTo>
                  <a:pt x="18799" y="10349"/>
                  <a:pt x="18828" y="10295"/>
                  <a:pt x="18876" y="10220"/>
                </a:cubicBezTo>
                <a:cubicBezTo>
                  <a:pt x="18920" y="10151"/>
                  <a:pt x="18907" y="10118"/>
                  <a:pt x="18926" y="10046"/>
                </a:cubicBezTo>
                <a:cubicBezTo>
                  <a:pt x="18926" y="10054"/>
                  <a:pt x="18926" y="10063"/>
                  <a:pt x="18926" y="10071"/>
                </a:cubicBezTo>
                <a:cubicBezTo>
                  <a:pt x="18905" y="10133"/>
                  <a:pt x="18863" y="10207"/>
                  <a:pt x="18852" y="10269"/>
                </a:cubicBezTo>
                <a:cubicBezTo>
                  <a:pt x="18845" y="10307"/>
                  <a:pt x="18852" y="10377"/>
                  <a:pt x="18852" y="10418"/>
                </a:cubicBezTo>
                <a:cubicBezTo>
                  <a:pt x="18966" y="10418"/>
                  <a:pt x="18983" y="10426"/>
                  <a:pt x="19075" y="10344"/>
                </a:cubicBezTo>
              </a:path>
              <a:path w="12726" h="3201">
                <a:moveTo>
                  <a:pt x="19075" y="10145"/>
                </a:moveTo>
                <a:cubicBezTo>
                  <a:pt x="19075" y="10376"/>
                  <a:pt x="19030" y="10676"/>
                  <a:pt x="19100" y="10889"/>
                </a:cubicBezTo>
                <a:cubicBezTo>
                  <a:pt x="19117" y="10941"/>
                  <a:pt x="19138" y="10985"/>
                  <a:pt x="19149" y="11038"/>
                </a:cubicBezTo>
                <a:cubicBezTo>
                  <a:pt x="19149" y="10965"/>
                  <a:pt x="19127" y="10910"/>
                  <a:pt x="19124" y="10840"/>
                </a:cubicBezTo>
                <a:cubicBezTo>
                  <a:pt x="19120" y="10721"/>
                  <a:pt x="19100" y="10611"/>
                  <a:pt x="19100" y="10492"/>
                </a:cubicBezTo>
                <a:cubicBezTo>
                  <a:pt x="19100" y="10366"/>
                  <a:pt x="19088" y="10241"/>
                  <a:pt x="19124" y="10120"/>
                </a:cubicBezTo>
                <a:cubicBezTo>
                  <a:pt x="19156" y="10012"/>
                  <a:pt x="19202" y="9936"/>
                  <a:pt x="19323" y="9922"/>
                </a:cubicBezTo>
                <a:cubicBezTo>
                  <a:pt x="19392" y="9914"/>
                  <a:pt x="19433" y="9998"/>
                  <a:pt x="19472" y="10046"/>
                </a:cubicBezTo>
                <a:cubicBezTo>
                  <a:pt x="19524" y="10109"/>
                  <a:pt x="19479" y="10155"/>
                  <a:pt x="19447" y="10195"/>
                </a:cubicBezTo>
                <a:cubicBezTo>
                  <a:pt x="19397" y="10259"/>
                  <a:pt x="19335" y="10369"/>
                  <a:pt x="19273" y="10418"/>
                </a:cubicBezTo>
                <a:cubicBezTo>
                  <a:pt x="19216" y="10463"/>
                  <a:pt x="19002" y="10492"/>
                  <a:pt x="19075" y="10492"/>
                </a:cubicBezTo>
                <a:cubicBezTo>
                  <a:pt x="19083" y="10492"/>
                  <a:pt x="19092" y="10492"/>
                  <a:pt x="19100" y="10492"/>
                </a:cubicBezTo>
              </a:path>
              <a:path w="12726" h="3201">
                <a:moveTo>
                  <a:pt x="20017" y="9451"/>
                </a:moveTo>
                <a:cubicBezTo>
                  <a:pt x="20017" y="9580"/>
                  <a:pt x="20028" y="9699"/>
                  <a:pt x="20042" y="9823"/>
                </a:cubicBezTo>
                <a:cubicBezTo>
                  <a:pt x="20053" y="9924"/>
                  <a:pt x="20067" y="10016"/>
                  <a:pt x="20067" y="10120"/>
                </a:cubicBezTo>
                <a:cubicBezTo>
                  <a:pt x="20067" y="10228"/>
                  <a:pt x="20067" y="10335"/>
                  <a:pt x="20067" y="10443"/>
                </a:cubicBezTo>
              </a:path>
              <a:path w="12726" h="3201">
                <a:moveTo>
                  <a:pt x="12898" y="8806"/>
                </a:moveTo>
                <a:cubicBezTo>
                  <a:pt x="12934" y="8794"/>
                  <a:pt x="12934" y="8793"/>
                  <a:pt x="12898" y="8781"/>
                </a:cubicBezTo>
                <a:cubicBezTo>
                  <a:pt x="12866" y="8792"/>
                  <a:pt x="12850" y="8843"/>
                  <a:pt x="12898" y="8855"/>
                </a:cubicBezTo>
                <a:cubicBezTo>
                  <a:pt x="12958" y="8870"/>
                  <a:pt x="12968" y="8859"/>
                  <a:pt x="12973" y="8806"/>
                </a:cubicBezTo>
                <a:cubicBezTo>
                  <a:pt x="12978" y="8756"/>
                  <a:pt x="12987" y="8719"/>
                  <a:pt x="12948" y="8706"/>
                </a:cubicBezTo>
                <a:cubicBezTo>
                  <a:pt x="12921" y="8740"/>
                  <a:pt x="12876" y="8777"/>
                  <a:pt x="12874" y="8806"/>
                </a:cubicBezTo>
                <a:cubicBezTo>
                  <a:pt x="12869" y="8876"/>
                  <a:pt x="12894" y="8855"/>
                  <a:pt x="12948" y="8855"/>
                </a:cubicBezTo>
                <a:cubicBezTo>
                  <a:pt x="12987" y="8855"/>
                  <a:pt x="13040" y="8823"/>
                  <a:pt x="12998" y="8781"/>
                </a:cubicBezTo>
                <a:cubicBezTo>
                  <a:pt x="12981" y="8764"/>
                  <a:pt x="12905" y="8783"/>
                  <a:pt x="12898" y="8806"/>
                </a:cubicBezTo>
                <a:cubicBezTo>
                  <a:pt x="12898" y="8822"/>
                  <a:pt x="12898" y="8839"/>
                  <a:pt x="12898" y="8855"/>
                </a:cubicBezTo>
                <a:cubicBezTo>
                  <a:pt x="12974" y="8855"/>
                  <a:pt x="12986" y="8877"/>
                  <a:pt x="12998" y="8806"/>
                </a:cubicBezTo>
                <a:cubicBezTo>
                  <a:pt x="12998" y="8694"/>
                  <a:pt x="13003" y="8745"/>
                  <a:pt x="12948" y="8781"/>
                </a:cubicBezTo>
                <a:cubicBezTo>
                  <a:pt x="12920" y="8781"/>
                  <a:pt x="12909" y="8783"/>
                  <a:pt x="12898" y="8806"/>
                </a:cubicBezTo>
              </a:path>
              <a:path w="12726" h="3201">
                <a:moveTo>
                  <a:pt x="17413" y="8855"/>
                </a:moveTo>
                <a:cubicBezTo>
                  <a:pt x="17413" y="8924"/>
                  <a:pt x="17410" y="8954"/>
                  <a:pt x="17438" y="8880"/>
                </a:cubicBezTo>
                <a:cubicBezTo>
                  <a:pt x="17494" y="8861"/>
                  <a:pt x="17441" y="8839"/>
                  <a:pt x="17413" y="8855"/>
                </a:cubicBezTo>
                <a:cubicBezTo>
                  <a:pt x="17385" y="8883"/>
                  <a:pt x="17376" y="8897"/>
                  <a:pt x="17388" y="8930"/>
                </a:cubicBezTo>
                <a:cubicBezTo>
                  <a:pt x="17445" y="8930"/>
                  <a:pt x="17463" y="8945"/>
                  <a:pt x="17487" y="8880"/>
                </a:cubicBezTo>
                <a:cubicBezTo>
                  <a:pt x="17500" y="8845"/>
                  <a:pt x="17432" y="8844"/>
                  <a:pt x="17413" y="8855"/>
                </a:cubicBezTo>
                <a:cubicBezTo>
                  <a:pt x="17385" y="8883"/>
                  <a:pt x="17376" y="8897"/>
                  <a:pt x="17388" y="8930"/>
                </a:cubicBezTo>
                <a:cubicBezTo>
                  <a:pt x="17456" y="8930"/>
                  <a:pt x="17505" y="8951"/>
                  <a:pt x="17537" y="8880"/>
                </a:cubicBezTo>
                <a:cubicBezTo>
                  <a:pt x="17555" y="8841"/>
                  <a:pt x="17528" y="8767"/>
                  <a:pt x="17487" y="8781"/>
                </a:cubicBezTo>
                <a:cubicBezTo>
                  <a:pt x="17438" y="8797"/>
                  <a:pt x="17417" y="8812"/>
                  <a:pt x="17388" y="8855"/>
                </a:cubicBezTo>
              </a:path>
              <a:path w="12726" h="3201">
                <a:moveTo>
                  <a:pt x="10740" y="11807"/>
                </a:moveTo>
                <a:cubicBezTo>
                  <a:pt x="10748" y="11853"/>
                  <a:pt x="10746" y="11876"/>
                  <a:pt x="10790" y="11881"/>
                </a:cubicBezTo>
                <a:cubicBezTo>
                  <a:pt x="10815" y="11881"/>
                  <a:pt x="10823" y="11881"/>
                  <a:pt x="10815" y="11857"/>
                </a:cubicBezTo>
                <a:cubicBezTo>
                  <a:pt x="10815" y="11805"/>
                  <a:pt x="10817" y="11807"/>
                  <a:pt x="10765" y="11807"/>
                </a:cubicBezTo>
                <a:cubicBezTo>
                  <a:pt x="10715" y="11807"/>
                  <a:pt x="10703" y="11808"/>
                  <a:pt x="10691" y="11857"/>
                </a:cubicBezTo>
                <a:cubicBezTo>
                  <a:pt x="10727" y="11868"/>
                  <a:pt x="10715" y="11900"/>
                  <a:pt x="10765" y="11906"/>
                </a:cubicBezTo>
                <a:cubicBezTo>
                  <a:pt x="10773" y="11906"/>
                  <a:pt x="10782" y="11906"/>
                  <a:pt x="10790" y="11906"/>
                </a:cubicBezTo>
                <a:cubicBezTo>
                  <a:pt x="10794" y="11892"/>
                  <a:pt x="10837" y="11824"/>
                  <a:pt x="10815" y="11807"/>
                </a:cubicBezTo>
                <a:cubicBezTo>
                  <a:pt x="10791" y="11788"/>
                  <a:pt x="10783" y="11782"/>
                  <a:pt x="10740" y="11782"/>
                </a:cubicBezTo>
                <a:cubicBezTo>
                  <a:pt x="10704" y="11782"/>
                  <a:pt x="10669" y="11805"/>
                  <a:pt x="10666" y="11832"/>
                </a:cubicBezTo>
                <a:cubicBezTo>
                  <a:pt x="10659" y="11884"/>
                  <a:pt x="10669" y="11881"/>
                  <a:pt x="10716" y="11881"/>
                </a:cubicBezTo>
                <a:cubicBezTo>
                  <a:pt x="10768" y="11881"/>
                  <a:pt x="10765" y="11849"/>
                  <a:pt x="10765" y="11807"/>
                </a:cubicBezTo>
                <a:cubicBezTo>
                  <a:pt x="10828" y="11776"/>
                  <a:pt x="10733" y="11801"/>
                  <a:pt x="10716" y="11807"/>
                </a:cubicBezTo>
                <a:cubicBezTo>
                  <a:pt x="10681" y="11819"/>
                  <a:pt x="10691" y="11814"/>
                  <a:pt x="10691" y="11857"/>
                </a:cubicBezTo>
              </a:path>
              <a:path w="12726" h="3201">
                <a:moveTo>
                  <a:pt x="15329" y="11807"/>
                </a:moveTo>
                <a:cubicBezTo>
                  <a:pt x="15321" y="11815"/>
                  <a:pt x="15312" y="11824"/>
                  <a:pt x="15304" y="11832"/>
                </a:cubicBezTo>
                <a:cubicBezTo>
                  <a:pt x="15338" y="11832"/>
                  <a:pt x="15385" y="11845"/>
                  <a:pt x="15404" y="11807"/>
                </a:cubicBezTo>
                <a:cubicBezTo>
                  <a:pt x="15430" y="11755"/>
                  <a:pt x="15368" y="11741"/>
                  <a:pt x="15329" y="11757"/>
                </a:cubicBezTo>
                <a:cubicBezTo>
                  <a:pt x="15294" y="11772"/>
                  <a:pt x="15259" y="11792"/>
                  <a:pt x="15255" y="11832"/>
                </a:cubicBezTo>
                <a:cubicBezTo>
                  <a:pt x="15255" y="11840"/>
                  <a:pt x="15255" y="11849"/>
                  <a:pt x="15255" y="11857"/>
                </a:cubicBezTo>
                <a:cubicBezTo>
                  <a:pt x="15282" y="11863"/>
                  <a:pt x="15322" y="11898"/>
                  <a:pt x="15354" y="11881"/>
                </a:cubicBezTo>
                <a:cubicBezTo>
                  <a:pt x="15384" y="11865"/>
                  <a:pt x="15426" y="11828"/>
                  <a:pt x="15429" y="11807"/>
                </a:cubicBezTo>
                <a:cubicBezTo>
                  <a:pt x="15429" y="11799"/>
                  <a:pt x="15429" y="11790"/>
                  <a:pt x="15429" y="11782"/>
                </a:cubicBezTo>
                <a:cubicBezTo>
                  <a:pt x="15404" y="11782"/>
                  <a:pt x="15379" y="11782"/>
                  <a:pt x="15354" y="11782"/>
                </a:cubicBezTo>
                <a:cubicBezTo>
                  <a:pt x="15354" y="11825"/>
                  <a:pt x="15359" y="11842"/>
                  <a:pt x="15404" y="11857"/>
                </a:cubicBezTo>
                <a:cubicBezTo>
                  <a:pt x="15439" y="11869"/>
                  <a:pt x="15474" y="11863"/>
                  <a:pt x="15478" y="11832"/>
                </a:cubicBezTo>
                <a:cubicBezTo>
                  <a:pt x="15487" y="11758"/>
                  <a:pt x="15409" y="11779"/>
                  <a:pt x="15379" y="11757"/>
                </a:cubicBezTo>
                <a:cubicBezTo>
                  <a:pt x="15354" y="11732"/>
                  <a:pt x="15329" y="11708"/>
                  <a:pt x="15304" y="11683"/>
                </a:cubicBezTo>
              </a:path>
              <a:path w="12726" h="3201">
                <a:moveTo>
                  <a:pt x="7491" y="11137"/>
                </a:moveTo>
                <a:cubicBezTo>
                  <a:pt x="7515" y="11094"/>
                  <a:pt x="7541" y="11059"/>
                  <a:pt x="7565" y="11013"/>
                </a:cubicBezTo>
                <a:cubicBezTo>
                  <a:pt x="7582" y="10982"/>
                  <a:pt x="7598" y="10947"/>
                  <a:pt x="7615" y="10914"/>
                </a:cubicBezTo>
                <a:cubicBezTo>
                  <a:pt x="7643" y="10861"/>
                  <a:pt x="7663" y="10819"/>
                  <a:pt x="7689" y="10765"/>
                </a:cubicBezTo>
                <a:cubicBezTo>
                  <a:pt x="7718" y="10704"/>
                  <a:pt x="7741" y="10640"/>
                  <a:pt x="7764" y="10592"/>
                </a:cubicBezTo>
                <a:cubicBezTo>
                  <a:pt x="7803" y="10511"/>
                  <a:pt x="7849" y="10427"/>
                  <a:pt x="7888" y="10344"/>
                </a:cubicBezTo>
                <a:cubicBezTo>
                  <a:pt x="7920" y="10276"/>
                  <a:pt x="7954" y="10211"/>
                  <a:pt x="7987" y="10145"/>
                </a:cubicBezTo>
                <a:cubicBezTo>
                  <a:pt x="8027" y="10064"/>
                  <a:pt x="8077" y="9983"/>
                  <a:pt x="8111" y="9897"/>
                </a:cubicBezTo>
                <a:cubicBezTo>
                  <a:pt x="8137" y="9831"/>
                  <a:pt x="8154" y="9747"/>
                  <a:pt x="8186" y="9674"/>
                </a:cubicBezTo>
                <a:cubicBezTo>
                  <a:pt x="8211" y="9615"/>
                  <a:pt x="8234" y="9560"/>
                  <a:pt x="8260" y="9500"/>
                </a:cubicBezTo>
                <a:cubicBezTo>
                  <a:pt x="8279" y="9456"/>
                  <a:pt x="8314" y="9419"/>
                  <a:pt x="8334" y="9376"/>
                </a:cubicBezTo>
                <a:cubicBezTo>
                  <a:pt x="8361" y="9319"/>
                  <a:pt x="8412" y="9266"/>
                  <a:pt x="8434" y="9227"/>
                </a:cubicBezTo>
                <a:cubicBezTo>
                  <a:pt x="8463" y="9176"/>
                  <a:pt x="8474" y="9127"/>
                  <a:pt x="8508" y="9079"/>
                </a:cubicBezTo>
                <a:cubicBezTo>
                  <a:pt x="8543" y="9029"/>
                  <a:pt x="8566" y="8976"/>
                  <a:pt x="8607" y="8930"/>
                </a:cubicBezTo>
                <a:cubicBezTo>
                  <a:pt x="8642" y="8891"/>
                  <a:pt x="8690" y="8881"/>
                  <a:pt x="8731" y="8855"/>
                </a:cubicBezTo>
                <a:cubicBezTo>
                  <a:pt x="8776" y="8827"/>
                  <a:pt x="8765" y="8786"/>
                  <a:pt x="8830" y="8781"/>
                </a:cubicBezTo>
                <a:cubicBezTo>
                  <a:pt x="8945" y="8772"/>
                  <a:pt x="8977" y="8811"/>
                  <a:pt x="9054" y="8855"/>
                </a:cubicBezTo>
                <a:cubicBezTo>
                  <a:pt x="9105" y="8884"/>
                  <a:pt x="9101" y="8885"/>
                  <a:pt x="9153" y="8930"/>
                </a:cubicBezTo>
                <a:cubicBezTo>
                  <a:pt x="9203" y="8973"/>
                  <a:pt x="9206" y="9023"/>
                  <a:pt x="9252" y="9079"/>
                </a:cubicBezTo>
                <a:cubicBezTo>
                  <a:pt x="9285" y="9119"/>
                  <a:pt x="9340" y="9169"/>
                  <a:pt x="9376" y="9227"/>
                </a:cubicBezTo>
                <a:cubicBezTo>
                  <a:pt x="9404" y="9272"/>
                  <a:pt x="9459" y="9350"/>
                  <a:pt x="9475" y="9376"/>
                </a:cubicBezTo>
                <a:cubicBezTo>
                  <a:pt x="9518" y="9447"/>
                  <a:pt x="9544" y="9523"/>
                  <a:pt x="9599" y="9599"/>
                </a:cubicBezTo>
                <a:cubicBezTo>
                  <a:pt x="9707" y="9750"/>
                  <a:pt x="9810" y="9897"/>
                  <a:pt x="9872" y="10046"/>
                </a:cubicBezTo>
                <a:cubicBezTo>
                  <a:pt x="9893" y="10096"/>
                  <a:pt x="9931" y="10173"/>
                  <a:pt x="9947" y="10220"/>
                </a:cubicBezTo>
                <a:cubicBezTo>
                  <a:pt x="9967" y="10281"/>
                  <a:pt x="9956" y="10357"/>
                  <a:pt x="9971" y="10418"/>
                </a:cubicBezTo>
                <a:cubicBezTo>
                  <a:pt x="9988" y="10486"/>
                  <a:pt x="10000" y="10571"/>
                  <a:pt x="10021" y="10641"/>
                </a:cubicBezTo>
                <a:cubicBezTo>
                  <a:pt x="10040" y="10705"/>
                  <a:pt x="10054" y="10755"/>
                  <a:pt x="10071" y="10815"/>
                </a:cubicBezTo>
                <a:cubicBezTo>
                  <a:pt x="10084" y="10860"/>
                  <a:pt x="10104" y="10917"/>
                  <a:pt x="10120" y="10964"/>
                </a:cubicBezTo>
                <a:cubicBezTo>
                  <a:pt x="10135" y="11009"/>
                  <a:pt x="10152" y="11067"/>
                  <a:pt x="10170" y="11112"/>
                </a:cubicBezTo>
                <a:cubicBezTo>
                  <a:pt x="10194" y="11173"/>
                  <a:pt x="10239" y="11226"/>
                  <a:pt x="10269" y="11286"/>
                </a:cubicBezTo>
                <a:cubicBezTo>
                  <a:pt x="10290" y="11328"/>
                  <a:pt x="10321" y="11367"/>
                  <a:pt x="10344" y="11410"/>
                </a:cubicBezTo>
                <a:cubicBezTo>
                  <a:pt x="10362" y="11444"/>
                  <a:pt x="10369" y="11475"/>
                  <a:pt x="10393" y="11509"/>
                </a:cubicBezTo>
                <a:cubicBezTo>
                  <a:pt x="10415" y="11541"/>
                  <a:pt x="10452" y="11590"/>
                  <a:pt x="10468" y="11609"/>
                </a:cubicBezTo>
                <a:cubicBezTo>
                  <a:pt x="10503" y="11652"/>
                  <a:pt x="10498" y="11648"/>
                  <a:pt x="10542" y="11683"/>
                </a:cubicBezTo>
                <a:cubicBezTo>
                  <a:pt x="10565" y="11701"/>
                  <a:pt x="10575" y="11739"/>
                  <a:pt x="10616" y="11757"/>
                </a:cubicBezTo>
                <a:cubicBezTo>
                  <a:pt x="10656" y="11775"/>
                  <a:pt x="10672" y="11779"/>
                  <a:pt x="10716" y="11782"/>
                </a:cubicBezTo>
                <a:cubicBezTo>
                  <a:pt x="10814" y="11790"/>
                  <a:pt x="10892" y="11761"/>
                  <a:pt x="10964" y="11708"/>
                </a:cubicBezTo>
                <a:cubicBezTo>
                  <a:pt x="10994" y="11686"/>
                  <a:pt x="11008" y="11640"/>
                  <a:pt x="11038" y="11609"/>
                </a:cubicBezTo>
                <a:cubicBezTo>
                  <a:pt x="11080" y="11566"/>
                  <a:pt x="11108" y="11504"/>
                  <a:pt x="11137" y="11460"/>
                </a:cubicBezTo>
                <a:cubicBezTo>
                  <a:pt x="11170" y="11410"/>
                  <a:pt x="11182" y="11362"/>
                  <a:pt x="11212" y="11311"/>
                </a:cubicBezTo>
                <a:cubicBezTo>
                  <a:pt x="11242" y="11260"/>
                  <a:pt x="11282" y="11215"/>
                  <a:pt x="11311" y="11162"/>
                </a:cubicBezTo>
                <a:cubicBezTo>
                  <a:pt x="11417" y="10968"/>
                  <a:pt x="11497" y="10769"/>
                  <a:pt x="11584" y="10567"/>
                </a:cubicBezTo>
                <a:cubicBezTo>
                  <a:pt x="11617" y="10490"/>
                  <a:pt x="11648" y="10419"/>
                  <a:pt x="11683" y="10344"/>
                </a:cubicBezTo>
                <a:cubicBezTo>
                  <a:pt x="11714" y="10276"/>
                  <a:pt x="11748" y="10213"/>
                  <a:pt x="11782" y="10145"/>
                </a:cubicBezTo>
                <a:cubicBezTo>
                  <a:pt x="11821" y="10065"/>
                  <a:pt x="11864" y="9977"/>
                  <a:pt x="11906" y="9897"/>
                </a:cubicBezTo>
                <a:cubicBezTo>
                  <a:pt x="11942" y="9828"/>
                  <a:pt x="11990" y="9739"/>
                  <a:pt x="12030" y="9674"/>
                </a:cubicBezTo>
                <a:cubicBezTo>
                  <a:pt x="12067" y="9614"/>
                  <a:pt x="12116" y="9559"/>
                  <a:pt x="12154" y="9500"/>
                </a:cubicBezTo>
                <a:cubicBezTo>
                  <a:pt x="12201" y="9427"/>
                  <a:pt x="12232" y="9368"/>
                  <a:pt x="12278" y="9302"/>
                </a:cubicBezTo>
                <a:cubicBezTo>
                  <a:pt x="12310" y="9257"/>
                  <a:pt x="12382" y="9161"/>
                  <a:pt x="12427" y="9103"/>
                </a:cubicBezTo>
                <a:cubicBezTo>
                  <a:pt x="12476" y="9039"/>
                  <a:pt x="12521" y="8986"/>
                  <a:pt x="12576" y="8930"/>
                </a:cubicBezTo>
                <a:cubicBezTo>
                  <a:pt x="12606" y="8899"/>
                  <a:pt x="12670" y="8879"/>
                  <a:pt x="12700" y="8855"/>
                </a:cubicBezTo>
                <a:cubicBezTo>
                  <a:pt x="12760" y="8807"/>
                  <a:pt x="12773" y="8814"/>
                  <a:pt x="12849" y="8781"/>
                </a:cubicBezTo>
                <a:cubicBezTo>
                  <a:pt x="12899" y="8759"/>
                  <a:pt x="12889" y="8708"/>
                  <a:pt x="12973" y="8706"/>
                </a:cubicBezTo>
                <a:cubicBezTo>
                  <a:pt x="13083" y="8703"/>
                  <a:pt x="13134" y="8731"/>
                  <a:pt x="13221" y="8781"/>
                </a:cubicBezTo>
                <a:cubicBezTo>
                  <a:pt x="13264" y="8806"/>
                  <a:pt x="13309" y="8850"/>
                  <a:pt x="13345" y="8880"/>
                </a:cubicBezTo>
                <a:cubicBezTo>
                  <a:pt x="13389" y="8917"/>
                  <a:pt x="13430" y="8956"/>
                  <a:pt x="13469" y="9004"/>
                </a:cubicBezTo>
                <a:cubicBezTo>
                  <a:pt x="13495" y="9036"/>
                  <a:pt x="13577" y="9130"/>
                  <a:pt x="13593" y="9153"/>
                </a:cubicBezTo>
                <a:cubicBezTo>
                  <a:pt x="13628" y="9205"/>
                  <a:pt x="13657" y="9273"/>
                  <a:pt x="13692" y="9327"/>
                </a:cubicBezTo>
                <a:cubicBezTo>
                  <a:pt x="13723" y="9374"/>
                  <a:pt x="13766" y="9426"/>
                  <a:pt x="13791" y="9475"/>
                </a:cubicBezTo>
                <a:cubicBezTo>
                  <a:pt x="13828" y="9548"/>
                  <a:pt x="13832" y="9598"/>
                  <a:pt x="13866" y="9674"/>
                </a:cubicBezTo>
                <a:cubicBezTo>
                  <a:pt x="13875" y="9695"/>
                  <a:pt x="13946" y="9777"/>
                  <a:pt x="13965" y="9823"/>
                </a:cubicBezTo>
                <a:cubicBezTo>
                  <a:pt x="13993" y="9889"/>
                  <a:pt x="14008" y="9971"/>
                  <a:pt x="14039" y="10046"/>
                </a:cubicBezTo>
                <a:cubicBezTo>
                  <a:pt x="14067" y="10112"/>
                  <a:pt x="14108" y="10130"/>
                  <a:pt x="14139" y="10195"/>
                </a:cubicBezTo>
                <a:cubicBezTo>
                  <a:pt x="14174" y="10270"/>
                  <a:pt x="14189" y="10334"/>
                  <a:pt x="14238" y="10418"/>
                </a:cubicBezTo>
                <a:cubicBezTo>
                  <a:pt x="14286" y="10500"/>
                  <a:pt x="14343" y="10563"/>
                  <a:pt x="14387" y="10641"/>
                </a:cubicBezTo>
                <a:cubicBezTo>
                  <a:pt x="14474" y="10796"/>
                  <a:pt x="14575" y="10939"/>
                  <a:pt x="14660" y="11088"/>
                </a:cubicBezTo>
                <a:cubicBezTo>
                  <a:pt x="14693" y="11145"/>
                  <a:pt x="14702" y="11206"/>
                  <a:pt x="14734" y="11261"/>
                </a:cubicBezTo>
                <a:cubicBezTo>
                  <a:pt x="14783" y="11344"/>
                  <a:pt x="14836" y="11435"/>
                  <a:pt x="14883" y="11509"/>
                </a:cubicBezTo>
                <a:cubicBezTo>
                  <a:pt x="14905" y="11544"/>
                  <a:pt x="14932" y="11579"/>
                  <a:pt x="14957" y="11609"/>
                </a:cubicBezTo>
                <a:cubicBezTo>
                  <a:pt x="14986" y="11644"/>
                  <a:pt x="14994" y="11674"/>
                  <a:pt x="15032" y="11708"/>
                </a:cubicBezTo>
                <a:cubicBezTo>
                  <a:pt x="15067" y="11740"/>
                  <a:pt x="15092" y="11760"/>
                  <a:pt x="15131" y="11782"/>
                </a:cubicBezTo>
                <a:cubicBezTo>
                  <a:pt x="15163" y="11800"/>
                  <a:pt x="15193" y="11797"/>
                  <a:pt x="15230" y="11807"/>
                </a:cubicBezTo>
                <a:cubicBezTo>
                  <a:pt x="15273" y="11819"/>
                  <a:pt x="15301" y="11839"/>
                  <a:pt x="15354" y="11832"/>
                </a:cubicBezTo>
                <a:cubicBezTo>
                  <a:pt x="15379" y="11829"/>
                  <a:pt x="15456" y="11795"/>
                  <a:pt x="15478" y="11782"/>
                </a:cubicBezTo>
                <a:cubicBezTo>
                  <a:pt x="15665" y="11676"/>
                  <a:pt x="15832" y="11402"/>
                  <a:pt x="15949" y="11237"/>
                </a:cubicBezTo>
                <a:cubicBezTo>
                  <a:pt x="15988" y="11183"/>
                  <a:pt x="16010" y="11117"/>
                  <a:pt x="16049" y="11063"/>
                </a:cubicBezTo>
                <a:cubicBezTo>
                  <a:pt x="16108" y="10981"/>
                  <a:pt x="16165" y="10899"/>
                  <a:pt x="16222" y="10815"/>
                </a:cubicBezTo>
                <a:cubicBezTo>
                  <a:pt x="16262" y="10756"/>
                  <a:pt x="16310" y="10703"/>
                  <a:pt x="16346" y="10641"/>
                </a:cubicBezTo>
                <a:cubicBezTo>
                  <a:pt x="16397" y="10554"/>
                  <a:pt x="16417" y="10453"/>
                  <a:pt x="16470" y="10368"/>
                </a:cubicBezTo>
                <a:cubicBezTo>
                  <a:pt x="16523" y="10282"/>
                  <a:pt x="16577" y="10206"/>
                  <a:pt x="16619" y="10120"/>
                </a:cubicBezTo>
                <a:cubicBezTo>
                  <a:pt x="16688" y="9979"/>
                  <a:pt x="16741" y="9836"/>
                  <a:pt x="16818" y="9699"/>
                </a:cubicBezTo>
                <a:cubicBezTo>
                  <a:pt x="16857" y="9630"/>
                  <a:pt x="16900" y="9569"/>
                  <a:pt x="16942" y="9500"/>
                </a:cubicBezTo>
                <a:cubicBezTo>
                  <a:pt x="16984" y="9431"/>
                  <a:pt x="17019" y="9369"/>
                  <a:pt x="17066" y="9302"/>
                </a:cubicBezTo>
                <a:cubicBezTo>
                  <a:pt x="17105" y="9245"/>
                  <a:pt x="17147" y="9210"/>
                  <a:pt x="17190" y="9153"/>
                </a:cubicBezTo>
                <a:cubicBezTo>
                  <a:pt x="17226" y="9105"/>
                  <a:pt x="17247" y="9049"/>
                  <a:pt x="17289" y="9004"/>
                </a:cubicBezTo>
                <a:cubicBezTo>
                  <a:pt x="17316" y="8975"/>
                  <a:pt x="17387" y="8953"/>
                  <a:pt x="17413" y="8930"/>
                </a:cubicBezTo>
                <a:cubicBezTo>
                  <a:pt x="17485" y="8867"/>
                  <a:pt x="17439" y="8879"/>
                  <a:pt x="17537" y="8855"/>
                </a:cubicBezTo>
                <a:cubicBezTo>
                  <a:pt x="17589" y="8842"/>
                  <a:pt x="17621" y="8787"/>
                  <a:pt x="17711" y="8806"/>
                </a:cubicBezTo>
                <a:cubicBezTo>
                  <a:pt x="17762" y="8817"/>
                  <a:pt x="17850" y="8892"/>
                  <a:pt x="17909" y="8930"/>
                </a:cubicBezTo>
                <a:cubicBezTo>
                  <a:pt x="17953" y="8958"/>
                  <a:pt x="18007" y="9000"/>
                  <a:pt x="18033" y="9029"/>
                </a:cubicBezTo>
                <a:cubicBezTo>
                  <a:pt x="18098" y="9102"/>
                  <a:pt x="18107" y="9158"/>
                  <a:pt x="18157" y="9227"/>
                </a:cubicBezTo>
                <a:cubicBezTo>
                  <a:pt x="18182" y="9262"/>
                  <a:pt x="18249" y="9345"/>
                  <a:pt x="18281" y="9401"/>
                </a:cubicBezTo>
                <a:cubicBezTo>
                  <a:pt x="18311" y="9453"/>
                  <a:pt x="18337" y="9494"/>
                  <a:pt x="18380" y="9550"/>
                </a:cubicBezTo>
                <a:cubicBezTo>
                  <a:pt x="18409" y="9588"/>
                  <a:pt x="18410" y="9574"/>
                  <a:pt x="18430" y="9599"/>
                </a:cubicBezTo>
              </a:path>
              <a:path w="12726" h="3201">
                <a:moveTo>
                  <a:pt x="18455" y="9103"/>
                </a:moveTo>
                <a:cubicBezTo>
                  <a:pt x="18532" y="9125"/>
                  <a:pt x="18548" y="9146"/>
                  <a:pt x="18579" y="9227"/>
                </a:cubicBezTo>
                <a:cubicBezTo>
                  <a:pt x="18607" y="9300"/>
                  <a:pt x="18662" y="9374"/>
                  <a:pt x="18678" y="9451"/>
                </a:cubicBezTo>
                <a:cubicBezTo>
                  <a:pt x="18690" y="9509"/>
                  <a:pt x="18683" y="9584"/>
                  <a:pt x="18678" y="9624"/>
                </a:cubicBezTo>
                <a:cubicBezTo>
                  <a:pt x="18676" y="9642"/>
                  <a:pt x="18656" y="9733"/>
                  <a:pt x="18628" y="9748"/>
                </a:cubicBezTo>
                <a:cubicBezTo>
                  <a:pt x="18512" y="9810"/>
                  <a:pt x="18323" y="9695"/>
                  <a:pt x="18231" y="9674"/>
                </a:cubicBezTo>
                <a:cubicBezTo>
                  <a:pt x="18128" y="9674"/>
                  <a:pt x="18091" y="9672"/>
                  <a:pt x="18033" y="9624"/>
                </a:cubicBezTo>
              </a:path>
              <a:path w="12726" h="3201">
                <a:moveTo>
                  <a:pt x="7342" y="10790"/>
                </a:moveTo>
                <a:cubicBezTo>
                  <a:pt x="7342" y="10872"/>
                  <a:pt x="7354" y="10937"/>
                  <a:pt x="7367" y="11013"/>
                </a:cubicBezTo>
                <a:cubicBezTo>
                  <a:pt x="7377" y="11072"/>
                  <a:pt x="7388" y="11129"/>
                  <a:pt x="7392" y="11187"/>
                </a:cubicBezTo>
                <a:cubicBezTo>
                  <a:pt x="7395" y="11222"/>
                  <a:pt x="7395" y="11273"/>
                  <a:pt x="7441" y="11286"/>
                </a:cubicBezTo>
                <a:cubicBezTo>
                  <a:pt x="7503" y="11304"/>
                  <a:pt x="7591" y="11214"/>
                  <a:pt x="7640" y="11187"/>
                </a:cubicBezTo>
                <a:cubicBezTo>
                  <a:pt x="7731" y="11137"/>
                  <a:pt x="7821" y="11087"/>
                  <a:pt x="7913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97320" y="2205000"/>
            <a:ext cx="401760" cy="393840"/>
          </a:xfrm>
          <a:custGeom>
            <a:avLst/>
            <a:gdLst/>
            <a:ahLst/>
            <a:rect l="l" t="t" r="r" b="b"/>
            <a:pathLst>
              <a:path w="1118" h="1092">
                <a:moveTo>
                  <a:pt x="14436" y="6400"/>
                </a:moveTo>
                <a:cubicBezTo>
                  <a:pt x="14436" y="6349"/>
                  <a:pt x="14447" y="6341"/>
                  <a:pt x="14461" y="6300"/>
                </a:cubicBezTo>
                <a:cubicBezTo>
                  <a:pt x="14479" y="6247"/>
                  <a:pt x="14506" y="6230"/>
                  <a:pt x="14560" y="6201"/>
                </a:cubicBezTo>
                <a:cubicBezTo>
                  <a:pt x="14628" y="6165"/>
                  <a:pt x="14731" y="6155"/>
                  <a:pt x="14808" y="6152"/>
                </a:cubicBezTo>
                <a:cubicBezTo>
                  <a:pt x="14944" y="6147"/>
                  <a:pt x="15073" y="6141"/>
                  <a:pt x="15205" y="6127"/>
                </a:cubicBezTo>
                <a:cubicBezTo>
                  <a:pt x="15318" y="6115"/>
                  <a:pt x="15439" y="6127"/>
                  <a:pt x="15553" y="6127"/>
                </a:cubicBezTo>
              </a:path>
              <a:path w="1118" h="1092">
                <a:moveTo>
                  <a:pt x="14858" y="6251"/>
                </a:moveTo>
                <a:cubicBezTo>
                  <a:pt x="14820" y="6433"/>
                  <a:pt x="14780" y="6614"/>
                  <a:pt x="14759" y="6796"/>
                </a:cubicBezTo>
                <a:cubicBezTo>
                  <a:pt x="14749" y="6882"/>
                  <a:pt x="14749" y="6970"/>
                  <a:pt x="14734" y="7045"/>
                </a:cubicBezTo>
                <a:cubicBezTo>
                  <a:pt x="14727" y="7077"/>
                  <a:pt x="14734" y="7127"/>
                  <a:pt x="14734" y="7094"/>
                </a:cubicBezTo>
              </a:path>
              <a:path w="1118" h="1092">
                <a:moveTo>
                  <a:pt x="15007" y="6350"/>
                </a:moveTo>
                <a:cubicBezTo>
                  <a:pt x="15001" y="6510"/>
                  <a:pt x="14974" y="6644"/>
                  <a:pt x="14957" y="6796"/>
                </a:cubicBezTo>
                <a:cubicBezTo>
                  <a:pt x="14947" y="6885"/>
                  <a:pt x="14932" y="6957"/>
                  <a:pt x="14957" y="7045"/>
                </a:cubicBezTo>
                <a:cubicBezTo>
                  <a:pt x="14969" y="7087"/>
                  <a:pt x="15016" y="7195"/>
                  <a:pt x="15056" y="7218"/>
                </a:cubicBezTo>
                <a:cubicBezTo>
                  <a:pt x="15064" y="7218"/>
                  <a:pt x="15073" y="7218"/>
                  <a:pt x="15081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91240" y="2608200"/>
            <a:ext cx="376560" cy="874800"/>
          </a:xfrm>
          <a:custGeom>
            <a:avLst/>
            <a:gdLst/>
            <a:ahLst/>
            <a:rect l="l" t="t" r="r" b="b"/>
            <a:pathLst>
              <a:path w="1043" h="2432">
                <a:moveTo>
                  <a:pt x="20811" y="7441"/>
                </a:moveTo>
                <a:cubicBezTo>
                  <a:pt x="20931" y="7421"/>
                  <a:pt x="21066" y="7417"/>
                  <a:pt x="21183" y="7392"/>
                </a:cubicBezTo>
                <a:cubicBezTo>
                  <a:pt x="21264" y="7375"/>
                  <a:pt x="21356" y="7367"/>
                  <a:pt x="21431" y="7342"/>
                </a:cubicBezTo>
                <a:cubicBezTo>
                  <a:pt x="21483" y="7324"/>
                  <a:pt x="21534" y="7283"/>
                  <a:pt x="21580" y="7268"/>
                </a:cubicBezTo>
                <a:cubicBezTo>
                  <a:pt x="21608" y="7268"/>
                  <a:pt x="21614" y="7266"/>
                  <a:pt x="21580" y="7243"/>
                </a:cubicBezTo>
              </a:path>
              <a:path w="1043" h="2432">
                <a:moveTo>
                  <a:pt x="21084" y="7689"/>
                </a:moveTo>
                <a:cubicBezTo>
                  <a:pt x="21108" y="7765"/>
                  <a:pt x="21108" y="7869"/>
                  <a:pt x="21183" y="7888"/>
                </a:cubicBezTo>
                <a:cubicBezTo>
                  <a:pt x="21183" y="7855"/>
                  <a:pt x="21183" y="7838"/>
                  <a:pt x="21183" y="7813"/>
                </a:cubicBezTo>
              </a:path>
              <a:path w="1043" h="2432">
                <a:moveTo>
                  <a:pt x="21282" y="7491"/>
                </a:moveTo>
                <a:cubicBezTo>
                  <a:pt x="21282" y="7636"/>
                  <a:pt x="21272" y="7687"/>
                  <a:pt x="21307" y="7789"/>
                </a:cubicBezTo>
                <a:cubicBezTo>
                  <a:pt x="21321" y="7829"/>
                  <a:pt x="21323" y="7852"/>
                  <a:pt x="21357" y="7863"/>
                </a:cubicBezTo>
              </a:path>
              <a:path w="1043" h="2432">
                <a:moveTo>
                  <a:pt x="20960" y="7987"/>
                </a:moveTo>
                <a:cubicBezTo>
                  <a:pt x="20977" y="8004"/>
                  <a:pt x="20993" y="8020"/>
                  <a:pt x="21010" y="8037"/>
                </a:cubicBezTo>
                <a:cubicBezTo>
                  <a:pt x="21051" y="8012"/>
                  <a:pt x="21130" y="7974"/>
                  <a:pt x="21183" y="7962"/>
                </a:cubicBezTo>
                <a:cubicBezTo>
                  <a:pt x="21249" y="7947"/>
                  <a:pt x="21318" y="7933"/>
                  <a:pt x="21382" y="7913"/>
                </a:cubicBezTo>
                <a:cubicBezTo>
                  <a:pt x="21441" y="7895"/>
                  <a:pt x="21497" y="7875"/>
                  <a:pt x="21555" y="7863"/>
                </a:cubicBezTo>
              </a:path>
              <a:path w="1043" h="2432">
                <a:moveTo>
                  <a:pt x="21109" y="8235"/>
                </a:moveTo>
                <a:cubicBezTo>
                  <a:pt x="21151" y="8193"/>
                  <a:pt x="21181" y="8182"/>
                  <a:pt x="21233" y="8161"/>
                </a:cubicBezTo>
                <a:cubicBezTo>
                  <a:pt x="21288" y="8139"/>
                  <a:pt x="21323" y="8136"/>
                  <a:pt x="21382" y="8136"/>
                </a:cubicBezTo>
                <a:cubicBezTo>
                  <a:pt x="21409" y="8136"/>
                  <a:pt x="21472" y="8174"/>
                  <a:pt x="21456" y="8210"/>
                </a:cubicBezTo>
                <a:cubicBezTo>
                  <a:pt x="21444" y="8237"/>
                  <a:pt x="21380" y="8322"/>
                  <a:pt x="21357" y="8334"/>
                </a:cubicBezTo>
                <a:cubicBezTo>
                  <a:pt x="21349" y="8334"/>
                  <a:pt x="21340" y="8334"/>
                  <a:pt x="21332" y="8334"/>
                </a:cubicBezTo>
                <a:cubicBezTo>
                  <a:pt x="21346" y="8376"/>
                  <a:pt x="21397" y="8392"/>
                  <a:pt x="21431" y="8434"/>
                </a:cubicBezTo>
                <a:cubicBezTo>
                  <a:pt x="21478" y="8493"/>
                  <a:pt x="21450" y="8534"/>
                  <a:pt x="21406" y="8582"/>
                </a:cubicBezTo>
                <a:cubicBezTo>
                  <a:pt x="21345" y="8647"/>
                  <a:pt x="21300" y="8670"/>
                  <a:pt x="21233" y="8706"/>
                </a:cubicBezTo>
                <a:cubicBezTo>
                  <a:pt x="21194" y="8727"/>
                  <a:pt x="21064" y="8731"/>
                  <a:pt x="21109" y="8731"/>
                </a:cubicBezTo>
                <a:cubicBezTo>
                  <a:pt x="21134" y="8731"/>
                  <a:pt x="21142" y="8731"/>
                  <a:pt x="21134" y="8706"/>
                </a:cubicBezTo>
              </a:path>
              <a:path w="1043" h="2432">
                <a:moveTo>
                  <a:pt x="21010" y="9004"/>
                </a:moveTo>
                <a:cubicBezTo>
                  <a:pt x="21139" y="8940"/>
                  <a:pt x="21291" y="8867"/>
                  <a:pt x="21406" y="8781"/>
                </a:cubicBezTo>
                <a:cubicBezTo>
                  <a:pt x="21511" y="8703"/>
                  <a:pt x="21609" y="8688"/>
                  <a:pt x="21704" y="8632"/>
                </a:cubicBezTo>
                <a:cubicBezTo>
                  <a:pt x="21810" y="8570"/>
                  <a:pt x="21750" y="8558"/>
                  <a:pt x="21853" y="8558"/>
                </a:cubicBezTo>
              </a:path>
              <a:path w="1043" h="2432">
                <a:moveTo>
                  <a:pt x="21183" y="9178"/>
                </a:moveTo>
                <a:cubicBezTo>
                  <a:pt x="21236" y="9155"/>
                  <a:pt x="21290" y="9132"/>
                  <a:pt x="21332" y="9103"/>
                </a:cubicBezTo>
                <a:cubicBezTo>
                  <a:pt x="21384" y="9068"/>
                  <a:pt x="21441" y="9079"/>
                  <a:pt x="21506" y="9079"/>
                </a:cubicBezTo>
                <a:cubicBezTo>
                  <a:pt x="21598" y="9079"/>
                  <a:pt x="21619" y="9054"/>
                  <a:pt x="21654" y="9153"/>
                </a:cubicBezTo>
                <a:cubicBezTo>
                  <a:pt x="21675" y="9214"/>
                  <a:pt x="21632" y="9324"/>
                  <a:pt x="21605" y="9376"/>
                </a:cubicBezTo>
                <a:cubicBezTo>
                  <a:pt x="21551" y="9479"/>
                  <a:pt x="21501" y="9564"/>
                  <a:pt x="21456" y="9674"/>
                </a:cubicBezTo>
                <a:cubicBezTo>
                  <a:pt x="21539" y="9674"/>
                  <a:pt x="21541" y="9683"/>
                  <a:pt x="21605" y="9624"/>
                </a:cubicBezTo>
                <a:cubicBezTo>
                  <a:pt x="21636" y="9596"/>
                  <a:pt x="21696" y="9572"/>
                  <a:pt x="21729" y="9550"/>
                </a:cubicBezTo>
                <a:cubicBezTo>
                  <a:pt x="21757" y="9532"/>
                  <a:pt x="21737" y="9496"/>
                  <a:pt x="21754" y="9525"/>
                </a:cubicBezTo>
                <a:cubicBezTo>
                  <a:pt x="21762" y="9533"/>
                  <a:pt x="21771" y="9542"/>
                  <a:pt x="21779" y="95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5880" y="4116240"/>
            <a:ext cx="187200" cy="590760"/>
          </a:xfrm>
          <a:custGeom>
            <a:avLst/>
            <a:gdLst/>
            <a:ahLst/>
            <a:rect l="l" t="t" r="r" b="b"/>
            <a:pathLst>
              <a:path w="522" h="1638">
                <a:moveTo>
                  <a:pt x="12378" y="11435"/>
                </a:moveTo>
                <a:cubicBezTo>
                  <a:pt x="12367" y="11478"/>
                  <a:pt x="12336" y="11511"/>
                  <a:pt x="12328" y="11559"/>
                </a:cubicBezTo>
                <a:cubicBezTo>
                  <a:pt x="12314" y="11636"/>
                  <a:pt x="12306" y="11729"/>
                  <a:pt x="12303" y="11807"/>
                </a:cubicBezTo>
                <a:cubicBezTo>
                  <a:pt x="12299" y="11893"/>
                  <a:pt x="12310" y="11951"/>
                  <a:pt x="12328" y="12030"/>
                </a:cubicBezTo>
                <a:cubicBezTo>
                  <a:pt x="12339" y="12075"/>
                  <a:pt x="12328" y="12132"/>
                  <a:pt x="12328" y="12179"/>
                </a:cubicBezTo>
              </a:path>
              <a:path w="522" h="1638">
                <a:moveTo>
                  <a:pt x="11931" y="12700"/>
                </a:moveTo>
                <a:cubicBezTo>
                  <a:pt x="12044" y="12700"/>
                  <a:pt x="12144" y="12691"/>
                  <a:pt x="12254" y="12675"/>
                </a:cubicBezTo>
                <a:cubicBezTo>
                  <a:pt x="12319" y="12666"/>
                  <a:pt x="12371" y="12667"/>
                  <a:pt x="12427" y="12650"/>
                </a:cubicBezTo>
                <a:cubicBezTo>
                  <a:pt x="12435" y="12650"/>
                  <a:pt x="12444" y="12650"/>
                  <a:pt x="12452" y="12650"/>
                </a:cubicBezTo>
              </a:path>
              <a:path w="522" h="1638">
                <a:moveTo>
                  <a:pt x="12154" y="12650"/>
                </a:moveTo>
                <a:cubicBezTo>
                  <a:pt x="12154" y="12705"/>
                  <a:pt x="12111" y="13013"/>
                  <a:pt x="12179" y="13072"/>
                </a:cubicBezTo>
                <a:cubicBezTo>
                  <a:pt x="12204" y="13072"/>
                  <a:pt x="12212" y="13072"/>
                  <a:pt x="12204" y="13047"/>
                </a:cubicBezTo>
              </a:path>
              <a:path w="522" h="1638">
                <a:moveTo>
                  <a:pt x="12402" y="12675"/>
                </a:moveTo>
                <a:cubicBezTo>
                  <a:pt x="12402" y="12796"/>
                  <a:pt x="12402" y="12866"/>
                  <a:pt x="12427" y="12973"/>
                </a:cubicBezTo>
                <a:cubicBezTo>
                  <a:pt x="12435" y="13007"/>
                  <a:pt x="12445" y="13038"/>
                  <a:pt x="12452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73840" y="4152960"/>
            <a:ext cx="9360" cy="196920"/>
          </a:xfrm>
          <a:custGeom>
            <a:avLst/>
            <a:gdLst/>
            <a:ahLst/>
            <a:rect l="l" t="t" r="r" b="b"/>
            <a:pathLst>
              <a:path w="26" h="547">
                <a:moveTo>
                  <a:pt x="16594" y="11534"/>
                </a:moveTo>
                <a:cubicBezTo>
                  <a:pt x="16594" y="11665"/>
                  <a:pt x="16598" y="11783"/>
                  <a:pt x="16619" y="11906"/>
                </a:cubicBezTo>
                <a:cubicBezTo>
                  <a:pt x="16628" y="11960"/>
                  <a:pt x="16619" y="12025"/>
                  <a:pt x="16619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3280" y="4562640"/>
            <a:ext cx="277920" cy="188640"/>
          </a:xfrm>
          <a:custGeom>
            <a:avLst/>
            <a:gdLst/>
            <a:ahLst/>
            <a:rect l="l" t="t" r="r" b="b"/>
            <a:pathLst>
              <a:path w="770" h="522">
                <a:moveTo>
                  <a:pt x="16173" y="12675"/>
                </a:moveTo>
                <a:cubicBezTo>
                  <a:pt x="16165" y="12692"/>
                  <a:pt x="16156" y="12708"/>
                  <a:pt x="16148" y="12725"/>
                </a:cubicBezTo>
                <a:cubicBezTo>
                  <a:pt x="16180" y="12733"/>
                  <a:pt x="16240" y="12737"/>
                  <a:pt x="16272" y="12750"/>
                </a:cubicBezTo>
                <a:cubicBezTo>
                  <a:pt x="16306" y="12764"/>
                  <a:pt x="16311" y="12847"/>
                  <a:pt x="16297" y="12874"/>
                </a:cubicBezTo>
                <a:cubicBezTo>
                  <a:pt x="16277" y="12913"/>
                  <a:pt x="16219" y="12964"/>
                  <a:pt x="16197" y="12998"/>
                </a:cubicBezTo>
                <a:cubicBezTo>
                  <a:pt x="16175" y="13020"/>
                  <a:pt x="16167" y="13025"/>
                  <a:pt x="16173" y="13047"/>
                </a:cubicBezTo>
                <a:cubicBezTo>
                  <a:pt x="16229" y="13082"/>
                  <a:pt x="16325" y="13090"/>
                  <a:pt x="16396" y="13072"/>
                </a:cubicBezTo>
                <a:cubicBezTo>
                  <a:pt x="16446" y="13047"/>
                  <a:pt x="16462" y="13039"/>
                  <a:pt x="16495" y="13022"/>
                </a:cubicBezTo>
              </a:path>
              <a:path w="770" h="522">
                <a:moveTo>
                  <a:pt x="16669" y="12799"/>
                </a:moveTo>
                <a:cubicBezTo>
                  <a:pt x="16767" y="12799"/>
                  <a:pt x="16840" y="12813"/>
                  <a:pt x="16917" y="12774"/>
                </a:cubicBezTo>
              </a:path>
              <a:path w="770" h="522">
                <a:moveTo>
                  <a:pt x="16594" y="12849"/>
                </a:moveTo>
                <a:cubicBezTo>
                  <a:pt x="16565" y="12947"/>
                  <a:pt x="16576" y="12921"/>
                  <a:pt x="16594" y="12998"/>
                </a:cubicBezTo>
                <a:cubicBezTo>
                  <a:pt x="16619" y="12998"/>
                  <a:pt x="16627" y="12998"/>
                  <a:pt x="16644" y="12998"/>
                </a:cubicBezTo>
              </a:path>
              <a:path w="770" h="522">
                <a:moveTo>
                  <a:pt x="16818" y="12874"/>
                </a:moveTo>
                <a:cubicBezTo>
                  <a:pt x="16798" y="12948"/>
                  <a:pt x="16793" y="12997"/>
                  <a:pt x="16793" y="13072"/>
                </a:cubicBezTo>
                <a:cubicBezTo>
                  <a:pt x="16793" y="13113"/>
                  <a:pt x="16793" y="13155"/>
                  <a:pt x="16793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66080" y="2867040"/>
            <a:ext cx="123840" cy="17280"/>
          </a:xfrm>
          <a:custGeom>
            <a:avLst/>
            <a:gdLst/>
            <a:ahLst/>
            <a:rect l="l" t="t" r="r" b="b"/>
            <a:pathLst>
              <a:path w="348" h="51">
                <a:moveTo>
                  <a:pt x="22126" y="8012"/>
                </a:moveTo>
                <a:cubicBezTo>
                  <a:pt x="22213" y="7997"/>
                  <a:pt x="22300" y="7984"/>
                  <a:pt x="22374" y="7962"/>
                </a:cubicBezTo>
                <a:cubicBezTo>
                  <a:pt x="22403" y="7953"/>
                  <a:pt x="22442" y="7962"/>
                  <a:pt x="22473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74000" y="2973240"/>
            <a:ext cx="125280" cy="19080"/>
          </a:xfrm>
          <a:custGeom>
            <a:avLst/>
            <a:gdLst/>
            <a:ahLst/>
            <a:rect l="l" t="t" r="r" b="b"/>
            <a:pathLst>
              <a:path w="348" h="51">
                <a:moveTo>
                  <a:pt x="22151" y="8310"/>
                </a:moveTo>
                <a:cubicBezTo>
                  <a:pt x="22228" y="8310"/>
                  <a:pt x="22262" y="8304"/>
                  <a:pt x="22324" y="8285"/>
                </a:cubicBezTo>
                <a:cubicBezTo>
                  <a:pt x="22371" y="8271"/>
                  <a:pt x="22426" y="8264"/>
                  <a:pt x="22473" y="8260"/>
                </a:cubicBezTo>
                <a:cubicBezTo>
                  <a:pt x="22481" y="8260"/>
                  <a:pt x="22490" y="8260"/>
                  <a:pt x="22498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8840" y="2643120"/>
            <a:ext cx="189000" cy="9720"/>
          </a:xfrm>
          <a:custGeom>
            <a:avLst/>
            <a:gdLst/>
            <a:ahLst/>
            <a:rect l="l" t="t" r="r" b="b"/>
            <a:pathLst>
              <a:path w="522" h="26">
                <a:moveTo>
                  <a:pt x="22721" y="7367"/>
                </a:moveTo>
                <a:cubicBezTo>
                  <a:pt x="22850" y="7367"/>
                  <a:pt x="22968" y="7360"/>
                  <a:pt x="23093" y="7342"/>
                </a:cubicBezTo>
                <a:cubicBezTo>
                  <a:pt x="23114" y="7339"/>
                  <a:pt x="23276" y="7342"/>
                  <a:pt x="23217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97920" y="2705040"/>
            <a:ext cx="34920" cy="144360"/>
          </a:xfrm>
          <a:custGeom>
            <a:avLst/>
            <a:gdLst/>
            <a:ahLst/>
            <a:rect l="l" t="t" r="r" b="b"/>
            <a:pathLst>
              <a:path w="100" h="398">
                <a:moveTo>
                  <a:pt x="22771" y="7516"/>
                </a:moveTo>
                <a:cubicBezTo>
                  <a:pt x="22771" y="7599"/>
                  <a:pt x="22734" y="7817"/>
                  <a:pt x="22796" y="7888"/>
                </a:cubicBezTo>
                <a:cubicBezTo>
                  <a:pt x="22832" y="7930"/>
                  <a:pt x="22839" y="7894"/>
                  <a:pt x="22870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86840" y="2697120"/>
            <a:ext cx="17280" cy="142920"/>
          </a:xfrm>
          <a:custGeom>
            <a:avLst/>
            <a:gdLst/>
            <a:ahLst/>
            <a:rect l="l" t="t" r="r" b="b"/>
            <a:pathLst>
              <a:path w="50" h="398">
                <a:moveTo>
                  <a:pt x="23044" y="7491"/>
                </a:moveTo>
                <a:cubicBezTo>
                  <a:pt x="23044" y="7597"/>
                  <a:pt x="23026" y="7687"/>
                  <a:pt x="23019" y="7789"/>
                </a:cubicBezTo>
                <a:cubicBezTo>
                  <a:pt x="23017" y="7811"/>
                  <a:pt x="23004" y="7908"/>
                  <a:pt x="23044" y="7888"/>
                </a:cubicBezTo>
                <a:cubicBezTo>
                  <a:pt x="23052" y="7880"/>
                  <a:pt x="23060" y="7871"/>
                  <a:pt x="23068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77120" y="2616120"/>
            <a:ext cx="179640" cy="500040"/>
          </a:xfrm>
          <a:custGeom>
            <a:avLst/>
            <a:gdLst/>
            <a:ahLst/>
            <a:rect l="l" t="t" r="r" b="b"/>
            <a:pathLst>
              <a:path w="497" h="1390">
                <a:moveTo>
                  <a:pt x="23490" y="7268"/>
                </a:moveTo>
                <a:cubicBezTo>
                  <a:pt x="23439" y="7399"/>
                  <a:pt x="23394" y="7536"/>
                  <a:pt x="23341" y="7665"/>
                </a:cubicBezTo>
                <a:cubicBezTo>
                  <a:pt x="23273" y="7830"/>
                  <a:pt x="23194" y="7989"/>
                  <a:pt x="23143" y="8161"/>
                </a:cubicBezTo>
                <a:cubicBezTo>
                  <a:pt x="23111" y="8269"/>
                  <a:pt x="23079" y="8376"/>
                  <a:pt x="23044" y="8483"/>
                </a:cubicBezTo>
                <a:cubicBezTo>
                  <a:pt x="23024" y="8543"/>
                  <a:pt x="22931" y="8657"/>
                  <a:pt x="22994" y="8657"/>
                </a:cubicBezTo>
                <a:cubicBezTo>
                  <a:pt x="23024" y="8627"/>
                  <a:pt x="23035" y="8613"/>
                  <a:pt x="23044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93040" y="2894040"/>
            <a:ext cx="152640" cy="241200"/>
          </a:xfrm>
          <a:custGeom>
            <a:avLst/>
            <a:gdLst/>
            <a:ahLst/>
            <a:rect l="l" t="t" r="r" b="b"/>
            <a:pathLst>
              <a:path w="423" h="670">
                <a:moveTo>
                  <a:pt x="23391" y="8037"/>
                </a:moveTo>
                <a:cubicBezTo>
                  <a:pt x="23369" y="8158"/>
                  <a:pt x="23330" y="8288"/>
                  <a:pt x="23316" y="8409"/>
                </a:cubicBezTo>
                <a:cubicBezTo>
                  <a:pt x="23309" y="8465"/>
                  <a:pt x="23340" y="8533"/>
                  <a:pt x="23366" y="8558"/>
                </a:cubicBezTo>
                <a:cubicBezTo>
                  <a:pt x="23420" y="8610"/>
                  <a:pt x="23478" y="8571"/>
                  <a:pt x="23540" y="8558"/>
                </a:cubicBezTo>
                <a:cubicBezTo>
                  <a:pt x="23603" y="8545"/>
                  <a:pt x="23683" y="8468"/>
                  <a:pt x="23713" y="8409"/>
                </a:cubicBezTo>
                <a:cubicBezTo>
                  <a:pt x="23739" y="8358"/>
                  <a:pt x="23738" y="8334"/>
                  <a:pt x="23738" y="8285"/>
                </a:cubicBezTo>
                <a:cubicBezTo>
                  <a:pt x="23686" y="8268"/>
                  <a:pt x="23717" y="8269"/>
                  <a:pt x="23639" y="8310"/>
                </a:cubicBezTo>
                <a:cubicBezTo>
                  <a:pt x="23546" y="8358"/>
                  <a:pt x="23564" y="8396"/>
                  <a:pt x="23515" y="8483"/>
                </a:cubicBezTo>
                <a:cubicBezTo>
                  <a:pt x="23494" y="8519"/>
                  <a:pt x="23483" y="8594"/>
                  <a:pt x="23515" y="8632"/>
                </a:cubicBezTo>
                <a:cubicBezTo>
                  <a:pt x="23545" y="8667"/>
                  <a:pt x="23577" y="8678"/>
                  <a:pt x="23614" y="8706"/>
                </a:cubicBezTo>
                <a:cubicBezTo>
                  <a:pt x="23624" y="8713"/>
                  <a:pt x="23675" y="8706"/>
                  <a:pt x="23688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amplitude and perio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 sin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n graph the function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94920" y="3733920"/>
            <a:ext cx="5257800" cy="1274760"/>
            <a:chOff x="1294920" y="3733920"/>
            <a:chExt cx="5257800" cy="1274760"/>
          </a:xfrm>
        </p:grpSpPr>
        <p:sp>
          <p:nvSpPr>
            <p:cNvPr id="113" name=""/>
            <p:cNvSpPr/>
            <p:nvPr/>
          </p:nvSpPr>
          <p:spPr>
            <a:xfrm>
              <a:off x="2895480" y="373392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294920" y="42800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874960" y="1231920"/>
            <a:ext cx="250920" cy="420840"/>
          </a:xfrm>
          <a:custGeom>
            <a:avLst/>
            <a:gdLst/>
            <a:ahLst/>
            <a:rect l="l" t="t" r="r" b="b"/>
            <a:pathLst>
              <a:path w="696" h="1167">
                <a:moveTo>
                  <a:pt x="8012" y="3547"/>
                </a:moveTo>
                <a:cubicBezTo>
                  <a:pt x="7999" y="3514"/>
                  <a:pt x="7968" y="3468"/>
                  <a:pt x="8037" y="3448"/>
                </a:cubicBezTo>
                <a:cubicBezTo>
                  <a:pt x="8096" y="3431"/>
                  <a:pt x="8143" y="3423"/>
                  <a:pt x="8210" y="3423"/>
                </a:cubicBezTo>
                <a:cubicBezTo>
                  <a:pt x="8277" y="3423"/>
                  <a:pt x="8308" y="3428"/>
                  <a:pt x="8359" y="3473"/>
                </a:cubicBezTo>
                <a:cubicBezTo>
                  <a:pt x="8409" y="3517"/>
                  <a:pt x="8406" y="3532"/>
                  <a:pt x="8409" y="3597"/>
                </a:cubicBezTo>
                <a:cubicBezTo>
                  <a:pt x="8414" y="3688"/>
                  <a:pt x="8296" y="3758"/>
                  <a:pt x="8235" y="3820"/>
                </a:cubicBezTo>
                <a:cubicBezTo>
                  <a:pt x="8174" y="3882"/>
                  <a:pt x="8106" y="3896"/>
                  <a:pt x="8037" y="3944"/>
                </a:cubicBezTo>
                <a:cubicBezTo>
                  <a:pt x="8037" y="3969"/>
                  <a:pt x="8037" y="3977"/>
                  <a:pt x="8012" y="3969"/>
                </a:cubicBezTo>
                <a:cubicBezTo>
                  <a:pt x="8116" y="3969"/>
                  <a:pt x="8213" y="3962"/>
                  <a:pt x="8310" y="3994"/>
                </a:cubicBezTo>
                <a:cubicBezTo>
                  <a:pt x="8395" y="4022"/>
                  <a:pt x="8453" y="4076"/>
                  <a:pt x="8533" y="4118"/>
                </a:cubicBezTo>
                <a:cubicBezTo>
                  <a:pt x="8592" y="4149"/>
                  <a:pt x="8689" y="4224"/>
                  <a:pt x="8682" y="4291"/>
                </a:cubicBezTo>
                <a:cubicBezTo>
                  <a:pt x="8676" y="4347"/>
                  <a:pt x="8630" y="4409"/>
                  <a:pt x="8582" y="4440"/>
                </a:cubicBezTo>
                <a:cubicBezTo>
                  <a:pt x="8526" y="4477"/>
                  <a:pt x="8447" y="4504"/>
                  <a:pt x="8384" y="4514"/>
                </a:cubicBezTo>
                <a:cubicBezTo>
                  <a:pt x="8325" y="4523"/>
                  <a:pt x="8260" y="4529"/>
                  <a:pt x="8210" y="4539"/>
                </a:cubicBezTo>
                <a:cubicBezTo>
                  <a:pt x="8140" y="4553"/>
                  <a:pt x="8063" y="4533"/>
                  <a:pt x="8062" y="4539"/>
                </a:cubicBezTo>
                <a:cubicBezTo>
                  <a:pt x="8062" y="4564"/>
                  <a:pt x="8062" y="4572"/>
                  <a:pt x="8062" y="45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11840" y="1285920"/>
            <a:ext cx="374400" cy="339840"/>
          </a:xfrm>
          <a:custGeom>
            <a:avLst/>
            <a:gdLst/>
            <a:ahLst/>
            <a:rect l="l" t="t" r="r" b="b"/>
            <a:pathLst>
              <a:path w="1042" h="943">
                <a:moveTo>
                  <a:pt x="13643" y="3696"/>
                </a:moveTo>
                <a:cubicBezTo>
                  <a:pt x="13643" y="3660"/>
                  <a:pt x="13648" y="3628"/>
                  <a:pt x="13692" y="3621"/>
                </a:cubicBezTo>
                <a:cubicBezTo>
                  <a:pt x="13826" y="3600"/>
                  <a:pt x="13979" y="3610"/>
                  <a:pt x="14114" y="3597"/>
                </a:cubicBezTo>
                <a:cubicBezTo>
                  <a:pt x="14229" y="3586"/>
                  <a:pt x="14347" y="3576"/>
                  <a:pt x="14461" y="3572"/>
                </a:cubicBezTo>
                <a:cubicBezTo>
                  <a:pt x="14535" y="3569"/>
                  <a:pt x="14610" y="3572"/>
                  <a:pt x="14684" y="3572"/>
                </a:cubicBezTo>
              </a:path>
              <a:path w="1042" h="943">
                <a:moveTo>
                  <a:pt x="14039" y="3572"/>
                </a:moveTo>
                <a:cubicBezTo>
                  <a:pt x="14016" y="3716"/>
                  <a:pt x="14029" y="3850"/>
                  <a:pt x="14015" y="3994"/>
                </a:cubicBezTo>
                <a:cubicBezTo>
                  <a:pt x="14002" y="4124"/>
                  <a:pt x="13990" y="4237"/>
                  <a:pt x="13990" y="4366"/>
                </a:cubicBezTo>
                <a:cubicBezTo>
                  <a:pt x="13990" y="4399"/>
                  <a:pt x="13990" y="4432"/>
                  <a:pt x="13990" y="4465"/>
                </a:cubicBezTo>
                <a:cubicBezTo>
                  <a:pt x="13990" y="4518"/>
                  <a:pt x="14005" y="4413"/>
                  <a:pt x="14015" y="4390"/>
                </a:cubicBezTo>
              </a:path>
              <a:path w="1042" h="943">
                <a:moveTo>
                  <a:pt x="14288" y="3696"/>
                </a:moveTo>
                <a:cubicBezTo>
                  <a:pt x="14308" y="3819"/>
                  <a:pt x="14351" y="3968"/>
                  <a:pt x="14337" y="4093"/>
                </a:cubicBezTo>
                <a:cubicBezTo>
                  <a:pt x="14326" y="4195"/>
                  <a:pt x="14312" y="4285"/>
                  <a:pt x="14312" y="4390"/>
                </a:cubicBezTo>
                <a:cubicBezTo>
                  <a:pt x="14312" y="4404"/>
                  <a:pt x="14301" y="4525"/>
                  <a:pt x="14337" y="4514"/>
                </a:cubicBezTo>
                <a:cubicBezTo>
                  <a:pt x="14337" y="4490"/>
                  <a:pt x="14337" y="4481"/>
                  <a:pt x="14337" y="44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5120" y="1241280"/>
            <a:ext cx="581040" cy="347760"/>
          </a:xfrm>
          <a:custGeom>
            <a:avLst/>
            <a:gdLst/>
            <a:ahLst/>
            <a:rect l="l" t="t" r="r" b="b"/>
            <a:pathLst>
              <a:path w="1613" h="968">
                <a:moveTo>
                  <a:pt x="23292" y="3845"/>
                </a:moveTo>
                <a:cubicBezTo>
                  <a:pt x="23330" y="3923"/>
                  <a:pt x="23338" y="4025"/>
                  <a:pt x="23341" y="4118"/>
                </a:cubicBezTo>
                <a:cubicBezTo>
                  <a:pt x="23344" y="4201"/>
                  <a:pt x="23347" y="4264"/>
                  <a:pt x="23366" y="4341"/>
                </a:cubicBezTo>
                <a:cubicBezTo>
                  <a:pt x="23396" y="4341"/>
                  <a:pt x="23401" y="4338"/>
                  <a:pt x="23416" y="4266"/>
                </a:cubicBezTo>
                <a:cubicBezTo>
                  <a:pt x="23434" y="4178"/>
                  <a:pt x="23401" y="4101"/>
                  <a:pt x="23391" y="4018"/>
                </a:cubicBezTo>
                <a:cubicBezTo>
                  <a:pt x="23378" y="3905"/>
                  <a:pt x="23375" y="3749"/>
                  <a:pt x="23416" y="3646"/>
                </a:cubicBezTo>
                <a:cubicBezTo>
                  <a:pt x="23442" y="3581"/>
                  <a:pt x="23451" y="3600"/>
                  <a:pt x="23490" y="3572"/>
                </a:cubicBezTo>
                <a:cubicBezTo>
                  <a:pt x="23563" y="3583"/>
                  <a:pt x="23539" y="3585"/>
                  <a:pt x="23589" y="3646"/>
                </a:cubicBezTo>
                <a:cubicBezTo>
                  <a:pt x="23657" y="3728"/>
                  <a:pt x="23720" y="3859"/>
                  <a:pt x="23738" y="3969"/>
                </a:cubicBezTo>
                <a:cubicBezTo>
                  <a:pt x="23754" y="4067"/>
                  <a:pt x="23768" y="4149"/>
                  <a:pt x="23812" y="4242"/>
                </a:cubicBezTo>
                <a:cubicBezTo>
                  <a:pt x="23848" y="4319"/>
                  <a:pt x="23878" y="4336"/>
                  <a:pt x="23937" y="4390"/>
                </a:cubicBezTo>
                <a:cubicBezTo>
                  <a:pt x="23945" y="4398"/>
                  <a:pt x="23953" y="4407"/>
                  <a:pt x="23961" y="4415"/>
                </a:cubicBezTo>
                <a:cubicBezTo>
                  <a:pt x="23980" y="4383"/>
                  <a:pt x="24006" y="4331"/>
                  <a:pt x="24011" y="4291"/>
                </a:cubicBezTo>
                <a:cubicBezTo>
                  <a:pt x="24026" y="4176"/>
                  <a:pt x="24009" y="4031"/>
                  <a:pt x="23986" y="3919"/>
                </a:cubicBezTo>
                <a:cubicBezTo>
                  <a:pt x="23964" y="3811"/>
                  <a:pt x="23902" y="3721"/>
                  <a:pt x="23862" y="3621"/>
                </a:cubicBezTo>
                <a:cubicBezTo>
                  <a:pt x="23836" y="3556"/>
                  <a:pt x="23837" y="3515"/>
                  <a:pt x="23837" y="3448"/>
                </a:cubicBezTo>
                <a:cubicBezTo>
                  <a:pt x="23896" y="3475"/>
                  <a:pt x="23930" y="3510"/>
                  <a:pt x="23986" y="3547"/>
                </a:cubicBezTo>
                <a:cubicBezTo>
                  <a:pt x="24036" y="3572"/>
                  <a:pt x="24052" y="3580"/>
                  <a:pt x="24085" y="3597"/>
                </a:cubicBezTo>
              </a:path>
              <a:path w="1613" h="968">
                <a:moveTo>
                  <a:pt x="24011" y="4018"/>
                </a:moveTo>
                <a:cubicBezTo>
                  <a:pt x="24009" y="4053"/>
                  <a:pt x="23937" y="4305"/>
                  <a:pt x="24061" y="4341"/>
                </a:cubicBezTo>
                <a:cubicBezTo>
                  <a:pt x="24105" y="4354"/>
                  <a:pt x="24155" y="4343"/>
                  <a:pt x="24185" y="4316"/>
                </a:cubicBezTo>
                <a:cubicBezTo>
                  <a:pt x="24220" y="4285"/>
                  <a:pt x="24262" y="4188"/>
                  <a:pt x="24259" y="4142"/>
                </a:cubicBezTo>
                <a:cubicBezTo>
                  <a:pt x="24255" y="4089"/>
                  <a:pt x="24219" y="3995"/>
                  <a:pt x="24160" y="3969"/>
                </a:cubicBezTo>
                <a:cubicBezTo>
                  <a:pt x="24111" y="3947"/>
                  <a:pt x="24019" y="4007"/>
                  <a:pt x="24061" y="3944"/>
                </a:cubicBezTo>
              </a:path>
              <a:path w="1613" h="968">
                <a:moveTo>
                  <a:pt x="24185" y="3919"/>
                </a:moveTo>
                <a:cubicBezTo>
                  <a:pt x="24331" y="4020"/>
                  <a:pt x="24311" y="4003"/>
                  <a:pt x="24358" y="4142"/>
                </a:cubicBezTo>
                <a:cubicBezTo>
                  <a:pt x="24374" y="4190"/>
                  <a:pt x="24372" y="4254"/>
                  <a:pt x="24408" y="4266"/>
                </a:cubicBezTo>
                <a:cubicBezTo>
                  <a:pt x="24408" y="4325"/>
                  <a:pt x="24414" y="4198"/>
                  <a:pt x="24433" y="4142"/>
                </a:cubicBezTo>
                <a:cubicBezTo>
                  <a:pt x="24451" y="4089"/>
                  <a:pt x="24493" y="4057"/>
                  <a:pt x="24532" y="4018"/>
                </a:cubicBezTo>
                <a:cubicBezTo>
                  <a:pt x="24543" y="4051"/>
                  <a:pt x="24558" y="4074"/>
                  <a:pt x="24581" y="4118"/>
                </a:cubicBezTo>
                <a:cubicBezTo>
                  <a:pt x="24625" y="4201"/>
                  <a:pt x="24634" y="4242"/>
                  <a:pt x="24730" y="4242"/>
                </a:cubicBezTo>
                <a:cubicBezTo>
                  <a:pt x="24772" y="4242"/>
                  <a:pt x="24838" y="4248"/>
                  <a:pt x="24854" y="4192"/>
                </a:cubicBezTo>
                <a:cubicBezTo>
                  <a:pt x="24874" y="4121"/>
                  <a:pt x="24888" y="4041"/>
                  <a:pt x="24904" y="3969"/>
                </a:cubicBezTo>
                <a:cubicBezTo>
                  <a:pt x="24904" y="3961"/>
                  <a:pt x="24904" y="3952"/>
                  <a:pt x="24904" y="3944"/>
                </a:cubicBezTo>
                <a:cubicBezTo>
                  <a:pt x="24869" y="3917"/>
                  <a:pt x="24839" y="3900"/>
                  <a:pt x="24805" y="3944"/>
                </a:cubicBezTo>
                <a:cubicBezTo>
                  <a:pt x="24748" y="4018"/>
                  <a:pt x="24755" y="4034"/>
                  <a:pt x="24755" y="4118"/>
                </a:cubicBezTo>
                <a:cubicBezTo>
                  <a:pt x="24755" y="4173"/>
                  <a:pt x="24774" y="4244"/>
                  <a:pt x="24805" y="4291"/>
                </a:cubicBezTo>
                <a:cubicBezTo>
                  <a:pt x="24813" y="4304"/>
                  <a:pt x="24854" y="4370"/>
                  <a:pt x="24829" y="4390"/>
                </a:cubicBezTo>
                <a:cubicBezTo>
                  <a:pt x="24821" y="4390"/>
                  <a:pt x="24813" y="4390"/>
                  <a:pt x="24805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9240" y="3089160"/>
            <a:ext cx="3911760" cy="2367000"/>
          </a:xfrm>
          <a:custGeom>
            <a:avLst/>
            <a:gdLst/>
            <a:ahLst/>
            <a:rect l="l" t="t" r="r" b="b"/>
            <a:pathLst>
              <a:path w="10866" h="6575">
                <a:moveTo>
                  <a:pt x="12774" y="11162"/>
                </a:moveTo>
                <a:cubicBezTo>
                  <a:pt x="12774" y="11094"/>
                  <a:pt x="12750" y="11236"/>
                  <a:pt x="12750" y="11237"/>
                </a:cubicBezTo>
                <a:cubicBezTo>
                  <a:pt x="12736" y="11344"/>
                  <a:pt x="12672" y="11478"/>
                  <a:pt x="12675" y="11584"/>
                </a:cubicBezTo>
                <a:cubicBezTo>
                  <a:pt x="12678" y="11687"/>
                  <a:pt x="12713" y="11803"/>
                  <a:pt x="12725" y="11906"/>
                </a:cubicBezTo>
                <a:cubicBezTo>
                  <a:pt x="12725" y="11974"/>
                  <a:pt x="12728" y="11993"/>
                  <a:pt x="12700" y="12030"/>
                </a:cubicBezTo>
              </a:path>
              <a:path w="10866" h="6575">
                <a:moveTo>
                  <a:pt x="12303" y="12601"/>
                </a:moveTo>
                <a:cubicBezTo>
                  <a:pt x="12389" y="12569"/>
                  <a:pt x="12456" y="12553"/>
                  <a:pt x="12551" y="12551"/>
                </a:cubicBezTo>
                <a:cubicBezTo>
                  <a:pt x="12691" y="12548"/>
                  <a:pt x="12832" y="12551"/>
                  <a:pt x="12973" y="12551"/>
                </a:cubicBezTo>
              </a:path>
              <a:path w="10866" h="6575">
                <a:moveTo>
                  <a:pt x="12576" y="12626"/>
                </a:moveTo>
                <a:cubicBezTo>
                  <a:pt x="12552" y="12734"/>
                  <a:pt x="12517" y="12821"/>
                  <a:pt x="12551" y="12923"/>
                </a:cubicBezTo>
                <a:cubicBezTo>
                  <a:pt x="12573" y="12967"/>
                  <a:pt x="12576" y="12979"/>
                  <a:pt x="12601" y="12998"/>
                </a:cubicBezTo>
              </a:path>
              <a:path w="10866" h="6575">
                <a:moveTo>
                  <a:pt x="12849" y="12526"/>
                </a:moveTo>
                <a:cubicBezTo>
                  <a:pt x="12849" y="12703"/>
                  <a:pt x="12832" y="12837"/>
                  <a:pt x="12898" y="12998"/>
                </a:cubicBezTo>
                <a:cubicBezTo>
                  <a:pt x="12925" y="13052"/>
                  <a:pt x="12937" y="13072"/>
                  <a:pt x="12973" y="13097"/>
                </a:cubicBezTo>
              </a:path>
              <a:path w="10866" h="6575">
                <a:moveTo>
                  <a:pt x="18157" y="11311"/>
                </a:moveTo>
                <a:cubicBezTo>
                  <a:pt x="18143" y="11394"/>
                  <a:pt x="18092" y="11476"/>
                  <a:pt x="18083" y="11559"/>
                </a:cubicBezTo>
                <a:cubicBezTo>
                  <a:pt x="18068" y="11704"/>
                  <a:pt x="18092" y="11843"/>
                  <a:pt x="18132" y="11981"/>
                </a:cubicBezTo>
                <a:cubicBezTo>
                  <a:pt x="18157" y="12065"/>
                  <a:pt x="18177" y="12150"/>
                  <a:pt x="18207" y="12229"/>
                </a:cubicBezTo>
              </a:path>
              <a:path w="10866" h="6575">
                <a:moveTo>
                  <a:pt x="17735" y="12874"/>
                </a:moveTo>
                <a:cubicBezTo>
                  <a:pt x="17782" y="12904"/>
                  <a:pt x="17755" y="12863"/>
                  <a:pt x="17835" y="12849"/>
                </a:cubicBezTo>
                <a:cubicBezTo>
                  <a:pt x="17907" y="12836"/>
                  <a:pt x="17921" y="12819"/>
                  <a:pt x="17983" y="12874"/>
                </a:cubicBezTo>
                <a:cubicBezTo>
                  <a:pt x="18019" y="12906"/>
                  <a:pt x="18024" y="13048"/>
                  <a:pt x="18008" y="13097"/>
                </a:cubicBezTo>
                <a:cubicBezTo>
                  <a:pt x="17988" y="13159"/>
                  <a:pt x="17929" y="13252"/>
                  <a:pt x="17859" y="13271"/>
                </a:cubicBezTo>
                <a:cubicBezTo>
                  <a:pt x="17821" y="13281"/>
                  <a:pt x="17769" y="13264"/>
                  <a:pt x="17760" y="13246"/>
                </a:cubicBezTo>
                <a:cubicBezTo>
                  <a:pt x="17742" y="13210"/>
                  <a:pt x="17736" y="13181"/>
                  <a:pt x="17760" y="13146"/>
                </a:cubicBezTo>
                <a:cubicBezTo>
                  <a:pt x="17801" y="13086"/>
                  <a:pt x="17883" y="13117"/>
                  <a:pt x="17934" y="13122"/>
                </a:cubicBezTo>
                <a:cubicBezTo>
                  <a:pt x="18011" y="13130"/>
                  <a:pt x="18087" y="13126"/>
                  <a:pt x="18157" y="13097"/>
                </a:cubicBezTo>
                <a:cubicBezTo>
                  <a:pt x="18174" y="13089"/>
                  <a:pt x="18190" y="13080"/>
                  <a:pt x="18207" y="13072"/>
                </a:cubicBezTo>
              </a:path>
              <a:path w="10866" h="6575">
                <a:moveTo>
                  <a:pt x="18405" y="12799"/>
                </a:moveTo>
                <a:cubicBezTo>
                  <a:pt x="18552" y="12799"/>
                  <a:pt x="18679" y="12799"/>
                  <a:pt x="18802" y="12750"/>
                </a:cubicBezTo>
              </a:path>
              <a:path w="10866" h="6575">
                <a:moveTo>
                  <a:pt x="18405" y="12874"/>
                </a:moveTo>
                <a:cubicBezTo>
                  <a:pt x="18394" y="13016"/>
                  <a:pt x="18357" y="13074"/>
                  <a:pt x="18430" y="13171"/>
                </a:cubicBezTo>
              </a:path>
              <a:path w="10866" h="6575">
                <a:moveTo>
                  <a:pt x="18752" y="12824"/>
                </a:moveTo>
                <a:cubicBezTo>
                  <a:pt x="18779" y="13070"/>
                  <a:pt x="18775" y="13155"/>
                  <a:pt x="18901" y="13345"/>
                </a:cubicBezTo>
              </a:path>
              <a:path w="10866" h="6575">
                <a:moveTo>
                  <a:pt x="12700" y="11683"/>
                </a:moveTo>
                <a:cubicBezTo>
                  <a:pt x="12622" y="11683"/>
                  <a:pt x="12603" y="11681"/>
                  <a:pt x="12551" y="11733"/>
                </a:cubicBezTo>
                <a:cubicBezTo>
                  <a:pt x="12551" y="11773"/>
                  <a:pt x="12557" y="11813"/>
                  <a:pt x="12601" y="11832"/>
                </a:cubicBezTo>
                <a:cubicBezTo>
                  <a:pt x="12641" y="11850"/>
                  <a:pt x="12673" y="11842"/>
                  <a:pt x="12700" y="11832"/>
                </a:cubicBezTo>
                <a:cubicBezTo>
                  <a:pt x="12766" y="11808"/>
                  <a:pt x="12778" y="11816"/>
                  <a:pt x="12824" y="11782"/>
                </a:cubicBezTo>
                <a:cubicBezTo>
                  <a:pt x="12815" y="11746"/>
                  <a:pt x="12787" y="11721"/>
                  <a:pt x="12750" y="11708"/>
                </a:cubicBezTo>
                <a:cubicBezTo>
                  <a:pt x="12692" y="11688"/>
                  <a:pt x="12648" y="11749"/>
                  <a:pt x="12626" y="11782"/>
                </a:cubicBezTo>
                <a:cubicBezTo>
                  <a:pt x="12659" y="11793"/>
                  <a:pt x="12657" y="11818"/>
                  <a:pt x="12700" y="11832"/>
                </a:cubicBezTo>
                <a:cubicBezTo>
                  <a:pt x="12743" y="11846"/>
                  <a:pt x="12764" y="11787"/>
                  <a:pt x="12774" y="11782"/>
                </a:cubicBezTo>
                <a:cubicBezTo>
                  <a:pt x="12782" y="11782"/>
                  <a:pt x="12791" y="11782"/>
                  <a:pt x="12799" y="11782"/>
                </a:cubicBezTo>
                <a:cubicBezTo>
                  <a:pt x="12754" y="11722"/>
                  <a:pt x="12749" y="11733"/>
                  <a:pt x="12675" y="11708"/>
                </a:cubicBezTo>
                <a:cubicBezTo>
                  <a:pt x="12607" y="11685"/>
                  <a:pt x="12580" y="11701"/>
                  <a:pt x="12502" y="11708"/>
                </a:cubicBezTo>
              </a:path>
              <a:path w="10866" h="6575">
                <a:moveTo>
                  <a:pt x="10393" y="11757"/>
                </a:moveTo>
                <a:cubicBezTo>
                  <a:pt x="10398" y="11792"/>
                  <a:pt x="10404" y="11862"/>
                  <a:pt x="10443" y="11881"/>
                </a:cubicBezTo>
                <a:cubicBezTo>
                  <a:pt x="10468" y="11881"/>
                  <a:pt x="10476" y="11881"/>
                  <a:pt x="10492" y="11881"/>
                </a:cubicBezTo>
                <a:cubicBezTo>
                  <a:pt x="10513" y="11853"/>
                  <a:pt x="10526" y="11806"/>
                  <a:pt x="10492" y="11782"/>
                </a:cubicBezTo>
                <a:cubicBezTo>
                  <a:pt x="10473" y="11769"/>
                  <a:pt x="10423" y="11746"/>
                  <a:pt x="10393" y="11757"/>
                </a:cubicBezTo>
                <a:cubicBezTo>
                  <a:pt x="10335" y="11778"/>
                  <a:pt x="10263" y="11796"/>
                  <a:pt x="10244" y="11857"/>
                </a:cubicBezTo>
                <a:cubicBezTo>
                  <a:pt x="10244" y="11865"/>
                  <a:pt x="10244" y="11873"/>
                  <a:pt x="10244" y="11881"/>
                </a:cubicBezTo>
                <a:cubicBezTo>
                  <a:pt x="10282" y="11894"/>
                  <a:pt x="10265" y="11906"/>
                  <a:pt x="10319" y="11906"/>
                </a:cubicBezTo>
                <a:cubicBezTo>
                  <a:pt x="10371" y="11906"/>
                  <a:pt x="10368" y="11874"/>
                  <a:pt x="10368" y="11832"/>
                </a:cubicBezTo>
                <a:cubicBezTo>
                  <a:pt x="10368" y="11807"/>
                  <a:pt x="10368" y="11799"/>
                  <a:pt x="10368" y="11782"/>
                </a:cubicBezTo>
                <a:cubicBezTo>
                  <a:pt x="10328" y="11788"/>
                  <a:pt x="10243" y="11794"/>
                  <a:pt x="10220" y="11832"/>
                </a:cubicBezTo>
                <a:cubicBezTo>
                  <a:pt x="10198" y="11868"/>
                  <a:pt x="10227" y="11894"/>
                  <a:pt x="10244" y="11906"/>
                </a:cubicBezTo>
              </a:path>
              <a:path w="10866" h="6575">
                <a:moveTo>
                  <a:pt x="15255" y="11832"/>
                </a:moveTo>
                <a:cubicBezTo>
                  <a:pt x="15255" y="11791"/>
                  <a:pt x="15250" y="11752"/>
                  <a:pt x="15205" y="11733"/>
                </a:cubicBezTo>
                <a:cubicBezTo>
                  <a:pt x="15145" y="11707"/>
                  <a:pt x="15096" y="11716"/>
                  <a:pt x="15032" y="11757"/>
                </a:cubicBezTo>
                <a:cubicBezTo>
                  <a:pt x="14998" y="11779"/>
                  <a:pt x="15007" y="11798"/>
                  <a:pt x="15007" y="11832"/>
                </a:cubicBezTo>
                <a:cubicBezTo>
                  <a:pt x="15049" y="11864"/>
                  <a:pt x="15075" y="11857"/>
                  <a:pt x="15131" y="11857"/>
                </a:cubicBezTo>
                <a:cubicBezTo>
                  <a:pt x="15184" y="11857"/>
                  <a:pt x="15180" y="11824"/>
                  <a:pt x="15180" y="11782"/>
                </a:cubicBezTo>
                <a:cubicBezTo>
                  <a:pt x="15140" y="11782"/>
                  <a:pt x="15087" y="11788"/>
                  <a:pt x="15056" y="11807"/>
                </a:cubicBezTo>
                <a:cubicBezTo>
                  <a:pt x="15048" y="11815"/>
                  <a:pt x="15040" y="11824"/>
                  <a:pt x="15032" y="11832"/>
                </a:cubicBezTo>
                <a:cubicBezTo>
                  <a:pt x="15032" y="11867"/>
                  <a:pt x="15037" y="11918"/>
                  <a:pt x="15081" y="11931"/>
                </a:cubicBezTo>
                <a:cubicBezTo>
                  <a:pt x="15098" y="11931"/>
                  <a:pt x="15114" y="11931"/>
                  <a:pt x="15131" y="11931"/>
                </a:cubicBezTo>
              </a:path>
              <a:path w="10866" h="6575">
                <a:moveTo>
                  <a:pt x="18231" y="11807"/>
                </a:moveTo>
                <a:cubicBezTo>
                  <a:pt x="18165" y="11807"/>
                  <a:pt x="18113" y="11825"/>
                  <a:pt x="18058" y="11857"/>
                </a:cubicBezTo>
                <a:cubicBezTo>
                  <a:pt x="18058" y="11899"/>
                  <a:pt x="18064" y="11916"/>
                  <a:pt x="18107" y="11931"/>
                </a:cubicBezTo>
                <a:cubicBezTo>
                  <a:pt x="18119" y="11935"/>
                  <a:pt x="18165" y="11892"/>
                  <a:pt x="18182" y="11881"/>
                </a:cubicBezTo>
                <a:cubicBezTo>
                  <a:pt x="18216" y="11859"/>
                  <a:pt x="18207" y="11841"/>
                  <a:pt x="18207" y="11807"/>
                </a:cubicBezTo>
                <a:cubicBezTo>
                  <a:pt x="18170" y="11807"/>
                  <a:pt x="18103" y="11791"/>
                  <a:pt x="18083" y="11832"/>
                </a:cubicBezTo>
                <a:cubicBezTo>
                  <a:pt x="18062" y="11876"/>
                  <a:pt x="18110" y="11889"/>
                  <a:pt x="18058" y="11906"/>
                </a:cubicBezTo>
              </a:path>
              <a:path w="10866" h="6575">
                <a:moveTo>
                  <a:pt x="11237" y="15032"/>
                </a:moveTo>
                <a:cubicBezTo>
                  <a:pt x="11200" y="15041"/>
                  <a:pt x="11191" y="15052"/>
                  <a:pt x="11162" y="15081"/>
                </a:cubicBezTo>
                <a:cubicBezTo>
                  <a:pt x="11200" y="15094"/>
                  <a:pt x="11183" y="15106"/>
                  <a:pt x="11237" y="15106"/>
                </a:cubicBezTo>
                <a:cubicBezTo>
                  <a:pt x="11261" y="15106"/>
                  <a:pt x="11270" y="15106"/>
                  <a:pt x="11286" y="15106"/>
                </a:cubicBezTo>
                <a:cubicBezTo>
                  <a:pt x="11286" y="15067"/>
                  <a:pt x="11302" y="15037"/>
                  <a:pt x="11261" y="15032"/>
                </a:cubicBezTo>
                <a:cubicBezTo>
                  <a:pt x="11236" y="15029"/>
                  <a:pt x="11172" y="15041"/>
                  <a:pt x="11162" y="15056"/>
                </a:cubicBezTo>
                <a:cubicBezTo>
                  <a:pt x="11162" y="15084"/>
                  <a:pt x="11164" y="15090"/>
                  <a:pt x="11187" y="15056"/>
                </a:cubicBezTo>
              </a:path>
              <a:path w="10866" h="6575">
                <a:moveTo>
                  <a:pt x="8111" y="11757"/>
                </a:moveTo>
                <a:cubicBezTo>
                  <a:pt x="8117" y="11725"/>
                  <a:pt x="8132" y="11766"/>
                  <a:pt x="8136" y="11733"/>
                </a:cubicBezTo>
                <a:cubicBezTo>
                  <a:pt x="8143" y="11682"/>
                  <a:pt x="8154" y="11659"/>
                  <a:pt x="8161" y="11609"/>
                </a:cubicBezTo>
                <a:cubicBezTo>
                  <a:pt x="8176" y="11504"/>
                  <a:pt x="8172" y="11412"/>
                  <a:pt x="8186" y="11311"/>
                </a:cubicBezTo>
                <a:cubicBezTo>
                  <a:pt x="8196" y="11244"/>
                  <a:pt x="8200" y="11181"/>
                  <a:pt x="8210" y="11112"/>
                </a:cubicBezTo>
                <a:cubicBezTo>
                  <a:pt x="8224" y="11012"/>
                  <a:pt x="8245" y="10914"/>
                  <a:pt x="8260" y="10815"/>
                </a:cubicBezTo>
                <a:cubicBezTo>
                  <a:pt x="8272" y="10733"/>
                  <a:pt x="8272" y="10649"/>
                  <a:pt x="8285" y="10567"/>
                </a:cubicBezTo>
                <a:cubicBezTo>
                  <a:pt x="8301" y="10469"/>
                  <a:pt x="8317" y="10368"/>
                  <a:pt x="8334" y="10269"/>
                </a:cubicBezTo>
                <a:cubicBezTo>
                  <a:pt x="8355" y="10149"/>
                  <a:pt x="8383" y="10038"/>
                  <a:pt x="8409" y="9922"/>
                </a:cubicBezTo>
                <a:cubicBezTo>
                  <a:pt x="8426" y="9847"/>
                  <a:pt x="8435" y="9743"/>
                  <a:pt x="8458" y="9674"/>
                </a:cubicBezTo>
                <a:cubicBezTo>
                  <a:pt x="8484" y="9595"/>
                  <a:pt x="8508" y="9536"/>
                  <a:pt x="8533" y="9451"/>
                </a:cubicBezTo>
                <a:cubicBezTo>
                  <a:pt x="8538" y="9433"/>
                  <a:pt x="8567" y="9297"/>
                  <a:pt x="8582" y="9252"/>
                </a:cubicBezTo>
                <a:cubicBezTo>
                  <a:pt x="8598" y="9204"/>
                  <a:pt x="8615" y="9153"/>
                  <a:pt x="8632" y="9103"/>
                </a:cubicBezTo>
                <a:cubicBezTo>
                  <a:pt x="8644" y="9069"/>
                  <a:pt x="8664" y="8984"/>
                  <a:pt x="8682" y="8954"/>
                </a:cubicBezTo>
                <a:cubicBezTo>
                  <a:pt x="8712" y="8904"/>
                  <a:pt x="8727" y="8836"/>
                  <a:pt x="8781" y="8806"/>
                </a:cubicBezTo>
                <a:cubicBezTo>
                  <a:pt x="8871" y="8755"/>
                  <a:pt x="9069" y="8768"/>
                  <a:pt x="9153" y="8806"/>
                </a:cubicBezTo>
                <a:cubicBezTo>
                  <a:pt x="9204" y="8830"/>
                  <a:pt x="9232" y="8887"/>
                  <a:pt x="9277" y="8930"/>
                </a:cubicBezTo>
                <a:cubicBezTo>
                  <a:pt x="9325" y="8975"/>
                  <a:pt x="9332" y="9020"/>
                  <a:pt x="9376" y="9079"/>
                </a:cubicBezTo>
                <a:cubicBezTo>
                  <a:pt x="9403" y="9116"/>
                  <a:pt x="9467" y="9172"/>
                  <a:pt x="9500" y="9227"/>
                </a:cubicBezTo>
                <a:cubicBezTo>
                  <a:pt x="9542" y="9296"/>
                  <a:pt x="9564" y="9378"/>
                  <a:pt x="9599" y="9451"/>
                </a:cubicBezTo>
                <a:cubicBezTo>
                  <a:pt x="9659" y="9576"/>
                  <a:pt x="9717" y="9690"/>
                  <a:pt x="9773" y="9823"/>
                </a:cubicBezTo>
                <a:cubicBezTo>
                  <a:pt x="9801" y="9891"/>
                  <a:pt x="9819" y="9974"/>
                  <a:pt x="9847" y="10046"/>
                </a:cubicBezTo>
                <a:cubicBezTo>
                  <a:pt x="9886" y="10146"/>
                  <a:pt x="9936" y="10245"/>
                  <a:pt x="9971" y="10344"/>
                </a:cubicBezTo>
                <a:cubicBezTo>
                  <a:pt x="10000" y="10427"/>
                  <a:pt x="10022" y="10508"/>
                  <a:pt x="10046" y="10592"/>
                </a:cubicBezTo>
                <a:cubicBezTo>
                  <a:pt x="10067" y="10667"/>
                  <a:pt x="10103" y="10740"/>
                  <a:pt x="10120" y="10815"/>
                </a:cubicBezTo>
                <a:cubicBezTo>
                  <a:pt x="10142" y="10911"/>
                  <a:pt x="10152" y="11014"/>
                  <a:pt x="10170" y="11112"/>
                </a:cubicBezTo>
                <a:cubicBezTo>
                  <a:pt x="10183" y="11179"/>
                  <a:pt x="10180" y="11245"/>
                  <a:pt x="10195" y="11311"/>
                </a:cubicBezTo>
                <a:cubicBezTo>
                  <a:pt x="10213" y="11392"/>
                  <a:pt x="10225" y="11478"/>
                  <a:pt x="10244" y="11559"/>
                </a:cubicBezTo>
                <a:cubicBezTo>
                  <a:pt x="10260" y="11624"/>
                  <a:pt x="10277" y="11692"/>
                  <a:pt x="10294" y="11757"/>
                </a:cubicBezTo>
                <a:cubicBezTo>
                  <a:pt x="10316" y="11840"/>
                  <a:pt x="10346" y="11924"/>
                  <a:pt x="10368" y="12005"/>
                </a:cubicBezTo>
                <a:cubicBezTo>
                  <a:pt x="10385" y="12069"/>
                  <a:pt x="10403" y="12139"/>
                  <a:pt x="10418" y="12204"/>
                </a:cubicBezTo>
                <a:cubicBezTo>
                  <a:pt x="10433" y="12268"/>
                  <a:pt x="10457" y="12338"/>
                  <a:pt x="10468" y="12402"/>
                </a:cubicBezTo>
                <a:cubicBezTo>
                  <a:pt x="10481" y="12477"/>
                  <a:pt x="10482" y="12552"/>
                  <a:pt x="10492" y="12626"/>
                </a:cubicBezTo>
                <a:cubicBezTo>
                  <a:pt x="10502" y="12700"/>
                  <a:pt x="10505" y="12773"/>
                  <a:pt x="10517" y="12849"/>
                </a:cubicBezTo>
                <a:cubicBezTo>
                  <a:pt x="10531" y="12939"/>
                  <a:pt x="10556" y="13034"/>
                  <a:pt x="10567" y="13122"/>
                </a:cubicBezTo>
                <a:cubicBezTo>
                  <a:pt x="10584" y="13259"/>
                  <a:pt x="10593" y="13383"/>
                  <a:pt x="10616" y="13519"/>
                </a:cubicBezTo>
                <a:cubicBezTo>
                  <a:pt x="10631" y="13610"/>
                  <a:pt x="10651" y="13703"/>
                  <a:pt x="10666" y="13791"/>
                </a:cubicBezTo>
                <a:cubicBezTo>
                  <a:pt x="10677" y="13855"/>
                  <a:pt x="10676" y="13926"/>
                  <a:pt x="10691" y="13990"/>
                </a:cubicBezTo>
                <a:cubicBezTo>
                  <a:pt x="10707" y="14056"/>
                  <a:pt x="10725" y="14121"/>
                  <a:pt x="10740" y="14188"/>
                </a:cubicBezTo>
                <a:cubicBezTo>
                  <a:pt x="10754" y="14251"/>
                  <a:pt x="10772" y="14325"/>
                  <a:pt x="10790" y="14387"/>
                </a:cubicBezTo>
                <a:cubicBezTo>
                  <a:pt x="10818" y="14481"/>
                  <a:pt x="10848" y="14573"/>
                  <a:pt x="10889" y="14660"/>
                </a:cubicBezTo>
                <a:cubicBezTo>
                  <a:pt x="10915" y="14715"/>
                  <a:pt x="10935" y="14763"/>
                  <a:pt x="10964" y="14808"/>
                </a:cubicBezTo>
                <a:cubicBezTo>
                  <a:pt x="11023" y="14901"/>
                  <a:pt x="11101" y="14977"/>
                  <a:pt x="11187" y="15032"/>
                </a:cubicBezTo>
                <a:cubicBezTo>
                  <a:pt x="11263" y="15081"/>
                  <a:pt x="11333" y="15161"/>
                  <a:pt x="11435" y="15131"/>
                </a:cubicBezTo>
                <a:cubicBezTo>
                  <a:pt x="11475" y="15120"/>
                  <a:pt x="11500" y="15106"/>
                  <a:pt x="11534" y="15081"/>
                </a:cubicBezTo>
                <a:cubicBezTo>
                  <a:pt x="11567" y="15057"/>
                  <a:pt x="11584" y="14970"/>
                  <a:pt x="11609" y="14932"/>
                </a:cubicBezTo>
                <a:cubicBezTo>
                  <a:pt x="11647" y="14875"/>
                  <a:pt x="11682" y="14749"/>
                  <a:pt x="11708" y="14684"/>
                </a:cubicBezTo>
                <a:cubicBezTo>
                  <a:pt x="11737" y="14612"/>
                  <a:pt x="11755" y="14536"/>
                  <a:pt x="11782" y="14461"/>
                </a:cubicBezTo>
                <a:cubicBezTo>
                  <a:pt x="11808" y="14387"/>
                  <a:pt x="11828" y="14314"/>
                  <a:pt x="11857" y="14238"/>
                </a:cubicBezTo>
                <a:cubicBezTo>
                  <a:pt x="12047" y="13743"/>
                  <a:pt x="12237" y="13265"/>
                  <a:pt x="12328" y="12750"/>
                </a:cubicBezTo>
                <a:cubicBezTo>
                  <a:pt x="12343" y="12667"/>
                  <a:pt x="12365" y="12583"/>
                  <a:pt x="12378" y="12502"/>
                </a:cubicBezTo>
                <a:cubicBezTo>
                  <a:pt x="12395" y="12397"/>
                  <a:pt x="12414" y="12280"/>
                  <a:pt x="12427" y="12179"/>
                </a:cubicBezTo>
                <a:cubicBezTo>
                  <a:pt x="12448" y="12012"/>
                  <a:pt x="12452" y="11847"/>
                  <a:pt x="12477" y="11683"/>
                </a:cubicBezTo>
                <a:cubicBezTo>
                  <a:pt x="12490" y="11599"/>
                  <a:pt x="12512" y="11519"/>
                  <a:pt x="12526" y="11435"/>
                </a:cubicBezTo>
                <a:cubicBezTo>
                  <a:pt x="12538" y="11359"/>
                  <a:pt x="12561" y="11287"/>
                  <a:pt x="12576" y="11212"/>
                </a:cubicBezTo>
                <a:cubicBezTo>
                  <a:pt x="12608" y="11055"/>
                  <a:pt x="12644" y="10896"/>
                  <a:pt x="12675" y="10740"/>
                </a:cubicBezTo>
                <a:cubicBezTo>
                  <a:pt x="12700" y="10616"/>
                  <a:pt x="12718" y="10490"/>
                  <a:pt x="12750" y="10368"/>
                </a:cubicBezTo>
                <a:cubicBezTo>
                  <a:pt x="12774" y="10277"/>
                  <a:pt x="12801" y="10209"/>
                  <a:pt x="12824" y="10120"/>
                </a:cubicBezTo>
                <a:cubicBezTo>
                  <a:pt x="12850" y="10022"/>
                  <a:pt x="12876" y="9923"/>
                  <a:pt x="12898" y="9823"/>
                </a:cubicBezTo>
                <a:cubicBezTo>
                  <a:pt x="12922" y="9713"/>
                  <a:pt x="12942" y="9606"/>
                  <a:pt x="12973" y="9500"/>
                </a:cubicBezTo>
                <a:cubicBezTo>
                  <a:pt x="13004" y="9394"/>
                  <a:pt x="13032" y="9286"/>
                  <a:pt x="13072" y="9178"/>
                </a:cubicBezTo>
                <a:cubicBezTo>
                  <a:pt x="13103" y="9094"/>
                  <a:pt x="13136" y="9013"/>
                  <a:pt x="13171" y="8930"/>
                </a:cubicBezTo>
                <a:cubicBezTo>
                  <a:pt x="13195" y="8873"/>
                  <a:pt x="13213" y="8832"/>
                  <a:pt x="13246" y="8781"/>
                </a:cubicBezTo>
                <a:cubicBezTo>
                  <a:pt x="13274" y="8738"/>
                  <a:pt x="13262" y="8672"/>
                  <a:pt x="13320" y="8632"/>
                </a:cubicBezTo>
                <a:cubicBezTo>
                  <a:pt x="13339" y="8619"/>
                  <a:pt x="13427" y="8586"/>
                  <a:pt x="13444" y="8582"/>
                </a:cubicBezTo>
                <a:cubicBezTo>
                  <a:pt x="13536" y="8561"/>
                  <a:pt x="13594" y="8607"/>
                  <a:pt x="13667" y="8632"/>
                </a:cubicBezTo>
                <a:cubicBezTo>
                  <a:pt x="13752" y="8661"/>
                  <a:pt x="13817" y="8718"/>
                  <a:pt x="13891" y="8781"/>
                </a:cubicBezTo>
                <a:cubicBezTo>
                  <a:pt x="14037" y="8904"/>
                  <a:pt x="14142" y="9078"/>
                  <a:pt x="14238" y="9227"/>
                </a:cubicBezTo>
                <a:cubicBezTo>
                  <a:pt x="14283" y="9297"/>
                  <a:pt x="14359" y="9415"/>
                  <a:pt x="14387" y="9475"/>
                </a:cubicBezTo>
                <a:cubicBezTo>
                  <a:pt x="14454" y="9619"/>
                  <a:pt x="14486" y="9785"/>
                  <a:pt x="14536" y="9922"/>
                </a:cubicBezTo>
                <a:cubicBezTo>
                  <a:pt x="14642" y="10214"/>
                  <a:pt x="14708" y="10529"/>
                  <a:pt x="14808" y="10815"/>
                </a:cubicBezTo>
                <a:cubicBezTo>
                  <a:pt x="14864" y="10975"/>
                  <a:pt x="14940" y="11123"/>
                  <a:pt x="14982" y="11286"/>
                </a:cubicBezTo>
                <a:cubicBezTo>
                  <a:pt x="14999" y="11353"/>
                  <a:pt x="15013" y="11418"/>
                  <a:pt x="15032" y="11485"/>
                </a:cubicBezTo>
                <a:cubicBezTo>
                  <a:pt x="15067" y="11609"/>
                  <a:pt x="15098" y="11734"/>
                  <a:pt x="15131" y="11857"/>
                </a:cubicBezTo>
                <a:cubicBezTo>
                  <a:pt x="15153" y="11938"/>
                  <a:pt x="15157" y="12021"/>
                  <a:pt x="15180" y="12105"/>
                </a:cubicBezTo>
                <a:cubicBezTo>
                  <a:pt x="15198" y="12170"/>
                  <a:pt x="15210" y="12240"/>
                  <a:pt x="15230" y="12303"/>
                </a:cubicBezTo>
                <a:cubicBezTo>
                  <a:pt x="15251" y="12372"/>
                  <a:pt x="15281" y="12435"/>
                  <a:pt x="15304" y="12502"/>
                </a:cubicBezTo>
                <a:cubicBezTo>
                  <a:pt x="15330" y="12580"/>
                  <a:pt x="15355" y="12650"/>
                  <a:pt x="15379" y="12725"/>
                </a:cubicBezTo>
                <a:cubicBezTo>
                  <a:pt x="15401" y="12794"/>
                  <a:pt x="15426" y="12853"/>
                  <a:pt x="15453" y="12923"/>
                </a:cubicBezTo>
                <a:cubicBezTo>
                  <a:pt x="15496" y="13034"/>
                  <a:pt x="15535" y="13159"/>
                  <a:pt x="15577" y="13271"/>
                </a:cubicBezTo>
                <a:cubicBezTo>
                  <a:pt x="15595" y="13319"/>
                  <a:pt x="15609" y="13369"/>
                  <a:pt x="15627" y="13419"/>
                </a:cubicBezTo>
                <a:cubicBezTo>
                  <a:pt x="15652" y="13487"/>
                  <a:pt x="15677" y="13549"/>
                  <a:pt x="15701" y="13618"/>
                </a:cubicBezTo>
                <a:cubicBezTo>
                  <a:pt x="15721" y="13674"/>
                  <a:pt x="15759" y="13716"/>
                  <a:pt x="15776" y="13767"/>
                </a:cubicBezTo>
                <a:cubicBezTo>
                  <a:pt x="15794" y="13819"/>
                  <a:pt x="15805" y="13865"/>
                  <a:pt x="15825" y="13915"/>
                </a:cubicBezTo>
                <a:cubicBezTo>
                  <a:pt x="15841" y="13954"/>
                  <a:pt x="15861" y="14003"/>
                  <a:pt x="15875" y="14039"/>
                </a:cubicBezTo>
                <a:cubicBezTo>
                  <a:pt x="15904" y="14115"/>
                  <a:pt x="15942" y="14191"/>
                  <a:pt x="15974" y="14263"/>
                </a:cubicBezTo>
                <a:cubicBezTo>
                  <a:pt x="15986" y="14291"/>
                  <a:pt x="15985" y="14336"/>
                  <a:pt x="15999" y="14362"/>
                </a:cubicBezTo>
                <a:cubicBezTo>
                  <a:pt x="16019" y="14399"/>
                  <a:pt x="16052" y="14423"/>
                  <a:pt x="16073" y="14461"/>
                </a:cubicBezTo>
                <a:cubicBezTo>
                  <a:pt x="16095" y="14501"/>
                  <a:pt x="16123" y="14544"/>
                  <a:pt x="16148" y="14585"/>
                </a:cubicBezTo>
                <a:cubicBezTo>
                  <a:pt x="16171" y="14623"/>
                  <a:pt x="16197" y="14669"/>
                  <a:pt x="16222" y="14709"/>
                </a:cubicBezTo>
                <a:cubicBezTo>
                  <a:pt x="16236" y="14732"/>
                  <a:pt x="16266" y="14774"/>
                  <a:pt x="16272" y="14784"/>
                </a:cubicBezTo>
                <a:cubicBezTo>
                  <a:pt x="16291" y="14815"/>
                  <a:pt x="16297" y="14851"/>
                  <a:pt x="16321" y="14883"/>
                </a:cubicBezTo>
                <a:cubicBezTo>
                  <a:pt x="16331" y="14896"/>
                  <a:pt x="16371" y="14931"/>
                  <a:pt x="16396" y="14957"/>
                </a:cubicBezTo>
                <a:cubicBezTo>
                  <a:pt x="16444" y="15007"/>
                  <a:pt x="16467" y="15070"/>
                  <a:pt x="16545" y="15106"/>
                </a:cubicBezTo>
                <a:cubicBezTo>
                  <a:pt x="16581" y="15123"/>
                  <a:pt x="16601" y="15155"/>
                  <a:pt x="16644" y="15156"/>
                </a:cubicBezTo>
                <a:cubicBezTo>
                  <a:pt x="16903" y="15159"/>
                  <a:pt x="16970" y="14888"/>
                  <a:pt x="17066" y="14709"/>
                </a:cubicBezTo>
                <a:cubicBezTo>
                  <a:pt x="17131" y="14588"/>
                  <a:pt x="17166" y="14457"/>
                  <a:pt x="17214" y="14337"/>
                </a:cubicBezTo>
                <a:cubicBezTo>
                  <a:pt x="17284" y="14162"/>
                  <a:pt x="17347" y="13988"/>
                  <a:pt x="17413" y="13816"/>
                </a:cubicBezTo>
                <a:cubicBezTo>
                  <a:pt x="17458" y="13700"/>
                  <a:pt x="17494" y="13582"/>
                  <a:pt x="17537" y="13469"/>
                </a:cubicBezTo>
                <a:cubicBezTo>
                  <a:pt x="17596" y="13313"/>
                  <a:pt x="17655" y="13151"/>
                  <a:pt x="17711" y="12998"/>
                </a:cubicBezTo>
                <a:cubicBezTo>
                  <a:pt x="17816" y="12714"/>
                  <a:pt x="17909" y="12433"/>
                  <a:pt x="18008" y="12154"/>
                </a:cubicBezTo>
                <a:cubicBezTo>
                  <a:pt x="18032" y="12086"/>
                  <a:pt x="18058" y="12025"/>
                  <a:pt x="18083" y="11956"/>
                </a:cubicBezTo>
                <a:cubicBezTo>
                  <a:pt x="18108" y="11887"/>
                  <a:pt x="18129" y="11827"/>
                  <a:pt x="18157" y="11757"/>
                </a:cubicBezTo>
                <a:cubicBezTo>
                  <a:pt x="18188" y="11680"/>
                  <a:pt x="18201" y="11611"/>
                  <a:pt x="18231" y="11534"/>
                </a:cubicBezTo>
                <a:cubicBezTo>
                  <a:pt x="18264" y="11450"/>
                  <a:pt x="18296" y="11367"/>
                  <a:pt x="18331" y="11286"/>
                </a:cubicBezTo>
                <a:cubicBezTo>
                  <a:pt x="18356" y="11228"/>
                  <a:pt x="18379" y="11142"/>
                  <a:pt x="18405" y="11088"/>
                </a:cubicBezTo>
                <a:cubicBezTo>
                  <a:pt x="18428" y="11039"/>
                  <a:pt x="18456" y="10990"/>
                  <a:pt x="18479" y="10939"/>
                </a:cubicBezTo>
                <a:cubicBezTo>
                  <a:pt x="18491" y="10913"/>
                  <a:pt x="18493" y="10940"/>
                  <a:pt x="18504" y="10914"/>
                </a:cubicBezTo>
                <a:cubicBezTo>
                  <a:pt x="18454" y="10946"/>
                  <a:pt x="18409" y="10980"/>
                  <a:pt x="18355" y="11013"/>
                </a:cubicBezTo>
                <a:cubicBezTo>
                  <a:pt x="18313" y="11038"/>
                  <a:pt x="18271" y="11064"/>
                  <a:pt x="18231" y="11088"/>
                </a:cubicBezTo>
                <a:cubicBezTo>
                  <a:pt x="18223" y="11088"/>
                  <a:pt x="18215" y="11088"/>
                  <a:pt x="18207" y="11088"/>
                </a:cubicBezTo>
                <a:cubicBezTo>
                  <a:pt x="18242" y="11059"/>
                  <a:pt x="18283" y="10975"/>
                  <a:pt x="18331" y="10939"/>
                </a:cubicBezTo>
                <a:cubicBezTo>
                  <a:pt x="18390" y="10894"/>
                  <a:pt x="18479" y="10784"/>
                  <a:pt x="18554" y="10790"/>
                </a:cubicBezTo>
                <a:cubicBezTo>
                  <a:pt x="18702" y="10802"/>
                  <a:pt x="18789" y="10965"/>
                  <a:pt x="18876" y="11063"/>
                </a:cubicBezTo>
                <a:cubicBezTo>
                  <a:pt x="18924" y="11117"/>
                  <a:pt x="18936" y="11181"/>
                  <a:pt x="18976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884320"/>
            <a:ext cx="517680" cy="2786400"/>
          </a:xfrm>
          <a:custGeom>
            <a:avLst/>
            <a:gdLst/>
            <a:ahLst/>
            <a:rect l="l" t="t" r="r" b="b"/>
            <a:pathLst>
              <a:path w="1440" h="7740">
                <a:moveTo>
                  <a:pt x="8062" y="10740"/>
                </a:moveTo>
                <a:cubicBezTo>
                  <a:pt x="8054" y="10677"/>
                  <a:pt x="8041" y="10709"/>
                  <a:pt x="8037" y="10641"/>
                </a:cubicBezTo>
                <a:cubicBezTo>
                  <a:pt x="8027" y="10473"/>
                  <a:pt x="8047" y="10310"/>
                  <a:pt x="8062" y="10145"/>
                </a:cubicBezTo>
                <a:cubicBezTo>
                  <a:pt x="8072" y="10038"/>
                  <a:pt x="8083" y="9929"/>
                  <a:pt x="8086" y="9823"/>
                </a:cubicBezTo>
                <a:cubicBezTo>
                  <a:pt x="8089" y="9695"/>
                  <a:pt x="8108" y="9576"/>
                  <a:pt x="8111" y="9451"/>
                </a:cubicBezTo>
                <a:cubicBezTo>
                  <a:pt x="8115" y="9306"/>
                  <a:pt x="8132" y="9172"/>
                  <a:pt x="8136" y="9029"/>
                </a:cubicBezTo>
                <a:cubicBezTo>
                  <a:pt x="8142" y="8823"/>
                  <a:pt x="8129" y="8599"/>
                  <a:pt x="8111" y="8409"/>
                </a:cubicBezTo>
                <a:cubicBezTo>
                  <a:pt x="8104" y="8335"/>
                  <a:pt x="8098" y="8279"/>
                  <a:pt x="8086" y="8210"/>
                </a:cubicBezTo>
                <a:cubicBezTo>
                  <a:pt x="8078" y="8163"/>
                  <a:pt x="8070" y="8104"/>
                  <a:pt x="8037" y="8062"/>
                </a:cubicBezTo>
                <a:cubicBezTo>
                  <a:pt x="7980" y="7989"/>
                  <a:pt x="7997" y="8034"/>
                  <a:pt x="7962" y="8062"/>
                </a:cubicBezTo>
              </a:path>
              <a:path w="1440" h="7740">
                <a:moveTo>
                  <a:pt x="8086" y="13593"/>
                </a:moveTo>
                <a:cubicBezTo>
                  <a:pt x="8093" y="13653"/>
                  <a:pt x="8108" y="13707"/>
                  <a:pt x="8111" y="13767"/>
                </a:cubicBezTo>
                <a:cubicBezTo>
                  <a:pt x="8117" y="13901"/>
                  <a:pt x="8089" y="14030"/>
                  <a:pt x="8086" y="14163"/>
                </a:cubicBezTo>
                <a:cubicBezTo>
                  <a:pt x="8072" y="14692"/>
                  <a:pt x="8086" y="15222"/>
                  <a:pt x="8086" y="15751"/>
                </a:cubicBezTo>
              </a:path>
              <a:path w="1440" h="7740">
                <a:moveTo>
                  <a:pt x="7739" y="10840"/>
                </a:moveTo>
                <a:cubicBezTo>
                  <a:pt x="7891" y="10813"/>
                  <a:pt x="8053" y="10794"/>
                  <a:pt x="8210" y="10790"/>
                </a:cubicBezTo>
                <a:cubicBezTo>
                  <a:pt x="8327" y="10787"/>
                  <a:pt x="8494" y="10856"/>
                  <a:pt x="8607" y="10815"/>
                </a:cubicBezTo>
                <a:cubicBezTo>
                  <a:pt x="8632" y="10798"/>
                  <a:pt x="8657" y="10782"/>
                  <a:pt x="8682" y="10765"/>
                </a:cubicBezTo>
              </a:path>
              <a:path w="1440" h="7740">
                <a:moveTo>
                  <a:pt x="7590" y="9823"/>
                </a:moveTo>
                <a:cubicBezTo>
                  <a:pt x="7834" y="9823"/>
                  <a:pt x="8559" y="9933"/>
                  <a:pt x="8682" y="9748"/>
                </a:cubicBezTo>
              </a:path>
              <a:path w="1440" h="7740">
                <a:moveTo>
                  <a:pt x="7714" y="8930"/>
                </a:moveTo>
                <a:cubicBezTo>
                  <a:pt x="7836" y="8869"/>
                  <a:pt x="7944" y="8859"/>
                  <a:pt x="8086" y="8855"/>
                </a:cubicBezTo>
                <a:cubicBezTo>
                  <a:pt x="8276" y="8850"/>
                  <a:pt x="8467" y="8855"/>
                  <a:pt x="8657" y="8855"/>
                </a:cubicBezTo>
              </a:path>
              <a:path w="1440" h="7740">
                <a:moveTo>
                  <a:pt x="7789" y="12799"/>
                </a:moveTo>
                <a:cubicBezTo>
                  <a:pt x="7933" y="12779"/>
                  <a:pt x="8088" y="12756"/>
                  <a:pt x="8235" y="12774"/>
                </a:cubicBezTo>
                <a:cubicBezTo>
                  <a:pt x="8388" y="12793"/>
                  <a:pt x="8532" y="12811"/>
                  <a:pt x="8682" y="12849"/>
                </a:cubicBezTo>
              </a:path>
              <a:path w="1440" h="7740">
                <a:moveTo>
                  <a:pt x="7739" y="13767"/>
                </a:moveTo>
                <a:cubicBezTo>
                  <a:pt x="7864" y="13776"/>
                  <a:pt x="8015" y="13787"/>
                  <a:pt x="8136" y="13816"/>
                </a:cubicBezTo>
                <a:cubicBezTo>
                  <a:pt x="8296" y="13854"/>
                  <a:pt x="8449" y="13882"/>
                  <a:pt x="8607" y="13915"/>
                </a:cubicBezTo>
              </a:path>
              <a:path w="1440" h="7740">
                <a:moveTo>
                  <a:pt x="7813" y="14784"/>
                </a:moveTo>
                <a:cubicBezTo>
                  <a:pt x="8004" y="14823"/>
                  <a:pt x="8194" y="14866"/>
                  <a:pt x="8384" y="14908"/>
                </a:cubicBezTo>
                <a:cubicBezTo>
                  <a:pt x="8502" y="14934"/>
                  <a:pt x="8613" y="14948"/>
                  <a:pt x="8731" y="14957"/>
                </a:cubicBezTo>
              </a:path>
              <a:path w="1440" h="7740">
                <a:moveTo>
                  <a:pt x="8136" y="11733"/>
                </a:moveTo>
                <a:cubicBezTo>
                  <a:pt x="8097" y="11746"/>
                  <a:pt x="8109" y="11771"/>
                  <a:pt x="8086" y="11807"/>
                </a:cubicBezTo>
                <a:cubicBezTo>
                  <a:pt x="8066" y="11839"/>
                  <a:pt x="8055" y="11866"/>
                  <a:pt x="8086" y="11881"/>
                </a:cubicBezTo>
                <a:cubicBezTo>
                  <a:pt x="8111" y="11881"/>
                  <a:pt x="8119" y="11881"/>
                  <a:pt x="8111" y="11906"/>
                </a:cubicBezTo>
                <a:cubicBezTo>
                  <a:pt x="8155" y="11906"/>
                  <a:pt x="8161" y="11900"/>
                  <a:pt x="8186" y="11881"/>
                </a:cubicBezTo>
                <a:cubicBezTo>
                  <a:pt x="8228" y="11850"/>
                  <a:pt x="8263" y="11805"/>
                  <a:pt x="8210" y="11757"/>
                </a:cubicBezTo>
                <a:cubicBezTo>
                  <a:pt x="8181" y="11731"/>
                  <a:pt x="8106" y="11771"/>
                  <a:pt x="8086" y="11782"/>
                </a:cubicBezTo>
                <a:cubicBezTo>
                  <a:pt x="8034" y="11810"/>
                  <a:pt x="7984" y="11850"/>
                  <a:pt x="7962" y="11906"/>
                </a:cubicBezTo>
                <a:cubicBezTo>
                  <a:pt x="7962" y="11914"/>
                  <a:pt x="7962" y="11923"/>
                  <a:pt x="7962" y="11931"/>
                </a:cubicBezTo>
                <a:cubicBezTo>
                  <a:pt x="7993" y="11954"/>
                  <a:pt x="8023" y="11977"/>
                  <a:pt x="8062" y="11981"/>
                </a:cubicBezTo>
                <a:cubicBezTo>
                  <a:pt x="8129" y="11989"/>
                  <a:pt x="8138" y="11941"/>
                  <a:pt x="8161" y="11906"/>
                </a:cubicBezTo>
                <a:cubicBezTo>
                  <a:pt x="8186" y="11869"/>
                  <a:pt x="8186" y="11877"/>
                  <a:pt x="8186" y="11832"/>
                </a:cubicBezTo>
                <a:cubicBezTo>
                  <a:pt x="8124" y="11832"/>
                  <a:pt x="8095" y="11826"/>
                  <a:pt x="8037" y="11832"/>
                </a:cubicBezTo>
                <a:cubicBezTo>
                  <a:pt x="7981" y="11838"/>
                  <a:pt x="7932" y="11828"/>
                  <a:pt x="7888" y="11857"/>
                </a:cubicBezTo>
                <a:cubicBezTo>
                  <a:pt x="7851" y="11881"/>
                  <a:pt x="7846" y="11918"/>
                  <a:pt x="7838" y="11956"/>
                </a:cubicBezTo>
              </a:path>
              <a:path w="1440" h="7740">
                <a:moveTo>
                  <a:pt x="8930" y="8855"/>
                </a:moveTo>
                <a:cubicBezTo>
                  <a:pt x="8899" y="8865"/>
                  <a:pt x="8873" y="8882"/>
                  <a:pt x="8855" y="8930"/>
                </a:cubicBezTo>
                <a:cubicBezTo>
                  <a:pt x="8855" y="8938"/>
                  <a:pt x="8855" y="8946"/>
                  <a:pt x="8855" y="8954"/>
                </a:cubicBezTo>
                <a:cubicBezTo>
                  <a:pt x="8895" y="8944"/>
                  <a:pt x="8951" y="8937"/>
                  <a:pt x="8930" y="8880"/>
                </a:cubicBezTo>
                <a:cubicBezTo>
                  <a:pt x="8912" y="8829"/>
                  <a:pt x="8881" y="8806"/>
                  <a:pt x="8830" y="8806"/>
                </a:cubicBezTo>
                <a:cubicBezTo>
                  <a:pt x="8778" y="8885"/>
                  <a:pt x="8793" y="8822"/>
                  <a:pt x="8781" y="8930"/>
                </a:cubicBezTo>
              </a:path>
              <a:path w="1440" h="7740">
                <a:moveTo>
                  <a:pt x="8260" y="11857"/>
                </a:moveTo>
                <a:cubicBezTo>
                  <a:pt x="8233" y="11823"/>
                  <a:pt x="8217" y="11798"/>
                  <a:pt x="8186" y="11782"/>
                </a:cubicBezTo>
              </a:path>
              <a:path w="1440" h="7740">
                <a:moveTo>
                  <a:pt x="8111" y="11733"/>
                </a:moveTo>
                <a:cubicBezTo>
                  <a:pt x="8071" y="11784"/>
                  <a:pt x="8103" y="11819"/>
                  <a:pt x="8086" y="11881"/>
                </a:cubicBezTo>
                <a:cubicBezTo>
                  <a:pt x="8064" y="11962"/>
                  <a:pt x="8028" y="12045"/>
                  <a:pt x="8012" y="12129"/>
                </a:cubicBezTo>
                <a:cubicBezTo>
                  <a:pt x="7994" y="12223"/>
                  <a:pt x="7964" y="12273"/>
                  <a:pt x="7913" y="12353"/>
                </a:cubicBezTo>
                <a:cubicBezTo>
                  <a:pt x="7904" y="12366"/>
                  <a:pt x="7824" y="12508"/>
                  <a:pt x="7813" y="12502"/>
                </a:cubicBezTo>
                <a:cubicBezTo>
                  <a:pt x="7805" y="12485"/>
                  <a:pt x="7797" y="12469"/>
                  <a:pt x="7789" y="12452"/>
                </a:cubicBezTo>
              </a:path>
              <a:path w="1440" h="7740">
                <a:moveTo>
                  <a:pt x="7541" y="12154"/>
                </a:moveTo>
                <a:cubicBezTo>
                  <a:pt x="7498" y="12230"/>
                  <a:pt x="7491" y="12262"/>
                  <a:pt x="7491" y="12353"/>
                </a:cubicBezTo>
                <a:cubicBezTo>
                  <a:pt x="7491" y="12429"/>
                  <a:pt x="7504" y="12518"/>
                  <a:pt x="7541" y="12576"/>
                </a:cubicBezTo>
                <a:cubicBezTo>
                  <a:pt x="7569" y="12619"/>
                  <a:pt x="7593" y="12626"/>
                  <a:pt x="7640" y="12626"/>
                </a:cubicBezTo>
                <a:cubicBezTo>
                  <a:pt x="7695" y="12626"/>
                  <a:pt x="7738" y="12600"/>
                  <a:pt x="7789" y="12576"/>
                </a:cubicBezTo>
                <a:cubicBezTo>
                  <a:pt x="7878" y="12534"/>
                  <a:pt x="7953" y="12477"/>
                  <a:pt x="8037" y="12427"/>
                </a:cubicBezTo>
                <a:cubicBezTo>
                  <a:pt x="8103" y="12387"/>
                  <a:pt x="8141" y="12363"/>
                  <a:pt x="8186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40200" y="3089160"/>
            <a:ext cx="27000" cy="27000"/>
          </a:xfrm>
          <a:custGeom>
            <a:avLst/>
            <a:gdLst/>
            <a:ahLst/>
            <a:rect l="l" t="t" r="r" b="b"/>
            <a:pathLst>
              <a:path w="76" h="76">
                <a:moveTo>
                  <a:pt x="13494" y="8582"/>
                </a:moveTo>
                <a:cubicBezTo>
                  <a:pt x="13485" y="8634"/>
                  <a:pt x="13452" y="8643"/>
                  <a:pt x="13494" y="8657"/>
                </a:cubicBezTo>
                <a:cubicBezTo>
                  <a:pt x="13537" y="8643"/>
                  <a:pt x="13514" y="8562"/>
                  <a:pt x="13494" y="8582"/>
                </a:cubicBezTo>
                <a:cubicBezTo>
                  <a:pt x="13472" y="8626"/>
                  <a:pt x="13469" y="8638"/>
                  <a:pt x="13444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73840" y="544680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6669" y="15131"/>
                </a:moveTo>
                <a:cubicBezTo>
                  <a:pt x="16644" y="15156"/>
                  <a:pt x="16636" y="15164"/>
                  <a:pt x="16619" y="15180"/>
                </a:cubicBezTo>
                <a:cubicBezTo>
                  <a:pt x="16630" y="15212"/>
                  <a:pt x="16646" y="15235"/>
                  <a:pt x="16669" y="15255"/>
                </a:cubicBezTo>
                <a:cubicBezTo>
                  <a:pt x="16691" y="15277"/>
                  <a:pt x="16696" y="15286"/>
                  <a:pt x="16718" y="15280"/>
                </a:cubicBezTo>
                <a:cubicBezTo>
                  <a:pt x="16702" y="15231"/>
                  <a:pt x="16682" y="15247"/>
                  <a:pt x="16644" y="15255"/>
                </a:cubicBezTo>
                <a:cubicBezTo>
                  <a:pt x="16601" y="15264"/>
                  <a:pt x="16635" y="15266"/>
                  <a:pt x="16594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State the amplitude and perio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1/3 cos 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n graph the functi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1760" y="3124080"/>
            <a:ext cx="5257800" cy="1274760"/>
            <a:chOff x="761760" y="3124080"/>
            <a:chExt cx="5257800" cy="1274760"/>
          </a:xfrm>
        </p:grpSpPr>
        <p:sp>
          <p:nvSpPr>
            <p:cNvPr id="125" name=""/>
            <p:cNvSpPr/>
            <p:nvPr/>
          </p:nvSpPr>
          <p:spPr>
            <a:xfrm>
              <a:off x="2362320" y="312408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61760" y="367020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973240" y="1125360"/>
            <a:ext cx="268560" cy="606600"/>
          </a:xfrm>
          <a:custGeom>
            <a:avLst/>
            <a:gdLst/>
            <a:ahLst/>
            <a:rect l="l" t="t" r="r" b="b"/>
            <a:pathLst>
              <a:path w="745" h="1688">
                <a:moveTo>
                  <a:pt x="8310" y="3225"/>
                </a:moveTo>
                <a:cubicBezTo>
                  <a:pt x="8310" y="3307"/>
                  <a:pt x="8303" y="3395"/>
                  <a:pt x="8285" y="3473"/>
                </a:cubicBezTo>
                <a:cubicBezTo>
                  <a:pt x="8264" y="3568"/>
                  <a:pt x="8260" y="3648"/>
                  <a:pt x="8260" y="3746"/>
                </a:cubicBezTo>
                <a:cubicBezTo>
                  <a:pt x="8260" y="3801"/>
                  <a:pt x="8244" y="3916"/>
                  <a:pt x="8260" y="3894"/>
                </a:cubicBezTo>
                <a:cubicBezTo>
                  <a:pt x="8268" y="3886"/>
                  <a:pt x="8277" y="3878"/>
                  <a:pt x="8285" y="3870"/>
                </a:cubicBezTo>
              </a:path>
              <a:path w="745" h="1688">
                <a:moveTo>
                  <a:pt x="8632" y="3125"/>
                </a:moveTo>
                <a:cubicBezTo>
                  <a:pt x="8600" y="3266"/>
                  <a:pt x="8562" y="3405"/>
                  <a:pt x="8533" y="3547"/>
                </a:cubicBezTo>
                <a:cubicBezTo>
                  <a:pt x="8492" y="3748"/>
                  <a:pt x="8425" y="3904"/>
                  <a:pt x="8409" y="4118"/>
                </a:cubicBezTo>
                <a:cubicBezTo>
                  <a:pt x="8399" y="4246"/>
                  <a:pt x="8404" y="4388"/>
                  <a:pt x="8384" y="4514"/>
                </a:cubicBezTo>
                <a:cubicBezTo>
                  <a:pt x="8369" y="4606"/>
                  <a:pt x="8344" y="4694"/>
                  <a:pt x="8334" y="4787"/>
                </a:cubicBezTo>
                <a:cubicBezTo>
                  <a:pt x="8334" y="4812"/>
                  <a:pt x="8334" y="4820"/>
                  <a:pt x="8334" y="4787"/>
                </a:cubicBezTo>
              </a:path>
              <a:path w="745" h="1688">
                <a:moveTo>
                  <a:pt x="8582" y="4043"/>
                </a:moveTo>
                <a:cubicBezTo>
                  <a:pt x="8643" y="4004"/>
                  <a:pt x="8804" y="3852"/>
                  <a:pt x="8905" y="3894"/>
                </a:cubicBezTo>
                <a:cubicBezTo>
                  <a:pt x="8949" y="3913"/>
                  <a:pt x="8975" y="3942"/>
                  <a:pt x="8979" y="3994"/>
                </a:cubicBezTo>
                <a:cubicBezTo>
                  <a:pt x="8982" y="4038"/>
                  <a:pt x="8939" y="4135"/>
                  <a:pt x="8905" y="4167"/>
                </a:cubicBezTo>
                <a:cubicBezTo>
                  <a:pt x="8874" y="4196"/>
                  <a:pt x="8823" y="4273"/>
                  <a:pt x="8781" y="4291"/>
                </a:cubicBezTo>
                <a:cubicBezTo>
                  <a:pt x="8761" y="4300"/>
                  <a:pt x="8712" y="4316"/>
                  <a:pt x="8756" y="4316"/>
                </a:cubicBezTo>
                <a:cubicBezTo>
                  <a:pt x="8806" y="4316"/>
                  <a:pt x="8815" y="4314"/>
                  <a:pt x="8855" y="4341"/>
                </a:cubicBezTo>
                <a:cubicBezTo>
                  <a:pt x="8946" y="4403"/>
                  <a:pt x="8980" y="4436"/>
                  <a:pt x="9004" y="4539"/>
                </a:cubicBezTo>
                <a:cubicBezTo>
                  <a:pt x="9011" y="4569"/>
                  <a:pt x="8972" y="4640"/>
                  <a:pt x="8954" y="4663"/>
                </a:cubicBezTo>
                <a:cubicBezTo>
                  <a:pt x="8917" y="4710"/>
                  <a:pt x="8881" y="4718"/>
                  <a:pt x="8830" y="4738"/>
                </a:cubicBezTo>
                <a:cubicBezTo>
                  <a:pt x="8761" y="4765"/>
                  <a:pt x="8707" y="4762"/>
                  <a:pt x="8632" y="4762"/>
                </a:cubicBezTo>
                <a:cubicBezTo>
                  <a:pt x="8591" y="4762"/>
                  <a:pt x="8583" y="4762"/>
                  <a:pt x="8558" y="47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5800" y="2867040"/>
            <a:ext cx="438120" cy="463680"/>
          </a:xfrm>
          <a:custGeom>
            <a:avLst/>
            <a:gdLst/>
            <a:ahLst/>
            <a:rect l="l" t="t" r="r" b="b"/>
            <a:pathLst>
              <a:path w="1216" h="1291">
                <a:moveTo>
                  <a:pt x="6300" y="8706"/>
                </a:moveTo>
                <a:cubicBezTo>
                  <a:pt x="6313" y="8744"/>
                  <a:pt x="6330" y="8731"/>
                  <a:pt x="6375" y="8731"/>
                </a:cubicBezTo>
                <a:cubicBezTo>
                  <a:pt x="6592" y="8731"/>
                  <a:pt x="6811" y="8727"/>
                  <a:pt x="7020" y="8706"/>
                </a:cubicBezTo>
                <a:cubicBezTo>
                  <a:pt x="7094" y="8706"/>
                  <a:pt x="7152" y="8706"/>
                  <a:pt x="7094" y="8706"/>
                </a:cubicBezTo>
              </a:path>
              <a:path w="1216" h="1291">
                <a:moveTo>
                  <a:pt x="5904" y="8086"/>
                </a:moveTo>
                <a:cubicBezTo>
                  <a:pt x="5904" y="8243"/>
                  <a:pt x="5904" y="8401"/>
                  <a:pt x="5904" y="8558"/>
                </a:cubicBezTo>
                <a:cubicBezTo>
                  <a:pt x="5913" y="8493"/>
                  <a:pt x="5921" y="8481"/>
                  <a:pt x="5928" y="8409"/>
                </a:cubicBezTo>
              </a:path>
              <a:path w="1216" h="1291">
                <a:moveTo>
                  <a:pt x="6152" y="7962"/>
                </a:moveTo>
                <a:cubicBezTo>
                  <a:pt x="6129" y="8110"/>
                  <a:pt x="6089" y="8218"/>
                  <a:pt x="6052" y="8359"/>
                </a:cubicBezTo>
                <a:cubicBezTo>
                  <a:pt x="6015" y="8501"/>
                  <a:pt x="6022" y="8639"/>
                  <a:pt x="5978" y="8781"/>
                </a:cubicBezTo>
                <a:cubicBezTo>
                  <a:pt x="5954" y="8858"/>
                  <a:pt x="5933" y="8950"/>
                  <a:pt x="5928" y="9029"/>
                </a:cubicBezTo>
                <a:cubicBezTo>
                  <a:pt x="5920" y="9157"/>
                  <a:pt x="5950" y="8975"/>
                  <a:pt x="5953" y="8954"/>
                </a:cubicBezTo>
              </a:path>
              <a:path w="1216" h="1291">
                <a:moveTo>
                  <a:pt x="6201" y="8632"/>
                </a:moveTo>
                <a:cubicBezTo>
                  <a:pt x="6259" y="8632"/>
                  <a:pt x="6279" y="8629"/>
                  <a:pt x="6325" y="8657"/>
                </a:cubicBezTo>
                <a:cubicBezTo>
                  <a:pt x="6288" y="8741"/>
                  <a:pt x="6294" y="8741"/>
                  <a:pt x="6226" y="8781"/>
                </a:cubicBezTo>
                <a:cubicBezTo>
                  <a:pt x="6159" y="8820"/>
                  <a:pt x="6240" y="8901"/>
                  <a:pt x="6276" y="8930"/>
                </a:cubicBezTo>
                <a:cubicBezTo>
                  <a:pt x="6343" y="8985"/>
                  <a:pt x="6373" y="9012"/>
                  <a:pt x="6325" y="9079"/>
                </a:cubicBezTo>
                <a:cubicBezTo>
                  <a:pt x="6287" y="9132"/>
                  <a:pt x="6194" y="9201"/>
                  <a:pt x="6127" y="9227"/>
                </a:cubicBezTo>
                <a:cubicBezTo>
                  <a:pt x="6075" y="9227"/>
                  <a:pt x="6057" y="9228"/>
                  <a:pt x="6028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47880" y="4071960"/>
            <a:ext cx="652320" cy="401760"/>
          </a:xfrm>
          <a:custGeom>
            <a:avLst/>
            <a:gdLst/>
            <a:ahLst/>
            <a:rect l="l" t="t" r="r" b="b"/>
            <a:pathLst>
              <a:path w="1811" h="1117">
                <a:moveTo>
                  <a:pt x="6350" y="11658"/>
                </a:moveTo>
                <a:cubicBezTo>
                  <a:pt x="6472" y="11670"/>
                  <a:pt x="6693" y="11717"/>
                  <a:pt x="6821" y="11708"/>
                </a:cubicBezTo>
                <a:cubicBezTo>
                  <a:pt x="6871" y="11704"/>
                  <a:pt x="6911" y="11685"/>
                  <a:pt x="6945" y="11658"/>
                </a:cubicBezTo>
              </a:path>
              <a:path w="1811" h="1117">
                <a:moveTo>
                  <a:pt x="5135" y="11609"/>
                </a:moveTo>
                <a:cubicBezTo>
                  <a:pt x="5235" y="11633"/>
                  <a:pt x="5306" y="11629"/>
                  <a:pt x="5407" y="11609"/>
                </a:cubicBezTo>
              </a:path>
              <a:path w="1811" h="1117">
                <a:moveTo>
                  <a:pt x="5779" y="11311"/>
                </a:moveTo>
                <a:cubicBezTo>
                  <a:pt x="5773" y="11452"/>
                  <a:pt x="5759" y="11552"/>
                  <a:pt x="5705" y="11683"/>
                </a:cubicBezTo>
                <a:cubicBezTo>
                  <a:pt x="5678" y="11749"/>
                  <a:pt x="5658" y="11774"/>
                  <a:pt x="5680" y="11807"/>
                </a:cubicBezTo>
              </a:path>
              <a:path w="1811" h="1117">
                <a:moveTo>
                  <a:pt x="6028" y="11311"/>
                </a:moveTo>
                <a:cubicBezTo>
                  <a:pt x="6002" y="11494"/>
                  <a:pt x="5964" y="11613"/>
                  <a:pt x="5904" y="11782"/>
                </a:cubicBezTo>
                <a:cubicBezTo>
                  <a:pt x="5877" y="11858"/>
                  <a:pt x="5818" y="11936"/>
                  <a:pt x="5804" y="12005"/>
                </a:cubicBezTo>
                <a:cubicBezTo>
                  <a:pt x="5804" y="12047"/>
                  <a:pt x="5812" y="12063"/>
                  <a:pt x="5779" y="12055"/>
                </a:cubicBezTo>
              </a:path>
              <a:path w="1811" h="1117">
                <a:moveTo>
                  <a:pt x="6077" y="11832"/>
                </a:moveTo>
                <a:cubicBezTo>
                  <a:pt x="6133" y="11847"/>
                  <a:pt x="6219" y="11841"/>
                  <a:pt x="6226" y="11906"/>
                </a:cubicBezTo>
                <a:cubicBezTo>
                  <a:pt x="6232" y="11962"/>
                  <a:pt x="6168" y="11973"/>
                  <a:pt x="6127" y="11981"/>
                </a:cubicBezTo>
                <a:cubicBezTo>
                  <a:pt x="6142" y="12038"/>
                  <a:pt x="6190" y="12055"/>
                  <a:pt x="6226" y="12105"/>
                </a:cubicBezTo>
                <a:cubicBezTo>
                  <a:pt x="6266" y="12161"/>
                  <a:pt x="6302" y="12213"/>
                  <a:pt x="6251" y="12278"/>
                </a:cubicBezTo>
                <a:cubicBezTo>
                  <a:pt x="6170" y="12381"/>
                  <a:pt x="6112" y="12368"/>
                  <a:pt x="6003" y="12402"/>
                </a:cubicBezTo>
                <a:cubicBezTo>
                  <a:pt x="5944" y="12420"/>
                  <a:pt x="5880" y="12422"/>
                  <a:pt x="5829" y="12378"/>
                </a:cubicBezTo>
                <a:cubicBezTo>
                  <a:pt x="5812" y="12361"/>
                  <a:pt x="5796" y="12345"/>
                  <a:pt x="5779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27160" y="3081240"/>
            <a:ext cx="4017960" cy="1436760"/>
          </a:xfrm>
          <a:custGeom>
            <a:avLst/>
            <a:gdLst/>
            <a:ahLst/>
            <a:rect l="l" t="t" r="r" b="b"/>
            <a:pathLst>
              <a:path w="11163" h="3994">
                <a:moveTo>
                  <a:pt x="10616" y="9401"/>
                </a:moveTo>
                <a:cubicBezTo>
                  <a:pt x="10616" y="9520"/>
                  <a:pt x="10629" y="9633"/>
                  <a:pt x="10641" y="9748"/>
                </a:cubicBezTo>
                <a:cubicBezTo>
                  <a:pt x="10650" y="9833"/>
                  <a:pt x="10652" y="9923"/>
                  <a:pt x="10666" y="9996"/>
                </a:cubicBezTo>
                <a:cubicBezTo>
                  <a:pt x="10683" y="10088"/>
                  <a:pt x="10666" y="10199"/>
                  <a:pt x="10666" y="10294"/>
                </a:cubicBezTo>
              </a:path>
              <a:path w="11163" h="3994">
                <a:moveTo>
                  <a:pt x="10393" y="10765"/>
                </a:moveTo>
                <a:cubicBezTo>
                  <a:pt x="10430" y="10729"/>
                  <a:pt x="10498" y="10658"/>
                  <a:pt x="10542" y="10641"/>
                </a:cubicBezTo>
                <a:cubicBezTo>
                  <a:pt x="10640" y="10603"/>
                  <a:pt x="10731" y="10676"/>
                  <a:pt x="10765" y="10765"/>
                </a:cubicBezTo>
                <a:cubicBezTo>
                  <a:pt x="10793" y="10838"/>
                  <a:pt x="10740" y="10924"/>
                  <a:pt x="10716" y="10988"/>
                </a:cubicBezTo>
                <a:cubicBezTo>
                  <a:pt x="10691" y="11054"/>
                  <a:pt x="10659" y="11128"/>
                  <a:pt x="10641" y="11187"/>
                </a:cubicBezTo>
                <a:cubicBezTo>
                  <a:pt x="10641" y="11195"/>
                  <a:pt x="10641" y="11204"/>
                  <a:pt x="10641" y="11212"/>
                </a:cubicBezTo>
                <a:cubicBezTo>
                  <a:pt x="10690" y="11249"/>
                  <a:pt x="10692" y="11240"/>
                  <a:pt x="10740" y="11212"/>
                </a:cubicBezTo>
                <a:cubicBezTo>
                  <a:pt x="10820" y="11166"/>
                  <a:pt x="10888" y="11116"/>
                  <a:pt x="10939" y="11038"/>
                </a:cubicBezTo>
                <a:cubicBezTo>
                  <a:pt x="10947" y="11021"/>
                  <a:pt x="10956" y="11005"/>
                  <a:pt x="10964" y="10988"/>
                </a:cubicBezTo>
              </a:path>
              <a:path w="11163" h="3994">
                <a:moveTo>
                  <a:pt x="10988" y="10740"/>
                </a:moveTo>
                <a:cubicBezTo>
                  <a:pt x="11063" y="10723"/>
                  <a:pt x="11209" y="10689"/>
                  <a:pt x="11261" y="10641"/>
                </a:cubicBezTo>
                <a:cubicBezTo>
                  <a:pt x="11283" y="10598"/>
                  <a:pt x="11287" y="10586"/>
                  <a:pt x="11311" y="10567"/>
                </a:cubicBezTo>
              </a:path>
              <a:path w="11163" h="3994">
                <a:moveTo>
                  <a:pt x="11038" y="10790"/>
                </a:moveTo>
                <a:cubicBezTo>
                  <a:pt x="11038" y="10793"/>
                  <a:pt x="10979" y="11049"/>
                  <a:pt x="11038" y="11088"/>
                </a:cubicBezTo>
                <a:cubicBezTo>
                  <a:pt x="11046" y="11088"/>
                  <a:pt x="11055" y="11088"/>
                  <a:pt x="11063" y="11088"/>
                </a:cubicBezTo>
                <a:cubicBezTo>
                  <a:pt x="11106" y="11074"/>
                  <a:pt x="11115" y="11018"/>
                  <a:pt x="11137" y="10964"/>
                </a:cubicBezTo>
              </a:path>
              <a:path w="11163" h="3994">
                <a:moveTo>
                  <a:pt x="11187" y="10641"/>
                </a:moveTo>
                <a:cubicBezTo>
                  <a:pt x="11205" y="10750"/>
                  <a:pt x="11181" y="10913"/>
                  <a:pt x="11212" y="11013"/>
                </a:cubicBezTo>
                <a:cubicBezTo>
                  <a:pt x="11224" y="11052"/>
                  <a:pt x="11235" y="11101"/>
                  <a:pt x="11261" y="11137"/>
                </a:cubicBezTo>
              </a:path>
              <a:path w="11163" h="3994">
                <a:moveTo>
                  <a:pt x="10592" y="11410"/>
                </a:moveTo>
                <a:cubicBezTo>
                  <a:pt x="10816" y="11394"/>
                  <a:pt x="11021" y="11351"/>
                  <a:pt x="11237" y="11286"/>
                </a:cubicBezTo>
                <a:cubicBezTo>
                  <a:pt x="11296" y="11268"/>
                  <a:pt x="11350" y="11247"/>
                  <a:pt x="11410" y="11237"/>
                </a:cubicBezTo>
              </a:path>
              <a:path w="11163" h="3994">
                <a:moveTo>
                  <a:pt x="10864" y="11609"/>
                </a:moveTo>
                <a:cubicBezTo>
                  <a:pt x="10955" y="11627"/>
                  <a:pt x="11054" y="11621"/>
                  <a:pt x="11137" y="11658"/>
                </a:cubicBezTo>
                <a:cubicBezTo>
                  <a:pt x="11169" y="11672"/>
                  <a:pt x="11259" y="11726"/>
                  <a:pt x="11212" y="11782"/>
                </a:cubicBezTo>
                <a:cubicBezTo>
                  <a:pt x="11178" y="11823"/>
                  <a:pt x="11104" y="11865"/>
                  <a:pt x="11063" y="11906"/>
                </a:cubicBezTo>
                <a:cubicBezTo>
                  <a:pt x="11011" y="11958"/>
                  <a:pt x="11027" y="11898"/>
                  <a:pt x="11013" y="11981"/>
                </a:cubicBezTo>
                <a:cubicBezTo>
                  <a:pt x="11064" y="12021"/>
                  <a:pt x="11122" y="12049"/>
                  <a:pt x="11162" y="12105"/>
                </a:cubicBezTo>
                <a:cubicBezTo>
                  <a:pt x="11205" y="12166"/>
                  <a:pt x="11235" y="12236"/>
                  <a:pt x="11187" y="12303"/>
                </a:cubicBezTo>
                <a:cubicBezTo>
                  <a:pt x="11098" y="12426"/>
                  <a:pt x="10994" y="12448"/>
                  <a:pt x="10864" y="12502"/>
                </a:cubicBezTo>
                <a:cubicBezTo>
                  <a:pt x="10749" y="12550"/>
                  <a:pt x="10711" y="12559"/>
                  <a:pt x="10592" y="12526"/>
                </a:cubicBezTo>
              </a:path>
              <a:path w="11163" h="3994">
                <a:moveTo>
                  <a:pt x="14908" y="9674"/>
                </a:moveTo>
                <a:cubicBezTo>
                  <a:pt x="14899" y="9776"/>
                  <a:pt x="14883" y="9867"/>
                  <a:pt x="14883" y="9971"/>
                </a:cubicBezTo>
                <a:cubicBezTo>
                  <a:pt x="14883" y="10070"/>
                  <a:pt x="14883" y="10170"/>
                  <a:pt x="14883" y="10269"/>
                </a:cubicBezTo>
              </a:path>
              <a:path w="11163" h="3994">
                <a:moveTo>
                  <a:pt x="14635" y="10567"/>
                </a:moveTo>
                <a:cubicBezTo>
                  <a:pt x="14552" y="10665"/>
                  <a:pt x="14511" y="10711"/>
                  <a:pt x="14511" y="10840"/>
                </a:cubicBezTo>
                <a:cubicBezTo>
                  <a:pt x="14511" y="10894"/>
                  <a:pt x="14591" y="10907"/>
                  <a:pt x="14635" y="10914"/>
                </a:cubicBezTo>
                <a:cubicBezTo>
                  <a:pt x="14685" y="10922"/>
                  <a:pt x="14806" y="10903"/>
                  <a:pt x="14858" y="10889"/>
                </a:cubicBezTo>
                <a:cubicBezTo>
                  <a:pt x="14901" y="10867"/>
                  <a:pt x="14913" y="10864"/>
                  <a:pt x="14932" y="10840"/>
                </a:cubicBezTo>
              </a:path>
              <a:path w="11163" h="3994">
                <a:moveTo>
                  <a:pt x="14883" y="10691"/>
                </a:moveTo>
                <a:cubicBezTo>
                  <a:pt x="14883" y="10844"/>
                  <a:pt x="14902" y="10968"/>
                  <a:pt x="14908" y="11112"/>
                </a:cubicBezTo>
                <a:cubicBezTo>
                  <a:pt x="14911" y="11190"/>
                  <a:pt x="14917" y="11199"/>
                  <a:pt x="14932" y="11261"/>
                </a:cubicBezTo>
              </a:path>
              <a:path w="11163" h="3994">
                <a:moveTo>
                  <a:pt x="15106" y="10641"/>
                </a:moveTo>
                <a:cubicBezTo>
                  <a:pt x="15242" y="10641"/>
                  <a:pt x="15330" y="10635"/>
                  <a:pt x="15453" y="10592"/>
                </a:cubicBezTo>
                <a:cubicBezTo>
                  <a:pt x="15461" y="10592"/>
                  <a:pt x="15470" y="10592"/>
                  <a:pt x="15478" y="10592"/>
                </a:cubicBezTo>
              </a:path>
              <a:path w="11163" h="3994">
                <a:moveTo>
                  <a:pt x="15180" y="10815"/>
                </a:moveTo>
                <a:cubicBezTo>
                  <a:pt x="15138" y="10913"/>
                  <a:pt x="15062" y="10996"/>
                  <a:pt x="15131" y="11088"/>
                </a:cubicBezTo>
                <a:cubicBezTo>
                  <a:pt x="15168" y="11079"/>
                  <a:pt x="15192" y="11060"/>
                  <a:pt x="15230" y="11038"/>
                </a:cubicBezTo>
              </a:path>
              <a:path w="11163" h="3994">
                <a:moveTo>
                  <a:pt x="15404" y="10691"/>
                </a:moveTo>
                <a:cubicBezTo>
                  <a:pt x="15388" y="10830"/>
                  <a:pt x="15379" y="10951"/>
                  <a:pt x="15379" y="11088"/>
                </a:cubicBezTo>
                <a:cubicBezTo>
                  <a:pt x="15379" y="11139"/>
                  <a:pt x="15380" y="11158"/>
                  <a:pt x="15404" y="11187"/>
                </a:cubicBezTo>
              </a:path>
              <a:path w="11163" h="3994">
                <a:moveTo>
                  <a:pt x="14808" y="11410"/>
                </a:moveTo>
                <a:cubicBezTo>
                  <a:pt x="14951" y="11410"/>
                  <a:pt x="15090" y="11405"/>
                  <a:pt x="15230" y="11385"/>
                </a:cubicBezTo>
                <a:cubicBezTo>
                  <a:pt x="15393" y="11362"/>
                  <a:pt x="15514" y="11365"/>
                  <a:pt x="15677" y="11385"/>
                </a:cubicBezTo>
                <a:cubicBezTo>
                  <a:pt x="15685" y="11385"/>
                  <a:pt x="15693" y="11385"/>
                  <a:pt x="15701" y="11385"/>
                </a:cubicBezTo>
              </a:path>
              <a:path w="11163" h="3994">
                <a:moveTo>
                  <a:pt x="15354" y="11658"/>
                </a:moveTo>
                <a:cubicBezTo>
                  <a:pt x="15437" y="11686"/>
                  <a:pt x="15517" y="11702"/>
                  <a:pt x="15602" y="11733"/>
                </a:cubicBezTo>
                <a:cubicBezTo>
                  <a:pt x="15684" y="11763"/>
                  <a:pt x="15750" y="11814"/>
                  <a:pt x="15701" y="11906"/>
                </a:cubicBezTo>
                <a:cubicBezTo>
                  <a:pt x="15660" y="11985"/>
                  <a:pt x="15566" y="11993"/>
                  <a:pt x="15503" y="12030"/>
                </a:cubicBezTo>
                <a:cubicBezTo>
                  <a:pt x="15495" y="12038"/>
                  <a:pt x="15486" y="12047"/>
                  <a:pt x="15478" y="12055"/>
                </a:cubicBezTo>
                <a:cubicBezTo>
                  <a:pt x="15489" y="12099"/>
                  <a:pt x="15519" y="12120"/>
                  <a:pt x="15553" y="12154"/>
                </a:cubicBezTo>
                <a:cubicBezTo>
                  <a:pt x="15615" y="12216"/>
                  <a:pt x="15701" y="12262"/>
                  <a:pt x="15652" y="12353"/>
                </a:cubicBezTo>
                <a:cubicBezTo>
                  <a:pt x="15604" y="12442"/>
                  <a:pt x="15550" y="12448"/>
                  <a:pt x="15453" y="12452"/>
                </a:cubicBezTo>
                <a:cubicBezTo>
                  <a:pt x="15363" y="12455"/>
                  <a:pt x="15288" y="12455"/>
                  <a:pt x="15205" y="12427"/>
                </a:cubicBezTo>
              </a:path>
              <a:path w="11163" h="3994">
                <a:moveTo>
                  <a:pt x="6623" y="11633"/>
                </a:moveTo>
                <a:cubicBezTo>
                  <a:pt x="6573" y="11723"/>
                  <a:pt x="6561" y="11730"/>
                  <a:pt x="6623" y="11683"/>
                </a:cubicBezTo>
                <a:cubicBezTo>
                  <a:pt x="6664" y="11628"/>
                  <a:pt x="6640" y="11615"/>
                  <a:pt x="6623" y="11559"/>
                </a:cubicBezTo>
                <a:cubicBezTo>
                  <a:pt x="6623" y="11551"/>
                  <a:pt x="6623" y="11542"/>
                  <a:pt x="6623" y="11534"/>
                </a:cubicBezTo>
                <a:cubicBezTo>
                  <a:pt x="6573" y="11534"/>
                  <a:pt x="6564" y="11545"/>
                  <a:pt x="6524" y="11559"/>
                </a:cubicBezTo>
                <a:cubicBezTo>
                  <a:pt x="6466" y="11579"/>
                  <a:pt x="6474" y="11594"/>
                  <a:pt x="6474" y="11658"/>
                </a:cubicBezTo>
                <a:cubicBezTo>
                  <a:pt x="6474" y="11709"/>
                  <a:pt x="6536" y="11722"/>
                  <a:pt x="6573" y="11733"/>
                </a:cubicBezTo>
                <a:cubicBezTo>
                  <a:pt x="6606" y="11743"/>
                  <a:pt x="6679" y="11744"/>
                  <a:pt x="6697" y="11708"/>
                </a:cubicBezTo>
                <a:cubicBezTo>
                  <a:pt x="6724" y="11653"/>
                  <a:pt x="6714" y="11659"/>
                  <a:pt x="6697" y="11609"/>
                </a:cubicBezTo>
                <a:cubicBezTo>
                  <a:pt x="6682" y="11563"/>
                  <a:pt x="6657" y="11539"/>
                  <a:pt x="6598" y="11559"/>
                </a:cubicBezTo>
                <a:cubicBezTo>
                  <a:pt x="6576" y="11566"/>
                  <a:pt x="6479" y="11589"/>
                  <a:pt x="6499" y="11633"/>
                </a:cubicBezTo>
                <a:cubicBezTo>
                  <a:pt x="6527" y="11661"/>
                  <a:pt x="6540" y="11670"/>
                  <a:pt x="6573" y="11658"/>
                </a:cubicBezTo>
              </a:path>
              <a:path w="11163" h="3994">
                <a:moveTo>
                  <a:pt x="10765" y="11757"/>
                </a:moveTo>
                <a:cubicBezTo>
                  <a:pt x="10749" y="11774"/>
                  <a:pt x="10732" y="11790"/>
                  <a:pt x="10716" y="11807"/>
                </a:cubicBezTo>
                <a:cubicBezTo>
                  <a:pt x="10739" y="11831"/>
                  <a:pt x="10774" y="11880"/>
                  <a:pt x="10815" y="11857"/>
                </a:cubicBezTo>
                <a:cubicBezTo>
                  <a:pt x="10834" y="11846"/>
                  <a:pt x="10886" y="11812"/>
                  <a:pt x="10889" y="11807"/>
                </a:cubicBezTo>
                <a:cubicBezTo>
                  <a:pt x="10889" y="11782"/>
                  <a:pt x="10889" y="11774"/>
                  <a:pt x="10889" y="11757"/>
                </a:cubicBezTo>
                <a:cubicBezTo>
                  <a:pt x="10876" y="11720"/>
                  <a:pt x="10848" y="11735"/>
                  <a:pt x="10815" y="11757"/>
                </a:cubicBezTo>
                <a:cubicBezTo>
                  <a:pt x="10776" y="11783"/>
                  <a:pt x="10796" y="11822"/>
                  <a:pt x="10815" y="11832"/>
                </a:cubicBezTo>
                <a:cubicBezTo>
                  <a:pt x="10840" y="11832"/>
                  <a:pt x="10848" y="11832"/>
                  <a:pt x="10864" y="11832"/>
                </a:cubicBezTo>
                <a:cubicBezTo>
                  <a:pt x="10871" y="11812"/>
                  <a:pt x="10898" y="11781"/>
                  <a:pt x="10864" y="11757"/>
                </a:cubicBezTo>
                <a:cubicBezTo>
                  <a:pt x="10838" y="11739"/>
                  <a:pt x="10800" y="11733"/>
                  <a:pt x="10765" y="11733"/>
                </a:cubicBezTo>
                <a:cubicBezTo>
                  <a:pt x="10757" y="11733"/>
                  <a:pt x="10748" y="11733"/>
                  <a:pt x="10740" y="11733"/>
                </a:cubicBezTo>
              </a:path>
              <a:path w="11163" h="3994">
                <a:moveTo>
                  <a:pt x="8384" y="8632"/>
                </a:moveTo>
                <a:cubicBezTo>
                  <a:pt x="8425" y="8632"/>
                  <a:pt x="8433" y="8632"/>
                  <a:pt x="8458" y="8632"/>
                </a:cubicBezTo>
                <a:cubicBezTo>
                  <a:pt x="8398" y="8539"/>
                  <a:pt x="8419" y="8592"/>
                  <a:pt x="8359" y="8632"/>
                </a:cubicBezTo>
                <a:cubicBezTo>
                  <a:pt x="8337" y="8647"/>
                  <a:pt x="8300" y="8692"/>
                  <a:pt x="8359" y="8706"/>
                </a:cubicBezTo>
                <a:cubicBezTo>
                  <a:pt x="8489" y="8738"/>
                  <a:pt x="8417" y="8673"/>
                  <a:pt x="8458" y="8632"/>
                </a:cubicBezTo>
                <a:cubicBezTo>
                  <a:pt x="8480" y="8611"/>
                  <a:pt x="8483" y="8607"/>
                  <a:pt x="8483" y="8558"/>
                </a:cubicBezTo>
                <a:cubicBezTo>
                  <a:pt x="8428" y="8558"/>
                  <a:pt x="8404" y="8567"/>
                  <a:pt x="8359" y="8582"/>
                </a:cubicBezTo>
                <a:cubicBezTo>
                  <a:pt x="8341" y="8588"/>
                  <a:pt x="8304" y="8638"/>
                  <a:pt x="8310" y="8657"/>
                </a:cubicBezTo>
                <a:cubicBezTo>
                  <a:pt x="8318" y="8673"/>
                  <a:pt x="8326" y="8690"/>
                  <a:pt x="8334" y="8706"/>
                </a:cubicBezTo>
              </a:path>
              <a:path w="11163" h="3994">
                <a:moveTo>
                  <a:pt x="15230" y="12129"/>
                </a:moveTo>
                <a:cubicBezTo>
                  <a:pt x="15189" y="12149"/>
                  <a:pt x="15173" y="12147"/>
                  <a:pt x="15180" y="12179"/>
                </a:cubicBezTo>
                <a:cubicBezTo>
                  <a:pt x="15224" y="12212"/>
                  <a:pt x="15223" y="12203"/>
                  <a:pt x="15255" y="12179"/>
                </a:cubicBezTo>
                <a:cubicBezTo>
                  <a:pt x="15286" y="12156"/>
                  <a:pt x="15296" y="12138"/>
                  <a:pt x="15304" y="12105"/>
                </a:cubicBezTo>
                <a:cubicBezTo>
                  <a:pt x="15255" y="12105"/>
                  <a:pt x="15245" y="12116"/>
                  <a:pt x="15205" y="12129"/>
                </a:cubicBezTo>
                <a:cubicBezTo>
                  <a:pt x="15176" y="12138"/>
                  <a:pt x="15158" y="12180"/>
                  <a:pt x="15205" y="12204"/>
                </a:cubicBezTo>
                <a:cubicBezTo>
                  <a:pt x="15213" y="12204"/>
                  <a:pt x="15222" y="12204"/>
                  <a:pt x="15230" y="12204"/>
                </a:cubicBezTo>
                <a:cubicBezTo>
                  <a:pt x="15230" y="12170"/>
                  <a:pt x="15243" y="12124"/>
                  <a:pt x="15205" y="12105"/>
                </a:cubicBezTo>
                <a:cubicBezTo>
                  <a:pt x="15150" y="12078"/>
                  <a:pt x="15089" y="12042"/>
                  <a:pt x="15032" y="12005"/>
                </a:cubicBezTo>
              </a:path>
              <a:path w="11163" h="3994">
                <a:moveTo>
                  <a:pt x="12898" y="8632"/>
                </a:moveTo>
                <a:cubicBezTo>
                  <a:pt x="12961" y="8632"/>
                  <a:pt x="12967" y="8651"/>
                  <a:pt x="12973" y="8582"/>
                </a:cubicBezTo>
                <a:cubicBezTo>
                  <a:pt x="12973" y="8574"/>
                  <a:pt x="12973" y="8566"/>
                  <a:pt x="12973" y="8558"/>
                </a:cubicBezTo>
                <a:cubicBezTo>
                  <a:pt x="12952" y="8558"/>
                  <a:pt x="12879" y="8567"/>
                  <a:pt x="12874" y="8582"/>
                </a:cubicBezTo>
                <a:cubicBezTo>
                  <a:pt x="12849" y="8653"/>
                  <a:pt x="12907" y="8632"/>
                  <a:pt x="12948" y="8632"/>
                </a:cubicBezTo>
                <a:cubicBezTo>
                  <a:pt x="12936" y="8559"/>
                  <a:pt x="12905" y="8568"/>
                  <a:pt x="12824" y="8558"/>
                </a:cubicBezTo>
              </a:path>
              <a:path w="11163" h="3994">
                <a:moveTo>
                  <a:pt x="5755" y="10889"/>
                </a:moveTo>
                <a:cubicBezTo>
                  <a:pt x="5768" y="10909"/>
                  <a:pt x="5797" y="10926"/>
                  <a:pt x="5804" y="10939"/>
                </a:cubicBezTo>
                <a:cubicBezTo>
                  <a:pt x="5831" y="10987"/>
                  <a:pt x="5842" y="11031"/>
                  <a:pt x="5879" y="11088"/>
                </a:cubicBezTo>
                <a:cubicBezTo>
                  <a:pt x="5906" y="11130"/>
                  <a:pt x="5918" y="11196"/>
                  <a:pt x="5953" y="11237"/>
                </a:cubicBezTo>
                <a:cubicBezTo>
                  <a:pt x="6019" y="11314"/>
                  <a:pt x="6118" y="11401"/>
                  <a:pt x="6201" y="11460"/>
                </a:cubicBezTo>
                <a:cubicBezTo>
                  <a:pt x="6287" y="11521"/>
                  <a:pt x="6341" y="11582"/>
                  <a:pt x="6449" y="11609"/>
                </a:cubicBezTo>
                <a:cubicBezTo>
                  <a:pt x="6576" y="11640"/>
                  <a:pt x="6751" y="11599"/>
                  <a:pt x="6846" y="11534"/>
                </a:cubicBezTo>
                <a:cubicBezTo>
                  <a:pt x="6925" y="11480"/>
                  <a:pt x="6995" y="11364"/>
                  <a:pt x="7045" y="11286"/>
                </a:cubicBezTo>
                <a:cubicBezTo>
                  <a:pt x="7130" y="11153"/>
                  <a:pt x="7151" y="11005"/>
                  <a:pt x="7218" y="10864"/>
                </a:cubicBezTo>
                <a:cubicBezTo>
                  <a:pt x="7275" y="10744"/>
                  <a:pt x="7337" y="10620"/>
                  <a:pt x="7392" y="10492"/>
                </a:cubicBezTo>
                <a:cubicBezTo>
                  <a:pt x="7435" y="10393"/>
                  <a:pt x="7479" y="10294"/>
                  <a:pt x="7516" y="10195"/>
                </a:cubicBezTo>
                <a:cubicBezTo>
                  <a:pt x="7547" y="10111"/>
                  <a:pt x="7552" y="10052"/>
                  <a:pt x="7590" y="9971"/>
                </a:cubicBezTo>
                <a:cubicBezTo>
                  <a:pt x="7625" y="9896"/>
                  <a:pt x="7681" y="9830"/>
                  <a:pt x="7714" y="9748"/>
                </a:cubicBezTo>
                <a:cubicBezTo>
                  <a:pt x="7748" y="9665"/>
                  <a:pt x="7748" y="9605"/>
                  <a:pt x="7789" y="9525"/>
                </a:cubicBezTo>
                <a:cubicBezTo>
                  <a:pt x="7827" y="9451"/>
                  <a:pt x="7874" y="9411"/>
                  <a:pt x="7913" y="9327"/>
                </a:cubicBezTo>
                <a:cubicBezTo>
                  <a:pt x="7936" y="9277"/>
                  <a:pt x="7961" y="9201"/>
                  <a:pt x="7987" y="9153"/>
                </a:cubicBezTo>
                <a:cubicBezTo>
                  <a:pt x="8032" y="9072"/>
                  <a:pt x="8058" y="9028"/>
                  <a:pt x="8111" y="8954"/>
                </a:cubicBezTo>
                <a:cubicBezTo>
                  <a:pt x="8143" y="8910"/>
                  <a:pt x="8160" y="8822"/>
                  <a:pt x="8210" y="8781"/>
                </a:cubicBezTo>
                <a:cubicBezTo>
                  <a:pt x="8219" y="8774"/>
                  <a:pt x="8349" y="8735"/>
                  <a:pt x="8359" y="8731"/>
                </a:cubicBezTo>
                <a:cubicBezTo>
                  <a:pt x="8459" y="8694"/>
                  <a:pt x="8521" y="8709"/>
                  <a:pt x="8607" y="8731"/>
                </a:cubicBezTo>
                <a:cubicBezTo>
                  <a:pt x="8648" y="8741"/>
                  <a:pt x="8721" y="8758"/>
                  <a:pt x="8756" y="8781"/>
                </a:cubicBezTo>
                <a:cubicBezTo>
                  <a:pt x="8782" y="8798"/>
                  <a:pt x="8857" y="8916"/>
                  <a:pt x="8880" y="8954"/>
                </a:cubicBezTo>
                <a:cubicBezTo>
                  <a:pt x="8909" y="9002"/>
                  <a:pt x="8931" y="9093"/>
                  <a:pt x="8954" y="9153"/>
                </a:cubicBezTo>
                <a:cubicBezTo>
                  <a:pt x="8976" y="9209"/>
                  <a:pt x="8985" y="9275"/>
                  <a:pt x="9004" y="9327"/>
                </a:cubicBezTo>
                <a:cubicBezTo>
                  <a:pt x="9028" y="9393"/>
                  <a:pt x="9049" y="9463"/>
                  <a:pt x="9079" y="9525"/>
                </a:cubicBezTo>
                <a:cubicBezTo>
                  <a:pt x="9110" y="9590"/>
                  <a:pt x="9149" y="9630"/>
                  <a:pt x="9178" y="9699"/>
                </a:cubicBezTo>
                <a:cubicBezTo>
                  <a:pt x="9217" y="9792"/>
                  <a:pt x="9256" y="9903"/>
                  <a:pt x="9302" y="9996"/>
                </a:cubicBezTo>
                <a:cubicBezTo>
                  <a:pt x="9336" y="10065"/>
                  <a:pt x="9365" y="10128"/>
                  <a:pt x="9401" y="10195"/>
                </a:cubicBezTo>
                <a:cubicBezTo>
                  <a:pt x="9437" y="10261"/>
                  <a:pt x="9462" y="10299"/>
                  <a:pt x="9500" y="10368"/>
                </a:cubicBezTo>
                <a:cubicBezTo>
                  <a:pt x="9556" y="10469"/>
                  <a:pt x="9592" y="10551"/>
                  <a:pt x="9649" y="10641"/>
                </a:cubicBezTo>
                <a:cubicBezTo>
                  <a:pt x="9695" y="10713"/>
                  <a:pt x="9734" y="10803"/>
                  <a:pt x="9773" y="10864"/>
                </a:cubicBezTo>
                <a:cubicBezTo>
                  <a:pt x="9821" y="10941"/>
                  <a:pt x="9873" y="11011"/>
                  <a:pt x="9922" y="11088"/>
                </a:cubicBezTo>
                <a:cubicBezTo>
                  <a:pt x="9958" y="11145"/>
                  <a:pt x="9982" y="11207"/>
                  <a:pt x="10021" y="11261"/>
                </a:cubicBezTo>
                <a:cubicBezTo>
                  <a:pt x="10078" y="11339"/>
                  <a:pt x="10155" y="11397"/>
                  <a:pt x="10220" y="11460"/>
                </a:cubicBezTo>
                <a:cubicBezTo>
                  <a:pt x="10269" y="11507"/>
                  <a:pt x="10311" y="11540"/>
                  <a:pt x="10368" y="11584"/>
                </a:cubicBezTo>
                <a:cubicBezTo>
                  <a:pt x="10424" y="11627"/>
                  <a:pt x="10480" y="11674"/>
                  <a:pt x="10542" y="11708"/>
                </a:cubicBezTo>
                <a:cubicBezTo>
                  <a:pt x="10583" y="11730"/>
                  <a:pt x="10616" y="11767"/>
                  <a:pt x="10666" y="11782"/>
                </a:cubicBezTo>
                <a:cubicBezTo>
                  <a:pt x="10737" y="11804"/>
                  <a:pt x="10835" y="11821"/>
                  <a:pt x="10914" y="11807"/>
                </a:cubicBezTo>
                <a:cubicBezTo>
                  <a:pt x="11004" y="11792"/>
                  <a:pt x="11038" y="11779"/>
                  <a:pt x="11112" y="11708"/>
                </a:cubicBezTo>
                <a:cubicBezTo>
                  <a:pt x="11149" y="11673"/>
                  <a:pt x="11149" y="11628"/>
                  <a:pt x="11187" y="11584"/>
                </a:cubicBezTo>
                <a:cubicBezTo>
                  <a:pt x="11237" y="11525"/>
                  <a:pt x="11297" y="11428"/>
                  <a:pt x="11336" y="11361"/>
                </a:cubicBezTo>
                <a:cubicBezTo>
                  <a:pt x="11444" y="11175"/>
                  <a:pt x="11518" y="10983"/>
                  <a:pt x="11609" y="10790"/>
                </a:cubicBezTo>
                <a:cubicBezTo>
                  <a:pt x="11646" y="10711"/>
                  <a:pt x="11696" y="10644"/>
                  <a:pt x="11733" y="10567"/>
                </a:cubicBezTo>
                <a:cubicBezTo>
                  <a:pt x="11779" y="10471"/>
                  <a:pt x="11809" y="10365"/>
                  <a:pt x="11857" y="10269"/>
                </a:cubicBezTo>
                <a:cubicBezTo>
                  <a:pt x="11943" y="10098"/>
                  <a:pt x="12060" y="9928"/>
                  <a:pt x="12129" y="9748"/>
                </a:cubicBezTo>
                <a:cubicBezTo>
                  <a:pt x="12162" y="9662"/>
                  <a:pt x="12170" y="9581"/>
                  <a:pt x="12204" y="9500"/>
                </a:cubicBezTo>
                <a:cubicBezTo>
                  <a:pt x="12294" y="9289"/>
                  <a:pt x="12390" y="9102"/>
                  <a:pt x="12526" y="8930"/>
                </a:cubicBezTo>
                <a:cubicBezTo>
                  <a:pt x="12585" y="8855"/>
                  <a:pt x="12683" y="8736"/>
                  <a:pt x="12774" y="8706"/>
                </a:cubicBezTo>
                <a:cubicBezTo>
                  <a:pt x="12923" y="8656"/>
                  <a:pt x="13069" y="8732"/>
                  <a:pt x="13171" y="8781"/>
                </a:cubicBezTo>
                <a:cubicBezTo>
                  <a:pt x="13250" y="8819"/>
                  <a:pt x="13296" y="8864"/>
                  <a:pt x="13370" y="8930"/>
                </a:cubicBezTo>
                <a:cubicBezTo>
                  <a:pt x="13415" y="8971"/>
                  <a:pt x="13432" y="9032"/>
                  <a:pt x="13469" y="9079"/>
                </a:cubicBezTo>
                <a:cubicBezTo>
                  <a:pt x="13523" y="9149"/>
                  <a:pt x="13551" y="9228"/>
                  <a:pt x="13593" y="9302"/>
                </a:cubicBezTo>
                <a:cubicBezTo>
                  <a:pt x="13629" y="9366"/>
                  <a:pt x="13684" y="9437"/>
                  <a:pt x="13717" y="9500"/>
                </a:cubicBezTo>
                <a:cubicBezTo>
                  <a:pt x="13761" y="9584"/>
                  <a:pt x="13796" y="9667"/>
                  <a:pt x="13841" y="9748"/>
                </a:cubicBezTo>
                <a:cubicBezTo>
                  <a:pt x="13885" y="9828"/>
                  <a:pt x="13918" y="9886"/>
                  <a:pt x="13965" y="9971"/>
                </a:cubicBezTo>
                <a:cubicBezTo>
                  <a:pt x="14001" y="10036"/>
                  <a:pt x="14028" y="10076"/>
                  <a:pt x="14064" y="10145"/>
                </a:cubicBezTo>
                <a:cubicBezTo>
                  <a:pt x="14098" y="10210"/>
                  <a:pt x="14136" y="10277"/>
                  <a:pt x="14163" y="10344"/>
                </a:cubicBezTo>
                <a:cubicBezTo>
                  <a:pt x="14191" y="10412"/>
                  <a:pt x="14204" y="10479"/>
                  <a:pt x="14238" y="10567"/>
                </a:cubicBezTo>
                <a:cubicBezTo>
                  <a:pt x="14262" y="10629"/>
                  <a:pt x="14287" y="10700"/>
                  <a:pt x="14312" y="10765"/>
                </a:cubicBezTo>
                <a:cubicBezTo>
                  <a:pt x="14338" y="10832"/>
                  <a:pt x="14362" y="10895"/>
                  <a:pt x="14387" y="10964"/>
                </a:cubicBezTo>
                <a:cubicBezTo>
                  <a:pt x="14414" y="11039"/>
                  <a:pt x="14430" y="11110"/>
                  <a:pt x="14461" y="11187"/>
                </a:cubicBezTo>
                <a:cubicBezTo>
                  <a:pt x="14495" y="11272"/>
                  <a:pt x="14543" y="11358"/>
                  <a:pt x="14585" y="11435"/>
                </a:cubicBezTo>
                <a:cubicBezTo>
                  <a:pt x="14662" y="11576"/>
                  <a:pt x="14742" y="11718"/>
                  <a:pt x="14858" y="11832"/>
                </a:cubicBezTo>
                <a:cubicBezTo>
                  <a:pt x="14905" y="11878"/>
                  <a:pt x="14974" y="11925"/>
                  <a:pt x="15032" y="11956"/>
                </a:cubicBezTo>
                <a:cubicBezTo>
                  <a:pt x="15080" y="11981"/>
                  <a:pt x="15128" y="11986"/>
                  <a:pt x="15180" y="12005"/>
                </a:cubicBezTo>
                <a:cubicBezTo>
                  <a:pt x="15232" y="12023"/>
                  <a:pt x="15276" y="12020"/>
                  <a:pt x="15329" y="12030"/>
                </a:cubicBezTo>
                <a:cubicBezTo>
                  <a:pt x="15410" y="12046"/>
                  <a:pt x="15460" y="12049"/>
                  <a:pt x="15553" y="12055"/>
                </a:cubicBezTo>
                <a:cubicBezTo>
                  <a:pt x="15689" y="12063"/>
                  <a:pt x="15801" y="12046"/>
                  <a:pt x="15925" y="12005"/>
                </a:cubicBezTo>
                <a:cubicBezTo>
                  <a:pt x="16005" y="11979"/>
                  <a:pt x="16052" y="11955"/>
                  <a:pt x="16123" y="11906"/>
                </a:cubicBezTo>
                <a:cubicBezTo>
                  <a:pt x="16178" y="11868"/>
                  <a:pt x="16199" y="11824"/>
                  <a:pt x="16247" y="11782"/>
                </a:cubicBezTo>
                <a:cubicBezTo>
                  <a:pt x="16293" y="11741"/>
                  <a:pt x="16323" y="11699"/>
                  <a:pt x="16371" y="11658"/>
                </a:cubicBezTo>
                <a:cubicBezTo>
                  <a:pt x="16410" y="11624"/>
                  <a:pt x="16406" y="11618"/>
                  <a:pt x="16446" y="11584"/>
                </a:cubicBezTo>
                <a:cubicBezTo>
                  <a:pt x="16454" y="11584"/>
                  <a:pt x="16462" y="11584"/>
                  <a:pt x="16470" y="11584"/>
                </a:cubicBezTo>
                <a:cubicBezTo>
                  <a:pt x="16428" y="11575"/>
                  <a:pt x="16414" y="11540"/>
                  <a:pt x="16371" y="11534"/>
                </a:cubicBezTo>
                <a:cubicBezTo>
                  <a:pt x="16288" y="11521"/>
                  <a:pt x="16206" y="11517"/>
                  <a:pt x="16123" y="11509"/>
                </a:cubicBezTo>
                <a:cubicBezTo>
                  <a:pt x="16079" y="11505"/>
                  <a:pt x="16068" y="11514"/>
                  <a:pt x="16024" y="11509"/>
                </a:cubicBezTo>
                <a:cubicBezTo>
                  <a:pt x="16142" y="11496"/>
                  <a:pt x="16255" y="11505"/>
                  <a:pt x="16371" y="11485"/>
                </a:cubicBezTo>
                <a:cubicBezTo>
                  <a:pt x="16390" y="11482"/>
                  <a:pt x="16419" y="11464"/>
                  <a:pt x="16446" y="11460"/>
                </a:cubicBezTo>
                <a:cubicBezTo>
                  <a:pt x="16478" y="11521"/>
                  <a:pt x="16509" y="11594"/>
                  <a:pt x="16545" y="11658"/>
                </a:cubicBezTo>
                <a:cubicBezTo>
                  <a:pt x="16620" y="11790"/>
                  <a:pt x="16702" y="11887"/>
                  <a:pt x="16793" y="12005"/>
                </a:cubicBezTo>
              </a:path>
              <a:path w="11163" h="3994">
                <a:moveTo>
                  <a:pt x="5631" y="11063"/>
                </a:moveTo>
                <a:cubicBezTo>
                  <a:pt x="5644" y="11010"/>
                  <a:pt x="5655" y="10977"/>
                  <a:pt x="5655" y="10914"/>
                </a:cubicBezTo>
                <a:cubicBezTo>
                  <a:pt x="5655" y="10850"/>
                  <a:pt x="5631" y="10805"/>
                  <a:pt x="5631" y="10740"/>
                </a:cubicBezTo>
                <a:cubicBezTo>
                  <a:pt x="5631" y="10693"/>
                  <a:pt x="5635" y="10690"/>
                  <a:pt x="5655" y="10641"/>
                </a:cubicBezTo>
                <a:cubicBezTo>
                  <a:pt x="5711" y="10669"/>
                  <a:pt x="5741" y="10710"/>
                  <a:pt x="5829" y="10716"/>
                </a:cubicBezTo>
                <a:cubicBezTo>
                  <a:pt x="5969" y="10725"/>
                  <a:pt x="6046" y="10725"/>
                  <a:pt x="6176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46760" y="1160640"/>
            <a:ext cx="393480" cy="760320"/>
          </a:xfrm>
          <a:custGeom>
            <a:avLst/>
            <a:gdLst/>
            <a:ahLst/>
            <a:rect l="l" t="t" r="r" b="b"/>
            <a:pathLst>
              <a:path w="1092" h="2109">
                <a:moveTo>
                  <a:pt x="13742" y="3349"/>
                </a:moveTo>
                <a:cubicBezTo>
                  <a:pt x="13785" y="3305"/>
                  <a:pt x="13828" y="3239"/>
                  <a:pt x="13891" y="3225"/>
                </a:cubicBezTo>
                <a:cubicBezTo>
                  <a:pt x="13946" y="3213"/>
                  <a:pt x="14040" y="3216"/>
                  <a:pt x="14089" y="3249"/>
                </a:cubicBezTo>
                <a:cubicBezTo>
                  <a:pt x="14166" y="3300"/>
                  <a:pt x="14135" y="3379"/>
                  <a:pt x="14114" y="3448"/>
                </a:cubicBezTo>
                <a:cubicBezTo>
                  <a:pt x="14074" y="3575"/>
                  <a:pt x="13962" y="3681"/>
                  <a:pt x="13915" y="3795"/>
                </a:cubicBezTo>
                <a:cubicBezTo>
                  <a:pt x="13897" y="3839"/>
                  <a:pt x="13890" y="3907"/>
                  <a:pt x="13915" y="3944"/>
                </a:cubicBezTo>
                <a:cubicBezTo>
                  <a:pt x="13960" y="4013"/>
                  <a:pt x="14038" y="3939"/>
                  <a:pt x="14089" y="3919"/>
                </a:cubicBezTo>
                <a:cubicBezTo>
                  <a:pt x="14160" y="3895"/>
                  <a:pt x="14183" y="3888"/>
                  <a:pt x="14213" y="3845"/>
                </a:cubicBezTo>
              </a:path>
              <a:path w="1092" h="2109">
                <a:moveTo>
                  <a:pt x="14436" y="3373"/>
                </a:moveTo>
                <a:cubicBezTo>
                  <a:pt x="14482" y="3359"/>
                  <a:pt x="14684" y="3330"/>
                  <a:pt x="14734" y="3299"/>
                </a:cubicBezTo>
                <a:cubicBezTo>
                  <a:pt x="14751" y="3282"/>
                  <a:pt x="14767" y="3266"/>
                  <a:pt x="14784" y="3249"/>
                </a:cubicBezTo>
              </a:path>
              <a:path w="1092" h="2109">
                <a:moveTo>
                  <a:pt x="14461" y="3423"/>
                </a:moveTo>
                <a:cubicBezTo>
                  <a:pt x="14442" y="3500"/>
                  <a:pt x="14376" y="3674"/>
                  <a:pt x="14412" y="3770"/>
                </a:cubicBezTo>
                <a:cubicBezTo>
                  <a:pt x="14423" y="3801"/>
                  <a:pt x="14469" y="3839"/>
                  <a:pt x="14486" y="3845"/>
                </a:cubicBezTo>
              </a:path>
              <a:path w="1092" h="2109">
                <a:moveTo>
                  <a:pt x="14709" y="3373"/>
                </a:moveTo>
                <a:cubicBezTo>
                  <a:pt x="14689" y="3494"/>
                  <a:pt x="14684" y="3599"/>
                  <a:pt x="14684" y="3721"/>
                </a:cubicBezTo>
                <a:cubicBezTo>
                  <a:pt x="14684" y="3769"/>
                  <a:pt x="14685" y="3830"/>
                  <a:pt x="14709" y="3870"/>
                </a:cubicBezTo>
                <a:cubicBezTo>
                  <a:pt x="14732" y="3892"/>
                  <a:pt x="14740" y="3897"/>
                  <a:pt x="14734" y="3919"/>
                </a:cubicBezTo>
              </a:path>
              <a:path w="1092" h="2109">
                <a:moveTo>
                  <a:pt x="13767" y="4341"/>
                </a:moveTo>
                <a:cubicBezTo>
                  <a:pt x="13973" y="4296"/>
                  <a:pt x="14158" y="4240"/>
                  <a:pt x="14362" y="4192"/>
                </a:cubicBezTo>
                <a:cubicBezTo>
                  <a:pt x="14486" y="4163"/>
                  <a:pt x="14610" y="4134"/>
                  <a:pt x="14734" y="4118"/>
                </a:cubicBezTo>
                <a:cubicBezTo>
                  <a:pt x="14765" y="4114"/>
                  <a:pt x="14801" y="4118"/>
                  <a:pt x="14833" y="4118"/>
                </a:cubicBezTo>
              </a:path>
              <a:path w="1092" h="2109">
                <a:moveTo>
                  <a:pt x="14263" y="4514"/>
                </a:moveTo>
                <a:cubicBezTo>
                  <a:pt x="14317" y="4530"/>
                  <a:pt x="14391" y="4527"/>
                  <a:pt x="14461" y="4514"/>
                </a:cubicBezTo>
                <a:cubicBezTo>
                  <a:pt x="14549" y="4498"/>
                  <a:pt x="14618" y="4490"/>
                  <a:pt x="14709" y="4490"/>
                </a:cubicBezTo>
                <a:cubicBezTo>
                  <a:pt x="14709" y="4572"/>
                  <a:pt x="14718" y="4576"/>
                  <a:pt x="14660" y="4638"/>
                </a:cubicBezTo>
                <a:cubicBezTo>
                  <a:pt x="14583" y="4720"/>
                  <a:pt x="14487" y="4787"/>
                  <a:pt x="14387" y="4837"/>
                </a:cubicBezTo>
                <a:cubicBezTo>
                  <a:pt x="14362" y="4837"/>
                  <a:pt x="14354" y="4837"/>
                  <a:pt x="14362" y="4862"/>
                </a:cubicBezTo>
                <a:cubicBezTo>
                  <a:pt x="14435" y="4862"/>
                  <a:pt x="14499" y="4857"/>
                  <a:pt x="14560" y="4887"/>
                </a:cubicBezTo>
                <a:cubicBezTo>
                  <a:pt x="14640" y="4927"/>
                  <a:pt x="14644" y="4943"/>
                  <a:pt x="14635" y="5011"/>
                </a:cubicBezTo>
                <a:cubicBezTo>
                  <a:pt x="14623" y="5097"/>
                  <a:pt x="14589" y="5137"/>
                  <a:pt x="14511" y="5184"/>
                </a:cubicBezTo>
                <a:cubicBezTo>
                  <a:pt x="14400" y="5252"/>
                  <a:pt x="14282" y="5265"/>
                  <a:pt x="14163" y="5308"/>
                </a:cubicBezTo>
                <a:cubicBezTo>
                  <a:pt x="14100" y="5331"/>
                  <a:pt x="14058" y="5333"/>
                  <a:pt x="13990" y="5333"/>
                </a:cubicBezTo>
                <a:cubicBezTo>
                  <a:pt x="13954" y="5333"/>
                  <a:pt x="13979" y="5341"/>
                  <a:pt x="13990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51920" y="1490760"/>
            <a:ext cx="579240" cy="215640"/>
          </a:xfrm>
          <a:custGeom>
            <a:avLst/>
            <a:gdLst/>
            <a:ahLst/>
            <a:rect l="l" t="t" r="r" b="b"/>
            <a:pathLst>
              <a:path w="1613" h="597">
                <a:moveTo>
                  <a:pt x="22944" y="4291"/>
                </a:moveTo>
                <a:cubicBezTo>
                  <a:pt x="22972" y="4390"/>
                  <a:pt x="22997" y="4492"/>
                  <a:pt x="23019" y="4589"/>
                </a:cubicBezTo>
                <a:cubicBezTo>
                  <a:pt x="23029" y="4632"/>
                  <a:pt x="22992" y="4659"/>
                  <a:pt x="22969" y="4688"/>
                </a:cubicBezTo>
                <a:cubicBezTo>
                  <a:pt x="22959" y="4659"/>
                  <a:pt x="22928" y="4631"/>
                  <a:pt x="22920" y="4589"/>
                </a:cubicBezTo>
                <a:cubicBezTo>
                  <a:pt x="22903" y="4499"/>
                  <a:pt x="22933" y="4398"/>
                  <a:pt x="22969" y="4316"/>
                </a:cubicBezTo>
                <a:cubicBezTo>
                  <a:pt x="23005" y="4234"/>
                  <a:pt x="23054" y="4125"/>
                  <a:pt x="23143" y="4167"/>
                </a:cubicBezTo>
                <a:cubicBezTo>
                  <a:pt x="23230" y="4208"/>
                  <a:pt x="23238" y="4304"/>
                  <a:pt x="23267" y="4390"/>
                </a:cubicBezTo>
                <a:cubicBezTo>
                  <a:pt x="23290" y="4458"/>
                  <a:pt x="23288" y="4553"/>
                  <a:pt x="23316" y="4614"/>
                </a:cubicBezTo>
                <a:cubicBezTo>
                  <a:pt x="23340" y="4666"/>
                  <a:pt x="23347" y="4671"/>
                  <a:pt x="23391" y="4638"/>
                </a:cubicBezTo>
              </a:path>
              <a:path w="1613" h="597">
                <a:moveTo>
                  <a:pt x="23564" y="4266"/>
                </a:moveTo>
                <a:cubicBezTo>
                  <a:pt x="23542" y="4322"/>
                  <a:pt x="23455" y="4496"/>
                  <a:pt x="23465" y="4564"/>
                </a:cubicBezTo>
                <a:cubicBezTo>
                  <a:pt x="23472" y="4608"/>
                  <a:pt x="23503" y="4614"/>
                  <a:pt x="23540" y="4614"/>
                </a:cubicBezTo>
                <a:cubicBezTo>
                  <a:pt x="23610" y="4614"/>
                  <a:pt x="23635" y="4568"/>
                  <a:pt x="23664" y="4514"/>
                </a:cubicBezTo>
                <a:cubicBezTo>
                  <a:pt x="23713" y="4420"/>
                  <a:pt x="23709" y="4390"/>
                  <a:pt x="23688" y="4291"/>
                </a:cubicBezTo>
                <a:cubicBezTo>
                  <a:pt x="23680" y="4254"/>
                  <a:pt x="23607" y="4207"/>
                  <a:pt x="23564" y="4192"/>
                </a:cubicBezTo>
                <a:cubicBezTo>
                  <a:pt x="23531" y="4192"/>
                  <a:pt x="23523" y="4183"/>
                  <a:pt x="23540" y="4142"/>
                </a:cubicBezTo>
              </a:path>
              <a:path w="1613" h="597">
                <a:moveTo>
                  <a:pt x="23837" y="4291"/>
                </a:moveTo>
                <a:cubicBezTo>
                  <a:pt x="23857" y="4385"/>
                  <a:pt x="23887" y="4452"/>
                  <a:pt x="23887" y="4539"/>
                </a:cubicBezTo>
                <a:cubicBezTo>
                  <a:pt x="23887" y="4601"/>
                  <a:pt x="23908" y="4422"/>
                  <a:pt x="23912" y="4390"/>
                </a:cubicBezTo>
                <a:cubicBezTo>
                  <a:pt x="23924" y="4295"/>
                  <a:pt x="23924" y="4243"/>
                  <a:pt x="24011" y="4192"/>
                </a:cubicBezTo>
                <a:cubicBezTo>
                  <a:pt x="24092" y="4144"/>
                  <a:pt x="24117" y="4171"/>
                  <a:pt x="24160" y="4242"/>
                </a:cubicBezTo>
                <a:cubicBezTo>
                  <a:pt x="24192" y="4295"/>
                  <a:pt x="24203" y="4380"/>
                  <a:pt x="24209" y="4440"/>
                </a:cubicBezTo>
                <a:cubicBezTo>
                  <a:pt x="24214" y="4492"/>
                  <a:pt x="24238" y="4490"/>
                  <a:pt x="24284" y="4490"/>
                </a:cubicBezTo>
                <a:cubicBezTo>
                  <a:pt x="24358" y="4490"/>
                  <a:pt x="24375" y="4452"/>
                  <a:pt x="24408" y="4390"/>
                </a:cubicBezTo>
                <a:cubicBezTo>
                  <a:pt x="24438" y="4333"/>
                  <a:pt x="24437" y="4277"/>
                  <a:pt x="24457" y="4217"/>
                </a:cubicBezTo>
              </a:path>
              <a:path w="1613" h="597">
                <a:moveTo>
                  <a:pt x="24383" y="4142"/>
                </a:moveTo>
                <a:cubicBezTo>
                  <a:pt x="24284" y="4183"/>
                  <a:pt x="24186" y="4199"/>
                  <a:pt x="24160" y="4316"/>
                </a:cubicBezTo>
                <a:cubicBezTo>
                  <a:pt x="24149" y="4367"/>
                  <a:pt x="24207" y="4499"/>
                  <a:pt x="24234" y="4539"/>
                </a:cubicBezTo>
                <a:cubicBezTo>
                  <a:pt x="24266" y="4587"/>
                  <a:pt x="24360" y="4656"/>
                  <a:pt x="24408" y="4688"/>
                </a:cubicBezTo>
                <a:cubicBezTo>
                  <a:pt x="24437" y="4707"/>
                  <a:pt x="24555" y="4785"/>
                  <a:pt x="24507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Determine whether the equation for the graph shown has the fo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). Then fi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3810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446720" y="5224320"/>
            <a:ext cx="876240" cy="374760"/>
          </a:xfrm>
          <a:custGeom>
            <a:avLst/>
            <a:gdLst/>
            <a:ahLst/>
            <a:rect l="l" t="t" r="r" b="b"/>
            <a:pathLst>
              <a:path w="2432" h="1043">
                <a:moveTo>
                  <a:pt x="12353" y="14660"/>
                </a:moveTo>
                <a:cubicBezTo>
                  <a:pt x="12511" y="14618"/>
                  <a:pt x="12630" y="14635"/>
                  <a:pt x="12799" y="14635"/>
                </a:cubicBezTo>
                <a:cubicBezTo>
                  <a:pt x="12911" y="14635"/>
                  <a:pt x="13034" y="14686"/>
                  <a:pt x="13146" y="14660"/>
                </a:cubicBezTo>
                <a:cubicBezTo>
                  <a:pt x="13163" y="14652"/>
                  <a:pt x="13179" y="14643"/>
                  <a:pt x="13196" y="14635"/>
                </a:cubicBezTo>
              </a:path>
              <a:path w="2432" h="1043">
                <a:moveTo>
                  <a:pt x="12923" y="14511"/>
                </a:moveTo>
                <a:cubicBezTo>
                  <a:pt x="12882" y="14600"/>
                  <a:pt x="12819" y="14711"/>
                  <a:pt x="12799" y="14808"/>
                </a:cubicBezTo>
                <a:cubicBezTo>
                  <a:pt x="12786" y="14868"/>
                  <a:pt x="12778" y="14949"/>
                  <a:pt x="12774" y="15007"/>
                </a:cubicBezTo>
                <a:cubicBezTo>
                  <a:pt x="12774" y="15048"/>
                  <a:pt x="12774" y="15056"/>
                  <a:pt x="12774" y="15081"/>
                </a:cubicBezTo>
              </a:path>
              <a:path w="2432" h="1043">
                <a:moveTo>
                  <a:pt x="13022" y="14585"/>
                </a:moveTo>
                <a:cubicBezTo>
                  <a:pt x="13032" y="14731"/>
                  <a:pt x="13069" y="14824"/>
                  <a:pt x="13122" y="14957"/>
                </a:cubicBezTo>
                <a:cubicBezTo>
                  <a:pt x="13164" y="15063"/>
                  <a:pt x="13216" y="15146"/>
                  <a:pt x="13295" y="15230"/>
                </a:cubicBezTo>
                <a:cubicBezTo>
                  <a:pt x="13312" y="15247"/>
                  <a:pt x="13328" y="15263"/>
                  <a:pt x="13345" y="15280"/>
                </a:cubicBezTo>
              </a:path>
              <a:path w="2432" h="1043">
                <a:moveTo>
                  <a:pt x="13717" y="14908"/>
                </a:moveTo>
                <a:cubicBezTo>
                  <a:pt x="13802" y="14917"/>
                  <a:pt x="13878" y="14932"/>
                  <a:pt x="13965" y="14932"/>
                </a:cubicBezTo>
                <a:cubicBezTo>
                  <a:pt x="14043" y="14932"/>
                  <a:pt x="14057" y="14908"/>
                  <a:pt x="14114" y="14858"/>
                </a:cubicBezTo>
              </a:path>
              <a:path w="2432" h="1043">
                <a:moveTo>
                  <a:pt x="14288" y="14660"/>
                </a:moveTo>
                <a:cubicBezTo>
                  <a:pt x="14272" y="14749"/>
                  <a:pt x="14274" y="14776"/>
                  <a:pt x="14312" y="14858"/>
                </a:cubicBezTo>
                <a:cubicBezTo>
                  <a:pt x="14345" y="14930"/>
                  <a:pt x="14376" y="14988"/>
                  <a:pt x="14461" y="15007"/>
                </a:cubicBezTo>
                <a:cubicBezTo>
                  <a:pt x="14478" y="15007"/>
                  <a:pt x="14494" y="15007"/>
                  <a:pt x="14511" y="15007"/>
                </a:cubicBezTo>
              </a:path>
              <a:path w="2432" h="1043">
                <a:moveTo>
                  <a:pt x="14734" y="14536"/>
                </a:moveTo>
                <a:cubicBezTo>
                  <a:pt x="14705" y="14753"/>
                  <a:pt x="14689" y="14850"/>
                  <a:pt x="14734" y="15056"/>
                </a:cubicBezTo>
                <a:cubicBezTo>
                  <a:pt x="14771" y="15228"/>
                  <a:pt x="14784" y="15377"/>
                  <a:pt x="14784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83320" y="2009880"/>
            <a:ext cx="27000" cy="160200"/>
          </a:xfrm>
          <a:custGeom>
            <a:avLst/>
            <a:gdLst/>
            <a:ahLst/>
            <a:rect l="l" t="t" r="r" b="b"/>
            <a:pathLst>
              <a:path w="76" h="448">
                <a:moveTo>
                  <a:pt x="20861" y="5953"/>
                </a:moveTo>
                <a:cubicBezTo>
                  <a:pt x="20842" y="5883"/>
                  <a:pt x="20820" y="5799"/>
                  <a:pt x="20811" y="5730"/>
                </a:cubicBezTo>
                <a:cubicBezTo>
                  <a:pt x="20801" y="5657"/>
                  <a:pt x="20821" y="5638"/>
                  <a:pt x="20786" y="5581"/>
                </a:cubicBezTo>
                <a:cubicBezTo>
                  <a:pt x="20786" y="5677"/>
                  <a:pt x="20802" y="5759"/>
                  <a:pt x="20811" y="5854"/>
                </a:cubicBezTo>
                <a:cubicBezTo>
                  <a:pt x="20815" y="5902"/>
                  <a:pt x="20811" y="5954"/>
                  <a:pt x="20811" y="6003"/>
                </a:cubicBezTo>
                <a:cubicBezTo>
                  <a:pt x="20848" y="5954"/>
                  <a:pt x="20836" y="5921"/>
                  <a:pt x="20836" y="5854"/>
                </a:cubicBezTo>
                <a:cubicBezTo>
                  <a:pt x="20836" y="5786"/>
                  <a:pt x="20832" y="5743"/>
                  <a:pt x="20811" y="5680"/>
                </a:cubicBezTo>
                <a:cubicBezTo>
                  <a:pt x="20811" y="5785"/>
                  <a:pt x="20830" y="5876"/>
                  <a:pt x="20836" y="5978"/>
                </a:cubicBezTo>
                <a:cubicBezTo>
                  <a:pt x="20838" y="6014"/>
                  <a:pt x="20842" y="6059"/>
                  <a:pt x="20861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35880" y="4037040"/>
            <a:ext cx="465120" cy="911160"/>
          </a:xfrm>
          <a:custGeom>
            <a:avLst/>
            <a:gdLst/>
            <a:ahLst/>
            <a:rect l="l" t="t" r="r" b="b"/>
            <a:pathLst>
              <a:path w="1291" h="2531">
                <a:moveTo>
                  <a:pt x="21605" y="11311"/>
                </a:moveTo>
                <a:cubicBezTo>
                  <a:pt x="21691" y="11278"/>
                  <a:pt x="21762" y="11300"/>
                  <a:pt x="21853" y="11286"/>
                </a:cubicBezTo>
                <a:cubicBezTo>
                  <a:pt x="21909" y="11277"/>
                  <a:pt x="22047" y="11281"/>
                  <a:pt x="22101" y="11261"/>
                </a:cubicBezTo>
                <a:cubicBezTo>
                  <a:pt x="22131" y="11232"/>
                  <a:pt x="22145" y="11221"/>
                  <a:pt x="22175" y="11212"/>
                </a:cubicBezTo>
              </a:path>
              <a:path w="1291" h="2531">
                <a:moveTo>
                  <a:pt x="21803" y="11261"/>
                </a:moveTo>
                <a:cubicBezTo>
                  <a:pt x="21731" y="11390"/>
                  <a:pt x="21729" y="11439"/>
                  <a:pt x="21729" y="11584"/>
                </a:cubicBezTo>
                <a:cubicBezTo>
                  <a:pt x="21729" y="11691"/>
                  <a:pt x="21729" y="11799"/>
                  <a:pt x="21729" y="11906"/>
                </a:cubicBezTo>
              </a:path>
              <a:path w="1291" h="2531">
                <a:moveTo>
                  <a:pt x="21952" y="11311"/>
                </a:moveTo>
                <a:cubicBezTo>
                  <a:pt x="21924" y="11320"/>
                  <a:pt x="21906" y="11345"/>
                  <a:pt x="21903" y="11385"/>
                </a:cubicBezTo>
                <a:cubicBezTo>
                  <a:pt x="21899" y="11446"/>
                  <a:pt x="21892" y="11512"/>
                  <a:pt x="21927" y="11559"/>
                </a:cubicBezTo>
                <a:cubicBezTo>
                  <a:pt x="22000" y="11657"/>
                  <a:pt x="22042" y="11703"/>
                  <a:pt x="22126" y="11782"/>
                </a:cubicBezTo>
                <a:cubicBezTo>
                  <a:pt x="22168" y="11822"/>
                  <a:pt x="22190" y="11863"/>
                  <a:pt x="22225" y="11906"/>
                </a:cubicBezTo>
              </a:path>
              <a:path w="1291" h="2531">
                <a:moveTo>
                  <a:pt x="20935" y="12129"/>
                </a:moveTo>
                <a:cubicBezTo>
                  <a:pt x="21037" y="12104"/>
                  <a:pt x="21127" y="12105"/>
                  <a:pt x="21233" y="12105"/>
                </a:cubicBezTo>
                <a:cubicBezTo>
                  <a:pt x="21387" y="12105"/>
                  <a:pt x="21525" y="12099"/>
                  <a:pt x="21679" y="12080"/>
                </a:cubicBezTo>
                <a:cubicBezTo>
                  <a:pt x="21849" y="12060"/>
                  <a:pt x="22004" y="12055"/>
                  <a:pt x="22175" y="12055"/>
                </a:cubicBezTo>
              </a:path>
              <a:path w="1291" h="2531">
                <a:moveTo>
                  <a:pt x="21431" y="12526"/>
                </a:moveTo>
                <a:cubicBezTo>
                  <a:pt x="21440" y="12599"/>
                  <a:pt x="21443" y="12676"/>
                  <a:pt x="21456" y="12750"/>
                </a:cubicBezTo>
                <a:cubicBezTo>
                  <a:pt x="21474" y="12856"/>
                  <a:pt x="21494" y="12966"/>
                  <a:pt x="21506" y="13072"/>
                </a:cubicBezTo>
                <a:cubicBezTo>
                  <a:pt x="21517" y="13172"/>
                  <a:pt x="21517" y="13271"/>
                  <a:pt x="21530" y="13370"/>
                </a:cubicBezTo>
                <a:cubicBezTo>
                  <a:pt x="21539" y="13441"/>
                  <a:pt x="21530" y="13521"/>
                  <a:pt x="21530" y="13593"/>
                </a:cubicBezTo>
                <a:cubicBezTo>
                  <a:pt x="21530" y="13552"/>
                  <a:pt x="21519" y="13559"/>
                  <a:pt x="21530" y="13519"/>
                </a:cubicBezTo>
                <a:cubicBezTo>
                  <a:pt x="21549" y="13449"/>
                  <a:pt x="21571" y="13387"/>
                  <a:pt x="21605" y="13320"/>
                </a:cubicBezTo>
                <a:cubicBezTo>
                  <a:pt x="21638" y="13255"/>
                  <a:pt x="21679" y="13199"/>
                  <a:pt x="21729" y="13146"/>
                </a:cubicBezTo>
                <a:cubicBezTo>
                  <a:pt x="21774" y="13099"/>
                  <a:pt x="21823" y="13055"/>
                  <a:pt x="21878" y="13022"/>
                </a:cubicBezTo>
                <a:cubicBezTo>
                  <a:pt x="21911" y="13002"/>
                  <a:pt x="21961" y="12987"/>
                  <a:pt x="22002" y="12998"/>
                </a:cubicBezTo>
                <a:cubicBezTo>
                  <a:pt x="22035" y="13007"/>
                  <a:pt x="22094" y="13093"/>
                  <a:pt x="22101" y="13122"/>
                </a:cubicBezTo>
                <a:cubicBezTo>
                  <a:pt x="22128" y="13235"/>
                  <a:pt x="22123" y="13317"/>
                  <a:pt x="22051" y="13419"/>
                </a:cubicBezTo>
                <a:cubicBezTo>
                  <a:pt x="21956" y="13554"/>
                  <a:pt x="21765" y="13625"/>
                  <a:pt x="21630" y="13692"/>
                </a:cubicBezTo>
                <a:cubicBezTo>
                  <a:pt x="21597" y="13709"/>
                  <a:pt x="21563" y="13725"/>
                  <a:pt x="21530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0360" y="4089240"/>
            <a:ext cx="866880" cy="625680"/>
          </a:xfrm>
          <a:custGeom>
            <a:avLst/>
            <a:gdLst/>
            <a:ahLst/>
            <a:rect l="l" t="t" r="r" b="b"/>
            <a:pathLst>
              <a:path w="2407" h="1737">
                <a:moveTo>
                  <a:pt x="19199" y="11757"/>
                </a:moveTo>
                <a:cubicBezTo>
                  <a:pt x="19177" y="11846"/>
                  <a:pt x="19199" y="11950"/>
                  <a:pt x="19199" y="12055"/>
                </a:cubicBezTo>
                <a:cubicBezTo>
                  <a:pt x="19199" y="12165"/>
                  <a:pt x="19224" y="12265"/>
                  <a:pt x="19224" y="12378"/>
                </a:cubicBezTo>
                <a:cubicBezTo>
                  <a:pt x="19224" y="12618"/>
                  <a:pt x="19224" y="12857"/>
                  <a:pt x="19224" y="13097"/>
                </a:cubicBezTo>
                <a:cubicBezTo>
                  <a:pt x="19207" y="13080"/>
                  <a:pt x="19194" y="13049"/>
                  <a:pt x="19174" y="13022"/>
                </a:cubicBezTo>
                <a:cubicBezTo>
                  <a:pt x="19118" y="12948"/>
                  <a:pt x="19120" y="12910"/>
                  <a:pt x="19100" y="12824"/>
                </a:cubicBezTo>
                <a:cubicBezTo>
                  <a:pt x="19076" y="12719"/>
                  <a:pt x="19067" y="12631"/>
                  <a:pt x="19050" y="12526"/>
                </a:cubicBezTo>
                <a:cubicBezTo>
                  <a:pt x="19032" y="12410"/>
                  <a:pt x="19003" y="12296"/>
                  <a:pt x="19000" y="12179"/>
                </a:cubicBezTo>
                <a:cubicBezTo>
                  <a:pt x="18997" y="12050"/>
                  <a:pt x="19012" y="11929"/>
                  <a:pt x="19050" y="11807"/>
                </a:cubicBezTo>
                <a:cubicBezTo>
                  <a:pt x="19081" y="11708"/>
                  <a:pt x="19098" y="11689"/>
                  <a:pt x="19174" y="11633"/>
                </a:cubicBezTo>
                <a:cubicBezTo>
                  <a:pt x="19237" y="11586"/>
                  <a:pt x="19269" y="11584"/>
                  <a:pt x="19348" y="11584"/>
                </a:cubicBezTo>
                <a:cubicBezTo>
                  <a:pt x="19423" y="11584"/>
                  <a:pt x="19461" y="11622"/>
                  <a:pt x="19521" y="11658"/>
                </a:cubicBezTo>
                <a:cubicBezTo>
                  <a:pt x="19580" y="11693"/>
                  <a:pt x="19635" y="11754"/>
                  <a:pt x="19621" y="11832"/>
                </a:cubicBezTo>
                <a:cubicBezTo>
                  <a:pt x="19612" y="11885"/>
                  <a:pt x="19581" y="11960"/>
                  <a:pt x="19546" y="12005"/>
                </a:cubicBezTo>
                <a:cubicBezTo>
                  <a:pt x="19472" y="12099"/>
                  <a:pt x="19362" y="12109"/>
                  <a:pt x="19273" y="12179"/>
                </a:cubicBezTo>
                <a:cubicBezTo>
                  <a:pt x="19212" y="12227"/>
                  <a:pt x="19174" y="12291"/>
                  <a:pt x="19174" y="12229"/>
                </a:cubicBezTo>
              </a:path>
              <a:path w="2407" h="1737">
                <a:moveTo>
                  <a:pt x="19819" y="11956"/>
                </a:moveTo>
                <a:cubicBezTo>
                  <a:pt x="19909" y="11994"/>
                  <a:pt x="19973" y="12018"/>
                  <a:pt x="20067" y="12030"/>
                </a:cubicBezTo>
              </a:path>
              <a:path w="2407" h="1737">
                <a:moveTo>
                  <a:pt x="19918" y="12278"/>
                </a:moveTo>
                <a:cubicBezTo>
                  <a:pt x="20012" y="12245"/>
                  <a:pt x="20124" y="12214"/>
                  <a:pt x="20216" y="12179"/>
                </a:cubicBezTo>
                <a:cubicBezTo>
                  <a:pt x="20259" y="12157"/>
                  <a:pt x="20271" y="12153"/>
                  <a:pt x="20290" y="12129"/>
                </a:cubicBezTo>
              </a:path>
              <a:path w="2407" h="1737">
                <a:moveTo>
                  <a:pt x="20563" y="11460"/>
                </a:moveTo>
                <a:cubicBezTo>
                  <a:pt x="20653" y="11385"/>
                  <a:pt x="20672" y="11366"/>
                  <a:pt x="20786" y="11361"/>
                </a:cubicBezTo>
                <a:cubicBezTo>
                  <a:pt x="20853" y="11358"/>
                  <a:pt x="20926" y="11349"/>
                  <a:pt x="20985" y="11385"/>
                </a:cubicBezTo>
                <a:cubicBezTo>
                  <a:pt x="21021" y="11407"/>
                  <a:pt x="21095" y="11496"/>
                  <a:pt x="21109" y="11534"/>
                </a:cubicBezTo>
                <a:cubicBezTo>
                  <a:pt x="21154" y="11653"/>
                  <a:pt x="21125" y="11678"/>
                  <a:pt x="21084" y="11782"/>
                </a:cubicBezTo>
                <a:cubicBezTo>
                  <a:pt x="21049" y="11872"/>
                  <a:pt x="21003" y="11913"/>
                  <a:pt x="20935" y="11981"/>
                </a:cubicBezTo>
                <a:cubicBezTo>
                  <a:pt x="20889" y="12027"/>
                  <a:pt x="20831" y="12113"/>
                  <a:pt x="20762" y="12129"/>
                </a:cubicBezTo>
                <a:cubicBezTo>
                  <a:pt x="20695" y="12144"/>
                  <a:pt x="20674" y="12144"/>
                  <a:pt x="20638" y="12129"/>
                </a:cubicBezTo>
                <a:cubicBezTo>
                  <a:pt x="20630" y="12129"/>
                  <a:pt x="20621" y="12129"/>
                  <a:pt x="20613" y="12129"/>
                </a:cubicBezTo>
                <a:cubicBezTo>
                  <a:pt x="20619" y="12086"/>
                  <a:pt x="20624" y="12037"/>
                  <a:pt x="20662" y="12005"/>
                </a:cubicBezTo>
                <a:cubicBezTo>
                  <a:pt x="20717" y="11958"/>
                  <a:pt x="20762" y="11910"/>
                  <a:pt x="20836" y="11881"/>
                </a:cubicBezTo>
                <a:cubicBezTo>
                  <a:pt x="20939" y="11841"/>
                  <a:pt x="21050" y="11857"/>
                  <a:pt x="21158" y="11857"/>
                </a:cubicBezTo>
                <a:cubicBezTo>
                  <a:pt x="21248" y="11857"/>
                  <a:pt x="21323" y="11860"/>
                  <a:pt x="21406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3120" y="4973760"/>
            <a:ext cx="1463760" cy="866520"/>
          </a:xfrm>
          <a:custGeom>
            <a:avLst/>
            <a:gdLst/>
            <a:ahLst/>
            <a:rect l="l" t="t" r="r" b="b"/>
            <a:pathLst>
              <a:path w="4069" h="2407">
                <a:moveTo>
                  <a:pt x="17239" y="13891"/>
                </a:moveTo>
                <a:cubicBezTo>
                  <a:pt x="17279" y="13844"/>
                  <a:pt x="17301" y="13826"/>
                  <a:pt x="17388" y="13816"/>
                </a:cubicBezTo>
                <a:cubicBezTo>
                  <a:pt x="17504" y="13802"/>
                  <a:pt x="17564" y="13822"/>
                  <a:pt x="17636" y="13915"/>
                </a:cubicBezTo>
                <a:cubicBezTo>
                  <a:pt x="17741" y="14049"/>
                  <a:pt x="17672" y="14193"/>
                  <a:pt x="17636" y="14337"/>
                </a:cubicBezTo>
                <a:cubicBezTo>
                  <a:pt x="17590" y="14523"/>
                  <a:pt x="17481" y="14652"/>
                  <a:pt x="17314" y="14759"/>
                </a:cubicBezTo>
                <a:cubicBezTo>
                  <a:pt x="17257" y="14796"/>
                  <a:pt x="17165" y="14799"/>
                  <a:pt x="17115" y="14759"/>
                </a:cubicBezTo>
                <a:cubicBezTo>
                  <a:pt x="17074" y="14726"/>
                  <a:pt x="17081" y="14607"/>
                  <a:pt x="17090" y="14560"/>
                </a:cubicBezTo>
                <a:cubicBezTo>
                  <a:pt x="17101" y="14503"/>
                  <a:pt x="17148" y="14412"/>
                  <a:pt x="17214" y="14412"/>
                </a:cubicBezTo>
                <a:cubicBezTo>
                  <a:pt x="17295" y="14412"/>
                  <a:pt x="17464" y="14563"/>
                  <a:pt x="17512" y="14585"/>
                </a:cubicBezTo>
                <a:cubicBezTo>
                  <a:pt x="17639" y="14642"/>
                  <a:pt x="17754" y="14636"/>
                  <a:pt x="17884" y="14610"/>
                </a:cubicBezTo>
              </a:path>
              <a:path w="4069" h="2407">
                <a:moveTo>
                  <a:pt x="17983" y="13965"/>
                </a:moveTo>
                <a:cubicBezTo>
                  <a:pt x="18180" y="13946"/>
                  <a:pt x="18316" y="13954"/>
                  <a:pt x="18504" y="13965"/>
                </a:cubicBezTo>
              </a:path>
              <a:path w="4069" h="2407">
                <a:moveTo>
                  <a:pt x="18157" y="14089"/>
                </a:moveTo>
                <a:cubicBezTo>
                  <a:pt x="18066" y="14286"/>
                  <a:pt x="18020" y="14362"/>
                  <a:pt x="18033" y="14560"/>
                </a:cubicBezTo>
                <a:cubicBezTo>
                  <a:pt x="18039" y="14653"/>
                  <a:pt x="18047" y="14685"/>
                  <a:pt x="18132" y="14709"/>
                </a:cubicBezTo>
              </a:path>
              <a:path w="4069" h="2407">
                <a:moveTo>
                  <a:pt x="18405" y="13965"/>
                </a:moveTo>
                <a:cubicBezTo>
                  <a:pt x="18390" y="14116"/>
                  <a:pt x="18349" y="14329"/>
                  <a:pt x="18380" y="14486"/>
                </a:cubicBezTo>
                <a:cubicBezTo>
                  <a:pt x="18397" y="14544"/>
                  <a:pt x="18413" y="14602"/>
                  <a:pt x="18430" y="14660"/>
                </a:cubicBezTo>
              </a:path>
              <a:path w="4069" h="2407">
                <a:moveTo>
                  <a:pt x="18827" y="14486"/>
                </a:moveTo>
                <a:cubicBezTo>
                  <a:pt x="18944" y="14506"/>
                  <a:pt x="19120" y="14561"/>
                  <a:pt x="19224" y="14536"/>
                </a:cubicBezTo>
              </a:path>
              <a:path w="4069" h="2407">
                <a:moveTo>
                  <a:pt x="18827" y="14734"/>
                </a:moveTo>
                <a:cubicBezTo>
                  <a:pt x="18924" y="14745"/>
                  <a:pt x="19027" y="14766"/>
                  <a:pt x="19124" y="14734"/>
                </a:cubicBezTo>
                <a:cubicBezTo>
                  <a:pt x="19217" y="14687"/>
                  <a:pt x="19244" y="14675"/>
                  <a:pt x="19298" y="14635"/>
                </a:cubicBezTo>
              </a:path>
              <a:path w="4069" h="2407">
                <a:moveTo>
                  <a:pt x="19596" y="14089"/>
                </a:moveTo>
                <a:cubicBezTo>
                  <a:pt x="19764" y="13977"/>
                  <a:pt x="19831" y="13942"/>
                  <a:pt x="20017" y="14089"/>
                </a:cubicBezTo>
                <a:cubicBezTo>
                  <a:pt x="20111" y="14163"/>
                  <a:pt x="20113" y="14338"/>
                  <a:pt x="20067" y="14436"/>
                </a:cubicBezTo>
                <a:cubicBezTo>
                  <a:pt x="20004" y="14572"/>
                  <a:pt x="19923" y="14604"/>
                  <a:pt x="19794" y="14660"/>
                </a:cubicBezTo>
                <a:cubicBezTo>
                  <a:pt x="19743" y="14682"/>
                  <a:pt x="19723" y="14684"/>
                  <a:pt x="19670" y="14684"/>
                </a:cubicBezTo>
                <a:cubicBezTo>
                  <a:pt x="19657" y="14634"/>
                  <a:pt x="19628" y="14632"/>
                  <a:pt x="19670" y="14585"/>
                </a:cubicBezTo>
                <a:cubicBezTo>
                  <a:pt x="19721" y="14528"/>
                  <a:pt x="19824" y="14538"/>
                  <a:pt x="19893" y="14560"/>
                </a:cubicBezTo>
                <a:cubicBezTo>
                  <a:pt x="20051" y="14611"/>
                  <a:pt x="20177" y="14717"/>
                  <a:pt x="20340" y="14684"/>
                </a:cubicBezTo>
              </a:path>
              <a:path w="4069" h="2407">
                <a:moveTo>
                  <a:pt x="20365" y="13965"/>
                </a:moveTo>
                <a:cubicBezTo>
                  <a:pt x="20572" y="13915"/>
                  <a:pt x="20628" y="13974"/>
                  <a:pt x="20811" y="13965"/>
                </a:cubicBezTo>
                <a:cubicBezTo>
                  <a:pt x="20819" y="13957"/>
                  <a:pt x="20828" y="13948"/>
                  <a:pt x="20836" y="13940"/>
                </a:cubicBezTo>
              </a:path>
              <a:path w="4069" h="2407">
                <a:moveTo>
                  <a:pt x="20365" y="14039"/>
                </a:moveTo>
                <a:cubicBezTo>
                  <a:pt x="20312" y="14162"/>
                  <a:pt x="20258" y="14272"/>
                  <a:pt x="20290" y="14412"/>
                </a:cubicBezTo>
                <a:cubicBezTo>
                  <a:pt x="20300" y="14455"/>
                  <a:pt x="20336" y="14482"/>
                  <a:pt x="20365" y="14511"/>
                </a:cubicBezTo>
              </a:path>
              <a:path w="4069" h="2407">
                <a:moveTo>
                  <a:pt x="20687" y="13940"/>
                </a:moveTo>
                <a:cubicBezTo>
                  <a:pt x="20687" y="14119"/>
                  <a:pt x="20679" y="14311"/>
                  <a:pt x="20712" y="14486"/>
                </a:cubicBezTo>
                <a:cubicBezTo>
                  <a:pt x="20723" y="14542"/>
                  <a:pt x="20736" y="14592"/>
                  <a:pt x="20762" y="14635"/>
                </a:cubicBezTo>
              </a:path>
              <a:path w="4069" h="2407">
                <a:moveTo>
                  <a:pt x="21158" y="14511"/>
                </a:moveTo>
                <a:cubicBezTo>
                  <a:pt x="20999" y="14595"/>
                  <a:pt x="20864" y="14647"/>
                  <a:pt x="20687" y="14684"/>
                </a:cubicBezTo>
                <a:cubicBezTo>
                  <a:pt x="20491" y="14726"/>
                  <a:pt x="20309" y="14801"/>
                  <a:pt x="20117" y="14858"/>
                </a:cubicBezTo>
                <a:cubicBezTo>
                  <a:pt x="20000" y="14893"/>
                  <a:pt x="19930" y="14921"/>
                  <a:pt x="19844" y="15007"/>
                </a:cubicBezTo>
                <a:cubicBezTo>
                  <a:pt x="19787" y="15064"/>
                  <a:pt x="19743" y="15094"/>
                  <a:pt x="19869" y="15032"/>
                </a:cubicBezTo>
              </a:path>
              <a:path w="4069" h="2407">
                <a:moveTo>
                  <a:pt x="20513" y="15131"/>
                </a:moveTo>
                <a:cubicBezTo>
                  <a:pt x="20469" y="15332"/>
                  <a:pt x="20439" y="15497"/>
                  <a:pt x="20439" y="15701"/>
                </a:cubicBezTo>
                <a:cubicBezTo>
                  <a:pt x="20439" y="15822"/>
                  <a:pt x="20429" y="15991"/>
                  <a:pt x="20489" y="16098"/>
                </a:cubicBezTo>
                <a:cubicBezTo>
                  <a:pt x="20497" y="16106"/>
                  <a:pt x="20505" y="16115"/>
                  <a:pt x="20513" y="16123"/>
                </a:cubicBezTo>
                <a:cubicBezTo>
                  <a:pt x="20549" y="16062"/>
                  <a:pt x="20611" y="15973"/>
                  <a:pt x="20638" y="15900"/>
                </a:cubicBezTo>
                <a:cubicBezTo>
                  <a:pt x="20679" y="15789"/>
                  <a:pt x="20677" y="15737"/>
                  <a:pt x="20762" y="15652"/>
                </a:cubicBezTo>
                <a:cubicBezTo>
                  <a:pt x="20910" y="15596"/>
                  <a:pt x="20976" y="15746"/>
                  <a:pt x="21034" y="15875"/>
                </a:cubicBezTo>
                <a:cubicBezTo>
                  <a:pt x="21063" y="15939"/>
                  <a:pt x="21094" y="16113"/>
                  <a:pt x="21034" y="16173"/>
                </a:cubicBezTo>
                <a:cubicBezTo>
                  <a:pt x="20988" y="16219"/>
                  <a:pt x="20919" y="16220"/>
                  <a:pt x="20861" y="16222"/>
                </a:cubicBezTo>
                <a:cubicBezTo>
                  <a:pt x="20743" y="16227"/>
                  <a:pt x="20641" y="16173"/>
                  <a:pt x="20538" y="16123"/>
                </a:cubicBezTo>
                <a:cubicBezTo>
                  <a:pt x="20439" y="16073"/>
                  <a:pt x="20406" y="16056"/>
                  <a:pt x="20340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0" y="1785960"/>
            <a:ext cx="2170080" cy="1027080"/>
          </a:xfrm>
          <a:custGeom>
            <a:avLst/>
            <a:gdLst/>
            <a:ahLst/>
            <a:rect l="l" t="t" r="r" b="b"/>
            <a:pathLst>
              <a:path w="6029" h="2853">
                <a:moveTo>
                  <a:pt x="10071" y="5507"/>
                </a:moveTo>
                <a:cubicBezTo>
                  <a:pt x="10071" y="5757"/>
                  <a:pt x="10070" y="6006"/>
                  <a:pt x="10096" y="6251"/>
                </a:cubicBezTo>
                <a:cubicBezTo>
                  <a:pt x="10108" y="6357"/>
                  <a:pt x="10107" y="6435"/>
                  <a:pt x="10195" y="6499"/>
                </a:cubicBezTo>
                <a:cubicBezTo>
                  <a:pt x="10309" y="6581"/>
                  <a:pt x="10332" y="6543"/>
                  <a:pt x="10418" y="6449"/>
                </a:cubicBezTo>
                <a:cubicBezTo>
                  <a:pt x="10491" y="6369"/>
                  <a:pt x="10538" y="6300"/>
                  <a:pt x="10567" y="6201"/>
                </a:cubicBezTo>
                <a:cubicBezTo>
                  <a:pt x="10595" y="6105"/>
                  <a:pt x="10612" y="6004"/>
                  <a:pt x="10616" y="5904"/>
                </a:cubicBezTo>
                <a:cubicBezTo>
                  <a:pt x="10619" y="5809"/>
                  <a:pt x="10636" y="5723"/>
                  <a:pt x="10641" y="5631"/>
                </a:cubicBezTo>
                <a:cubicBezTo>
                  <a:pt x="10643" y="5590"/>
                  <a:pt x="10641" y="5548"/>
                  <a:pt x="10641" y="5507"/>
                </a:cubicBezTo>
                <a:cubicBezTo>
                  <a:pt x="10618" y="5545"/>
                  <a:pt x="10630" y="5582"/>
                  <a:pt x="10616" y="5655"/>
                </a:cubicBezTo>
                <a:cubicBezTo>
                  <a:pt x="10571" y="5898"/>
                  <a:pt x="10567" y="6128"/>
                  <a:pt x="10567" y="6375"/>
                </a:cubicBezTo>
                <a:cubicBezTo>
                  <a:pt x="10567" y="6594"/>
                  <a:pt x="10592" y="6828"/>
                  <a:pt x="10616" y="7045"/>
                </a:cubicBezTo>
                <a:cubicBezTo>
                  <a:pt x="10634" y="7210"/>
                  <a:pt x="10657" y="7352"/>
                  <a:pt x="10616" y="7516"/>
                </a:cubicBezTo>
                <a:cubicBezTo>
                  <a:pt x="10586" y="7638"/>
                  <a:pt x="10550" y="7697"/>
                  <a:pt x="10443" y="7764"/>
                </a:cubicBezTo>
                <a:cubicBezTo>
                  <a:pt x="10358" y="7817"/>
                  <a:pt x="10263" y="7814"/>
                  <a:pt x="10170" y="7789"/>
                </a:cubicBezTo>
                <a:cubicBezTo>
                  <a:pt x="10088" y="7767"/>
                  <a:pt x="10035" y="7710"/>
                  <a:pt x="9996" y="7640"/>
                </a:cubicBezTo>
                <a:cubicBezTo>
                  <a:pt x="9953" y="7563"/>
                  <a:pt x="9976" y="7521"/>
                  <a:pt x="9996" y="7441"/>
                </a:cubicBezTo>
              </a:path>
              <a:path w="6029" h="2853">
                <a:moveTo>
                  <a:pt x="11038" y="5779"/>
                </a:moveTo>
                <a:cubicBezTo>
                  <a:pt x="11133" y="5757"/>
                  <a:pt x="11220" y="5750"/>
                  <a:pt x="11311" y="5730"/>
                </a:cubicBezTo>
                <a:cubicBezTo>
                  <a:pt x="11399" y="5711"/>
                  <a:pt x="11467" y="5705"/>
                  <a:pt x="11559" y="5705"/>
                </a:cubicBezTo>
                <a:cubicBezTo>
                  <a:pt x="11631" y="5705"/>
                  <a:pt x="11595" y="5709"/>
                  <a:pt x="11584" y="5730"/>
                </a:cubicBezTo>
                <a:cubicBezTo>
                  <a:pt x="11584" y="5738"/>
                  <a:pt x="11584" y="5747"/>
                  <a:pt x="11584" y="5755"/>
                </a:cubicBezTo>
              </a:path>
              <a:path w="6029" h="2853">
                <a:moveTo>
                  <a:pt x="11137" y="6028"/>
                </a:moveTo>
                <a:cubicBezTo>
                  <a:pt x="11189" y="6041"/>
                  <a:pt x="11224" y="6052"/>
                  <a:pt x="11286" y="6052"/>
                </a:cubicBezTo>
                <a:cubicBezTo>
                  <a:pt x="11367" y="6052"/>
                  <a:pt x="11458" y="6052"/>
                  <a:pt x="11534" y="6028"/>
                </a:cubicBezTo>
                <a:cubicBezTo>
                  <a:pt x="11551" y="6020"/>
                  <a:pt x="11567" y="6011"/>
                  <a:pt x="11584" y="6003"/>
                </a:cubicBezTo>
              </a:path>
              <a:path w="6029" h="2853">
                <a:moveTo>
                  <a:pt x="12105" y="5234"/>
                </a:moveTo>
                <a:cubicBezTo>
                  <a:pt x="12155" y="5251"/>
                  <a:pt x="12103" y="5289"/>
                  <a:pt x="12080" y="5333"/>
                </a:cubicBezTo>
                <a:cubicBezTo>
                  <a:pt x="12036" y="5417"/>
                  <a:pt x="12009" y="5497"/>
                  <a:pt x="11981" y="5581"/>
                </a:cubicBezTo>
                <a:cubicBezTo>
                  <a:pt x="11959" y="5647"/>
                  <a:pt x="11922" y="5685"/>
                  <a:pt x="11906" y="5755"/>
                </a:cubicBezTo>
                <a:cubicBezTo>
                  <a:pt x="11895" y="5803"/>
                  <a:pt x="11909" y="5812"/>
                  <a:pt x="11931" y="5829"/>
                </a:cubicBezTo>
                <a:cubicBezTo>
                  <a:pt x="11965" y="5855"/>
                  <a:pt x="12020" y="5829"/>
                  <a:pt x="12080" y="5829"/>
                </a:cubicBezTo>
                <a:cubicBezTo>
                  <a:pt x="12146" y="5829"/>
                  <a:pt x="12218" y="5805"/>
                  <a:pt x="12278" y="5779"/>
                </a:cubicBezTo>
                <a:cubicBezTo>
                  <a:pt x="12335" y="5754"/>
                  <a:pt x="12375" y="5713"/>
                  <a:pt x="12427" y="5680"/>
                </a:cubicBezTo>
              </a:path>
              <a:path w="6029" h="2853">
                <a:moveTo>
                  <a:pt x="12427" y="4961"/>
                </a:moveTo>
                <a:cubicBezTo>
                  <a:pt x="12427" y="5057"/>
                  <a:pt x="12410" y="5140"/>
                  <a:pt x="12402" y="5234"/>
                </a:cubicBezTo>
                <a:cubicBezTo>
                  <a:pt x="12390" y="5372"/>
                  <a:pt x="12381" y="5516"/>
                  <a:pt x="12378" y="5655"/>
                </a:cubicBezTo>
                <a:cubicBezTo>
                  <a:pt x="12374" y="5808"/>
                  <a:pt x="12399" y="5951"/>
                  <a:pt x="12402" y="6102"/>
                </a:cubicBezTo>
                <a:cubicBezTo>
                  <a:pt x="12405" y="6234"/>
                  <a:pt x="12402" y="6367"/>
                  <a:pt x="12402" y="6499"/>
                </a:cubicBezTo>
                <a:cubicBezTo>
                  <a:pt x="12367" y="6450"/>
                  <a:pt x="12376" y="6463"/>
                  <a:pt x="12402" y="6400"/>
                </a:cubicBezTo>
              </a:path>
              <a:path w="6029" h="2853">
                <a:moveTo>
                  <a:pt x="13196" y="5680"/>
                </a:moveTo>
                <a:cubicBezTo>
                  <a:pt x="13232" y="5707"/>
                  <a:pt x="13235" y="5697"/>
                  <a:pt x="13246" y="5730"/>
                </a:cubicBezTo>
                <a:cubicBezTo>
                  <a:pt x="13246" y="5669"/>
                  <a:pt x="13218" y="5680"/>
                  <a:pt x="13196" y="5631"/>
                </a:cubicBezTo>
                <a:cubicBezTo>
                  <a:pt x="13176" y="5586"/>
                  <a:pt x="13178" y="5581"/>
                  <a:pt x="13122" y="5581"/>
                </a:cubicBezTo>
                <a:cubicBezTo>
                  <a:pt x="13064" y="5581"/>
                  <a:pt x="13005" y="5634"/>
                  <a:pt x="12973" y="5680"/>
                </a:cubicBezTo>
                <a:cubicBezTo>
                  <a:pt x="12921" y="5754"/>
                  <a:pt x="12886" y="5847"/>
                  <a:pt x="12849" y="5928"/>
                </a:cubicBezTo>
                <a:cubicBezTo>
                  <a:pt x="12768" y="6107"/>
                  <a:pt x="12780" y="6206"/>
                  <a:pt x="12874" y="6325"/>
                </a:cubicBezTo>
                <a:cubicBezTo>
                  <a:pt x="12928" y="6394"/>
                  <a:pt x="12965" y="6453"/>
                  <a:pt x="13072" y="6424"/>
                </a:cubicBezTo>
                <a:cubicBezTo>
                  <a:pt x="13156" y="6402"/>
                  <a:pt x="13212" y="6334"/>
                  <a:pt x="13271" y="6276"/>
                </a:cubicBezTo>
              </a:path>
              <a:path w="6029" h="2853">
                <a:moveTo>
                  <a:pt x="13593" y="5730"/>
                </a:moveTo>
                <a:cubicBezTo>
                  <a:pt x="13573" y="5830"/>
                  <a:pt x="13534" y="5929"/>
                  <a:pt x="13519" y="6028"/>
                </a:cubicBezTo>
                <a:cubicBezTo>
                  <a:pt x="13510" y="6088"/>
                  <a:pt x="13518" y="6198"/>
                  <a:pt x="13543" y="6251"/>
                </a:cubicBezTo>
                <a:cubicBezTo>
                  <a:pt x="13566" y="6301"/>
                  <a:pt x="13621" y="6322"/>
                  <a:pt x="13667" y="6325"/>
                </a:cubicBezTo>
                <a:cubicBezTo>
                  <a:pt x="13762" y="6331"/>
                  <a:pt x="13796" y="6315"/>
                  <a:pt x="13866" y="6251"/>
                </a:cubicBezTo>
                <a:cubicBezTo>
                  <a:pt x="13921" y="6201"/>
                  <a:pt x="13981" y="6129"/>
                  <a:pt x="13990" y="6052"/>
                </a:cubicBezTo>
                <a:cubicBezTo>
                  <a:pt x="14001" y="5961"/>
                  <a:pt x="14000" y="5839"/>
                  <a:pt x="13965" y="5755"/>
                </a:cubicBezTo>
                <a:cubicBezTo>
                  <a:pt x="13944" y="5705"/>
                  <a:pt x="13873" y="5644"/>
                  <a:pt x="13816" y="5631"/>
                </a:cubicBezTo>
                <a:cubicBezTo>
                  <a:pt x="13741" y="5614"/>
                  <a:pt x="13682" y="5648"/>
                  <a:pt x="13618" y="5680"/>
                </a:cubicBezTo>
                <a:cubicBezTo>
                  <a:pt x="13560" y="5709"/>
                  <a:pt x="13495" y="5743"/>
                  <a:pt x="13469" y="5804"/>
                </a:cubicBezTo>
                <a:cubicBezTo>
                  <a:pt x="13451" y="5846"/>
                  <a:pt x="13468" y="5899"/>
                  <a:pt x="13494" y="5928"/>
                </a:cubicBezTo>
                <a:cubicBezTo>
                  <a:pt x="13502" y="5936"/>
                  <a:pt x="13511" y="5945"/>
                  <a:pt x="13519" y="5953"/>
                </a:cubicBezTo>
              </a:path>
              <a:path w="6029" h="2853">
                <a:moveTo>
                  <a:pt x="14635" y="5507"/>
                </a:moveTo>
                <a:cubicBezTo>
                  <a:pt x="14587" y="5507"/>
                  <a:pt x="14529" y="5517"/>
                  <a:pt x="14486" y="5531"/>
                </a:cubicBezTo>
                <a:cubicBezTo>
                  <a:pt x="14427" y="5551"/>
                  <a:pt x="14358" y="5613"/>
                  <a:pt x="14312" y="5655"/>
                </a:cubicBezTo>
                <a:cubicBezTo>
                  <a:pt x="14258" y="5704"/>
                  <a:pt x="14257" y="5738"/>
                  <a:pt x="14263" y="5779"/>
                </a:cubicBezTo>
                <a:cubicBezTo>
                  <a:pt x="14276" y="5867"/>
                  <a:pt x="14338" y="5904"/>
                  <a:pt x="14387" y="5978"/>
                </a:cubicBezTo>
                <a:cubicBezTo>
                  <a:pt x="14423" y="6032"/>
                  <a:pt x="14494" y="6117"/>
                  <a:pt x="14511" y="6176"/>
                </a:cubicBezTo>
                <a:cubicBezTo>
                  <a:pt x="14530" y="6244"/>
                  <a:pt x="14505" y="6281"/>
                  <a:pt x="14461" y="6325"/>
                </a:cubicBezTo>
                <a:cubicBezTo>
                  <a:pt x="14402" y="6384"/>
                  <a:pt x="14343" y="6396"/>
                  <a:pt x="14263" y="6400"/>
                </a:cubicBezTo>
                <a:cubicBezTo>
                  <a:pt x="14194" y="6403"/>
                  <a:pt x="14152" y="6419"/>
                  <a:pt x="14089" y="6424"/>
                </a:cubicBezTo>
                <a:cubicBezTo>
                  <a:pt x="14064" y="6424"/>
                  <a:pt x="14056" y="6424"/>
                  <a:pt x="14039" y="6424"/>
                </a:cubicBezTo>
                <a:cubicBezTo>
                  <a:pt x="14076" y="6412"/>
                  <a:pt x="14061" y="6400"/>
                  <a:pt x="14114" y="6400"/>
                </a:cubicBezTo>
              </a:path>
              <a:path w="6029" h="2853">
                <a:moveTo>
                  <a:pt x="15230" y="5283"/>
                </a:moveTo>
                <a:cubicBezTo>
                  <a:pt x="15276" y="5340"/>
                  <a:pt x="15304" y="5388"/>
                  <a:pt x="15329" y="5457"/>
                </a:cubicBezTo>
                <a:cubicBezTo>
                  <a:pt x="15368" y="5563"/>
                  <a:pt x="15345" y="5677"/>
                  <a:pt x="15404" y="5779"/>
                </a:cubicBezTo>
                <a:cubicBezTo>
                  <a:pt x="15493" y="5935"/>
                  <a:pt x="15597" y="6084"/>
                  <a:pt x="15726" y="6201"/>
                </a:cubicBezTo>
                <a:cubicBezTo>
                  <a:pt x="15765" y="6236"/>
                  <a:pt x="15865" y="6328"/>
                  <a:pt x="15925" y="6325"/>
                </a:cubicBezTo>
                <a:cubicBezTo>
                  <a:pt x="15961" y="6323"/>
                  <a:pt x="15973" y="6301"/>
                  <a:pt x="15999" y="6276"/>
                </a:cubicBezTo>
              </a:path>
              <a:path w="6029" h="2853">
                <a:moveTo>
                  <a:pt x="15900" y="5085"/>
                </a:moveTo>
                <a:cubicBezTo>
                  <a:pt x="15802" y="5183"/>
                  <a:pt x="15751" y="5270"/>
                  <a:pt x="15677" y="5383"/>
                </a:cubicBezTo>
                <a:cubicBezTo>
                  <a:pt x="15584" y="5524"/>
                  <a:pt x="15479" y="5654"/>
                  <a:pt x="15404" y="5804"/>
                </a:cubicBezTo>
                <a:cubicBezTo>
                  <a:pt x="15338" y="5936"/>
                  <a:pt x="15313" y="6052"/>
                  <a:pt x="15230" y="6176"/>
                </a:cubicBezTo>
                <a:cubicBezTo>
                  <a:pt x="15177" y="6255"/>
                  <a:pt x="15149" y="6340"/>
                  <a:pt x="15106" y="6424"/>
                </a:cubicBezTo>
                <a:cubicBezTo>
                  <a:pt x="15075" y="6486"/>
                  <a:pt x="15088" y="6515"/>
                  <a:pt x="15056" y="6474"/>
                </a:cubicBezTo>
                <a:cubicBezTo>
                  <a:pt x="15056" y="6466"/>
                  <a:pt x="15056" y="6457"/>
                  <a:pt x="15056" y="64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 Write an equation of the sine function with amplitude 30, period 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, phase shif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, and vertical shift -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8240" y="1955880"/>
            <a:ext cx="5697720" cy="1268280"/>
          </a:xfrm>
          <a:custGeom>
            <a:avLst/>
            <a:gdLst/>
            <a:ahLst/>
            <a:rect l="l" t="t" r="r" b="b"/>
            <a:pathLst>
              <a:path w="15827" h="3523">
                <a:moveTo>
                  <a:pt x="2257" y="6474"/>
                </a:moveTo>
                <a:cubicBezTo>
                  <a:pt x="2257" y="6515"/>
                  <a:pt x="2264" y="6507"/>
                  <a:pt x="2257" y="6548"/>
                </a:cubicBezTo>
                <a:cubicBezTo>
                  <a:pt x="2243" y="6626"/>
                  <a:pt x="2234" y="6689"/>
                  <a:pt x="2232" y="6772"/>
                </a:cubicBezTo>
                <a:cubicBezTo>
                  <a:pt x="2229" y="6902"/>
                  <a:pt x="2243" y="7019"/>
                  <a:pt x="2257" y="7144"/>
                </a:cubicBezTo>
                <a:cubicBezTo>
                  <a:pt x="2265" y="7213"/>
                  <a:pt x="2261" y="7358"/>
                  <a:pt x="2307" y="7417"/>
                </a:cubicBezTo>
                <a:cubicBezTo>
                  <a:pt x="2318" y="7431"/>
                  <a:pt x="2415" y="7515"/>
                  <a:pt x="2431" y="7516"/>
                </a:cubicBezTo>
                <a:cubicBezTo>
                  <a:pt x="2500" y="7522"/>
                  <a:pt x="2548" y="7472"/>
                  <a:pt x="2580" y="7417"/>
                </a:cubicBezTo>
                <a:cubicBezTo>
                  <a:pt x="2622" y="7345"/>
                  <a:pt x="2672" y="7269"/>
                  <a:pt x="2704" y="7193"/>
                </a:cubicBezTo>
                <a:cubicBezTo>
                  <a:pt x="2744" y="7097"/>
                  <a:pt x="2771" y="7016"/>
                  <a:pt x="2803" y="6921"/>
                </a:cubicBezTo>
                <a:cubicBezTo>
                  <a:pt x="2837" y="6820"/>
                  <a:pt x="2855" y="6726"/>
                  <a:pt x="2877" y="6623"/>
                </a:cubicBezTo>
                <a:cubicBezTo>
                  <a:pt x="2894" y="6542"/>
                  <a:pt x="2917" y="6477"/>
                  <a:pt x="2927" y="6400"/>
                </a:cubicBezTo>
                <a:cubicBezTo>
                  <a:pt x="2931" y="6367"/>
                  <a:pt x="2927" y="6383"/>
                  <a:pt x="2927" y="6350"/>
                </a:cubicBezTo>
                <a:cubicBezTo>
                  <a:pt x="2923" y="6402"/>
                  <a:pt x="2907" y="6452"/>
                  <a:pt x="2902" y="6499"/>
                </a:cubicBezTo>
                <a:cubicBezTo>
                  <a:pt x="2868" y="6822"/>
                  <a:pt x="2902" y="7172"/>
                  <a:pt x="2927" y="7491"/>
                </a:cubicBezTo>
                <a:cubicBezTo>
                  <a:pt x="2939" y="7640"/>
                  <a:pt x="2940" y="7789"/>
                  <a:pt x="2952" y="7938"/>
                </a:cubicBezTo>
                <a:cubicBezTo>
                  <a:pt x="2967" y="8125"/>
                  <a:pt x="2966" y="8257"/>
                  <a:pt x="2952" y="8434"/>
                </a:cubicBezTo>
                <a:cubicBezTo>
                  <a:pt x="2943" y="8547"/>
                  <a:pt x="2934" y="8689"/>
                  <a:pt x="2853" y="8781"/>
                </a:cubicBezTo>
                <a:cubicBezTo>
                  <a:pt x="2791" y="8851"/>
                  <a:pt x="2710" y="8912"/>
                  <a:pt x="2629" y="8930"/>
                </a:cubicBezTo>
                <a:cubicBezTo>
                  <a:pt x="2559" y="8945"/>
                  <a:pt x="2480" y="8962"/>
                  <a:pt x="2406" y="8954"/>
                </a:cubicBezTo>
                <a:cubicBezTo>
                  <a:pt x="2365" y="8949"/>
                  <a:pt x="2241" y="8949"/>
                  <a:pt x="2208" y="8930"/>
                </a:cubicBezTo>
                <a:cubicBezTo>
                  <a:pt x="2154" y="8898"/>
                  <a:pt x="2142" y="8825"/>
                  <a:pt x="2133" y="8781"/>
                </a:cubicBezTo>
              </a:path>
              <a:path w="15827" h="3523">
                <a:moveTo>
                  <a:pt x="3373" y="6623"/>
                </a:moveTo>
                <a:cubicBezTo>
                  <a:pt x="3445" y="6623"/>
                  <a:pt x="4073" y="6612"/>
                  <a:pt x="4068" y="6598"/>
                </a:cubicBezTo>
                <a:cubicBezTo>
                  <a:pt x="4040" y="6598"/>
                  <a:pt x="4029" y="6600"/>
                  <a:pt x="4018" y="6623"/>
                </a:cubicBezTo>
              </a:path>
              <a:path w="15827" h="3523">
                <a:moveTo>
                  <a:pt x="3497" y="6945"/>
                </a:moveTo>
                <a:cubicBezTo>
                  <a:pt x="3521" y="6981"/>
                  <a:pt x="3564" y="6970"/>
                  <a:pt x="3621" y="6970"/>
                </a:cubicBezTo>
                <a:cubicBezTo>
                  <a:pt x="3701" y="6970"/>
                  <a:pt x="3767" y="6948"/>
                  <a:pt x="3845" y="6945"/>
                </a:cubicBezTo>
                <a:cubicBezTo>
                  <a:pt x="3993" y="6939"/>
                  <a:pt x="4390" y="6945"/>
                  <a:pt x="4242" y="6945"/>
                </a:cubicBezTo>
              </a:path>
              <a:path w="15827" h="3523">
                <a:moveTo>
                  <a:pt x="4787" y="6350"/>
                </a:moveTo>
                <a:cubicBezTo>
                  <a:pt x="4815" y="6273"/>
                  <a:pt x="4808" y="6255"/>
                  <a:pt x="4862" y="6201"/>
                </a:cubicBezTo>
                <a:cubicBezTo>
                  <a:pt x="4903" y="6160"/>
                  <a:pt x="4979" y="6093"/>
                  <a:pt x="5035" y="6077"/>
                </a:cubicBezTo>
                <a:cubicBezTo>
                  <a:pt x="5105" y="6057"/>
                  <a:pt x="5184" y="6032"/>
                  <a:pt x="5259" y="6028"/>
                </a:cubicBezTo>
                <a:cubicBezTo>
                  <a:pt x="5334" y="6024"/>
                  <a:pt x="5393" y="6033"/>
                  <a:pt x="5457" y="6077"/>
                </a:cubicBezTo>
                <a:cubicBezTo>
                  <a:pt x="5512" y="6115"/>
                  <a:pt x="5504" y="6141"/>
                  <a:pt x="5507" y="6201"/>
                </a:cubicBezTo>
                <a:cubicBezTo>
                  <a:pt x="5516" y="6360"/>
                  <a:pt x="5356" y="6402"/>
                  <a:pt x="5259" y="6499"/>
                </a:cubicBezTo>
                <a:cubicBezTo>
                  <a:pt x="5212" y="6546"/>
                  <a:pt x="5162" y="6576"/>
                  <a:pt x="5110" y="6623"/>
                </a:cubicBezTo>
                <a:cubicBezTo>
                  <a:pt x="5102" y="6631"/>
                  <a:pt x="5093" y="6640"/>
                  <a:pt x="5085" y="6648"/>
                </a:cubicBezTo>
                <a:cubicBezTo>
                  <a:pt x="5103" y="6612"/>
                  <a:pt x="5105" y="6625"/>
                  <a:pt x="5135" y="6598"/>
                </a:cubicBezTo>
                <a:cubicBezTo>
                  <a:pt x="5160" y="6575"/>
                  <a:pt x="5249" y="6536"/>
                  <a:pt x="5283" y="6548"/>
                </a:cubicBezTo>
                <a:cubicBezTo>
                  <a:pt x="5336" y="6566"/>
                  <a:pt x="5413" y="6607"/>
                  <a:pt x="5457" y="6648"/>
                </a:cubicBezTo>
                <a:cubicBezTo>
                  <a:pt x="5525" y="6711"/>
                  <a:pt x="5551" y="6785"/>
                  <a:pt x="5581" y="6871"/>
                </a:cubicBezTo>
                <a:cubicBezTo>
                  <a:pt x="5606" y="6941"/>
                  <a:pt x="5626" y="7044"/>
                  <a:pt x="5606" y="7119"/>
                </a:cubicBezTo>
                <a:cubicBezTo>
                  <a:pt x="5585" y="7200"/>
                  <a:pt x="5527" y="7255"/>
                  <a:pt x="5457" y="7293"/>
                </a:cubicBezTo>
                <a:cubicBezTo>
                  <a:pt x="5373" y="7339"/>
                  <a:pt x="5302" y="7342"/>
                  <a:pt x="5209" y="7342"/>
                </a:cubicBezTo>
                <a:cubicBezTo>
                  <a:pt x="5121" y="7342"/>
                  <a:pt x="5033" y="7355"/>
                  <a:pt x="4961" y="7317"/>
                </a:cubicBezTo>
                <a:cubicBezTo>
                  <a:pt x="4925" y="7298"/>
                  <a:pt x="4854" y="7298"/>
                  <a:pt x="4862" y="7243"/>
                </a:cubicBezTo>
                <a:cubicBezTo>
                  <a:pt x="4862" y="7197"/>
                  <a:pt x="4874" y="7171"/>
                  <a:pt x="4911" y="7144"/>
                </a:cubicBezTo>
              </a:path>
              <a:path w="15827" h="3523">
                <a:moveTo>
                  <a:pt x="5879" y="6276"/>
                </a:moveTo>
                <a:cubicBezTo>
                  <a:pt x="5873" y="6338"/>
                  <a:pt x="5857" y="6388"/>
                  <a:pt x="5854" y="6449"/>
                </a:cubicBezTo>
                <a:cubicBezTo>
                  <a:pt x="5849" y="6559"/>
                  <a:pt x="5829" y="6659"/>
                  <a:pt x="5829" y="6772"/>
                </a:cubicBezTo>
                <a:cubicBezTo>
                  <a:pt x="5829" y="6893"/>
                  <a:pt x="5841" y="7003"/>
                  <a:pt x="5854" y="7119"/>
                </a:cubicBezTo>
                <a:cubicBezTo>
                  <a:pt x="5865" y="7225"/>
                  <a:pt x="5912" y="7316"/>
                  <a:pt x="6028" y="7342"/>
                </a:cubicBezTo>
                <a:cubicBezTo>
                  <a:pt x="6101" y="7358"/>
                  <a:pt x="6192" y="7339"/>
                  <a:pt x="6251" y="7293"/>
                </a:cubicBezTo>
                <a:cubicBezTo>
                  <a:pt x="6350" y="7216"/>
                  <a:pt x="6371" y="7147"/>
                  <a:pt x="6424" y="7045"/>
                </a:cubicBezTo>
                <a:cubicBezTo>
                  <a:pt x="6482" y="6932"/>
                  <a:pt x="6519" y="6853"/>
                  <a:pt x="6524" y="6722"/>
                </a:cubicBezTo>
                <a:cubicBezTo>
                  <a:pt x="6528" y="6610"/>
                  <a:pt x="6512" y="6529"/>
                  <a:pt x="6474" y="6424"/>
                </a:cubicBezTo>
                <a:cubicBezTo>
                  <a:pt x="6441" y="6334"/>
                  <a:pt x="6415" y="6271"/>
                  <a:pt x="6350" y="6201"/>
                </a:cubicBezTo>
                <a:cubicBezTo>
                  <a:pt x="6298" y="6145"/>
                  <a:pt x="6251" y="6115"/>
                  <a:pt x="6176" y="6102"/>
                </a:cubicBezTo>
                <a:cubicBezTo>
                  <a:pt x="6079" y="6086"/>
                  <a:pt x="6005" y="6121"/>
                  <a:pt x="5928" y="6176"/>
                </a:cubicBezTo>
                <a:cubicBezTo>
                  <a:pt x="5891" y="6203"/>
                  <a:pt x="5837" y="6306"/>
                  <a:pt x="5829" y="6350"/>
                </a:cubicBezTo>
                <a:cubicBezTo>
                  <a:pt x="5829" y="6418"/>
                  <a:pt x="5832" y="6437"/>
                  <a:pt x="5804" y="6474"/>
                </a:cubicBezTo>
              </a:path>
              <a:path w="15827" h="3523">
                <a:moveTo>
                  <a:pt x="7218" y="6474"/>
                </a:moveTo>
                <a:cubicBezTo>
                  <a:pt x="7125" y="6474"/>
                  <a:pt x="7120" y="6480"/>
                  <a:pt x="7045" y="6524"/>
                </a:cubicBezTo>
                <a:cubicBezTo>
                  <a:pt x="6993" y="6555"/>
                  <a:pt x="6963" y="6580"/>
                  <a:pt x="6921" y="6623"/>
                </a:cubicBezTo>
                <a:cubicBezTo>
                  <a:pt x="6884" y="6661"/>
                  <a:pt x="6888" y="6684"/>
                  <a:pt x="6921" y="6722"/>
                </a:cubicBezTo>
                <a:cubicBezTo>
                  <a:pt x="6964" y="6771"/>
                  <a:pt x="7011" y="6792"/>
                  <a:pt x="7069" y="6821"/>
                </a:cubicBezTo>
                <a:cubicBezTo>
                  <a:pt x="7148" y="6861"/>
                  <a:pt x="7225" y="6888"/>
                  <a:pt x="7293" y="6945"/>
                </a:cubicBezTo>
                <a:cubicBezTo>
                  <a:pt x="7357" y="6999"/>
                  <a:pt x="7389" y="7047"/>
                  <a:pt x="7417" y="7119"/>
                </a:cubicBezTo>
                <a:cubicBezTo>
                  <a:pt x="7439" y="7175"/>
                  <a:pt x="7422" y="7250"/>
                  <a:pt x="7367" y="7293"/>
                </a:cubicBezTo>
                <a:cubicBezTo>
                  <a:pt x="7323" y="7327"/>
                  <a:pt x="7223" y="7340"/>
                  <a:pt x="7169" y="7342"/>
                </a:cubicBezTo>
                <a:cubicBezTo>
                  <a:pt x="7058" y="7345"/>
                  <a:pt x="6973" y="7339"/>
                  <a:pt x="6871" y="7317"/>
                </a:cubicBezTo>
                <a:cubicBezTo>
                  <a:pt x="6814" y="7305"/>
                  <a:pt x="6798" y="7288"/>
                  <a:pt x="6821" y="7243"/>
                </a:cubicBezTo>
                <a:cubicBezTo>
                  <a:pt x="6829" y="7226"/>
                  <a:pt x="6838" y="7210"/>
                  <a:pt x="6846" y="7193"/>
                </a:cubicBezTo>
              </a:path>
              <a:path w="15827" h="3523">
                <a:moveTo>
                  <a:pt x="7789" y="6598"/>
                </a:moveTo>
                <a:cubicBezTo>
                  <a:pt x="7783" y="6766"/>
                  <a:pt x="7783" y="6848"/>
                  <a:pt x="7789" y="6995"/>
                </a:cubicBezTo>
                <a:cubicBezTo>
                  <a:pt x="7792" y="7064"/>
                  <a:pt x="7784" y="7156"/>
                  <a:pt x="7813" y="7218"/>
                </a:cubicBezTo>
                <a:cubicBezTo>
                  <a:pt x="7829" y="7252"/>
                  <a:pt x="7838" y="7260"/>
                  <a:pt x="7863" y="7268"/>
                </a:cubicBezTo>
                <a:cubicBezTo>
                  <a:pt x="7851" y="7221"/>
                  <a:pt x="7846" y="7198"/>
                  <a:pt x="7838" y="7144"/>
                </a:cubicBezTo>
                <a:cubicBezTo>
                  <a:pt x="7830" y="7103"/>
                  <a:pt x="7821" y="7061"/>
                  <a:pt x="7813" y="7020"/>
                </a:cubicBezTo>
              </a:path>
              <a:path w="15827" h="3523">
                <a:moveTo>
                  <a:pt x="7962" y="6127"/>
                </a:moveTo>
                <a:cubicBezTo>
                  <a:pt x="7979" y="6127"/>
                  <a:pt x="7995" y="6127"/>
                  <a:pt x="8012" y="6127"/>
                </a:cubicBezTo>
              </a:path>
              <a:path w="15827" h="3523">
                <a:moveTo>
                  <a:pt x="8136" y="6871"/>
                </a:moveTo>
                <a:cubicBezTo>
                  <a:pt x="8150" y="7004"/>
                  <a:pt x="8161" y="7114"/>
                  <a:pt x="8161" y="7243"/>
                </a:cubicBezTo>
                <a:cubicBezTo>
                  <a:pt x="8161" y="7251"/>
                  <a:pt x="8161" y="7260"/>
                  <a:pt x="8161" y="7268"/>
                </a:cubicBezTo>
                <a:cubicBezTo>
                  <a:pt x="8161" y="7310"/>
                  <a:pt x="8161" y="7235"/>
                  <a:pt x="8161" y="7193"/>
                </a:cubicBezTo>
                <a:cubicBezTo>
                  <a:pt x="8161" y="7110"/>
                  <a:pt x="8198" y="7025"/>
                  <a:pt x="8210" y="6945"/>
                </a:cubicBezTo>
                <a:cubicBezTo>
                  <a:pt x="8223" y="6858"/>
                  <a:pt x="8231" y="6779"/>
                  <a:pt x="8260" y="6697"/>
                </a:cubicBezTo>
                <a:cubicBezTo>
                  <a:pt x="8281" y="6637"/>
                  <a:pt x="8347" y="6565"/>
                  <a:pt x="8409" y="6548"/>
                </a:cubicBezTo>
                <a:cubicBezTo>
                  <a:pt x="8474" y="6530"/>
                  <a:pt x="8520" y="6517"/>
                  <a:pt x="8582" y="6548"/>
                </a:cubicBezTo>
                <a:cubicBezTo>
                  <a:pt x="8649" y="6581"/>
                  <a:pt x="8721" y="6656"/>
                  <a:pt x="8756" y="6722"/>
                </a:cubicBezTo>
                <a:cubicBezTo>
                  <a:pt x="8796" y="6798"/>
                  <a:pt x="8818" y="6911"/>
                  <a:pt x="8830" y="6995"/>
                </a:cubicBezTo>
                <a:cubicBezTo>
                  <a:pt x="8838" y="7051"/>
                  <a:pt x="8830" y="7277"/>
                  <a:pt x="8830" y="7243"/>
                </a:cubicBezTo>
                <a:cubicBezTo>
                  <a:pt x="8830" y="7235"/>
                  <a:pt x="8830" y="7226"/>
                  <a:pt x="8830" y="7218"/>
                </a:cubicBezTo>
              </a:path>
              <a:path w="15827" h="3523">
                <a:moveTo>
                  <a:pt x="9649" y="5655"/>
                </a:moveTo>
                <a:cubicBezTo>
                  <a:pt x="9627" y="5694"/>
                  <a:pt x="9602" y="5765"/>
                  <a:pt x="9575" y="5804"/>
                </a:cubicBezTo>
                <a:cubicBezTo>
                  <a:pt x="9505" y="5904"/>
                  <a:pt x="9451" y="5990"/>
                  <a:pt x="9401" y="6102"/>
                </a:cubicBezTo>
                <a:cubicBezTo>
                  <a:pt x="9291" y="6347"/>
                  <a:pt x="9184" y="6578"/>
                  <a:pt x="9153" y="6846"/>
                </a:cubicBezTo>
                <a:cubicBezTo>
                  <a:pt x="9138" y="6975"/>
                  <a:pt x="9186" y="7088"/>
                  <a:pt x="9252" y="7193"/>
                </a:cubicBezTo>
                <a:cubicBezTo>
                  <a:pt x="9301" y="7271"/>
                  <a:pt x="9362" y="7328"/>
                  <a:pt x="9426" y="7392"/>
                </a:cubicBezTo>
                <a:cubicBezTo>
                  <a:pt x="9443" y="7409"/>
                  <a:pt x="9586" y="7502"/>
                  <a:pt x="9525" y="7441"/>
                </a:cubicBezTo>
              </a:path>
              <a:path w="15827" h="3523">
                <a:moveTo>
                  <a:pt x="14163" y="5432"/>
                </a:moveTo>
                <a:cubicBezTo>
                  <a:pt x="14183" y="5500"/>
                  <a:pt x="14180" y="5510"/>
                  <a:pt x="14238" y="5581"/>
                </a:cubicBezTo>
                <a:cubicBezTo>
                  <a:pt x="14308" y="5667"/>
                  <a:pt x="14359" y="5729"/>
                  <a:pt x="14412" y="5829"/>
                </a:cubicBezTo>
                <a:cubicBezTo>
                  <a:pt x="14488" y="5972"/>
                  <a:pt x="14549" y="6120"/>
                  <a:pt x="14585" y="6276"/>
                </a:cubicBezTo>
                <a:cubicBezTo>
                  <a:pt x="14622" y="6438"/>
                  <a:pt x="14655" y="6605"/>
                  <a:pt x="14635" y="6772"/>
                </a:cubicBezTo>
                <a:cubicBezTo>
                  <a:pt x="14617" y="6925"/>
                  <a:pt x="14548" y="7068"/>
                  <a:pt x="14461" y="7193"/>
                </a:cubicBezTo>
                <a:cubicBezTo>
                  <a:pt x="14383" y="7306"/>
                  <a:pt x="14310" y="7375"/>
                  <a:pt x="14213" y="7466"/>
                </a:cubicBezTo>
                <a:cubicBezTo>
                  <a:pt x="14158" y="7518"/>
                  <a:pt x="14098" y="7546"/>
                  <a:pt x="14039" y="7590"/>
                </a:cubicBezTo>
                <a:cubicBezTo>
                  <a:pt x="13999" y="7620"/>
                  <a:pt x="14024" y="7610"/>
                  <a:pt x="14015" y="7565"/>
                </a:cubicBezTo>
              </a:path>
              <a:path w="15827" h="3523">
                <a:moveTo>
                  <a:pt x="14982" y="6648"/>
                </a:moveTo>
                <a:cubicBezTo>
                  <a:pt x="15045" y="6648"/>
                  <a:pt x="15094" y="6665"/>
                  <a:pt x="15156" y="6672"/>
                </a:cubicBezTo>
                <a:cubicBezTo>
                  <a:pt x="15277" y="6686"/>
                  <a:pt x="15461" y="6703"/>
                  <a:pt x="15577" y="6697"/>
                </a:cubicBezTo>
                <a:cubicBezTo>
                  <a:pt x="15621" y="6695"/>
                  <a:pt x="15738" y="6686"/>
                  <a:pt x="15751" y="6648"/>
                </a:cubicBezTo>
                <a:cubicBezTo>
                  <a:pt x="15738" y="6610"/>
                  <a:pt x="15726" y="6627"/>
                  <a:pt x="15726" y="6573"/>
                </a:cubicBezTo>
              </a:path>
              <a:path w="15827" h="3523">
                <a:moveTo>
                  <a:pt x="16073" y="6052"/>
                </a:moveTo>
                <a:cubicBezTo>
                  <a:pt x="16124" y="5956"/>
                  <a:pt x="16156" y="5858"/>
                  <a:pt x="16247" y="5804"/>
                </a:cubicBezTo>
                <a:cubicBezTo>
                  <a:pt x="16280" y="5785"/>
                  <a:pt x="16410" y="5751"/>
                  <a:pt x="16446" y="5779"/>
                </a:cubicBezTo>
                <a:cubicBezTo>
                  <a:pt x="16557" y="5866"/>
                  <a:pt x="16569" y="5977"/>
                  <a:pt x="16594" y="6102"/>
                </a:cubicBezTo>
                <a:cubicBezTo>
                  <a:pt x="16624" y="6253"/>
                  <a:pt x="16627" y="6374"/>
                  <a:pt x="16619" y="6524"/>
                </a:cubicBezTo>
                <a:cubicBezTo>
                  <a:pt x="16611" y="6680"/>
                  <a:pt x="16587" y="6804"/>
                  <a:pt x="16520" y="6945"/>
                </a:cubicBezTo>
                <a:cubicBezTo>
                  <a:pt x="16454" y="7084"/>
                  <a:pt x="16372" y="7181"/>
                  <a:pt x="16247" y="7268"/>
                </a:cubicBezTo>
                <a:cubicBezTo>
                  <a:pt x="16107" y="7365"/>
                  <a:pt x="16058" y="7392"/>
                  <a:pt x="15900" y="7392"/>
                </a:cubicBezTo>
                <a:cubicBezTo>
                  <a:pt x="15833" y="7392"/>
                  <a:pt x="15794" y="7378"/>
                  <a:pt x="15776" y="7317"/>
                </a:cubicBezTo>
                <a:cubicBezTo>
                  <a:pt x="15758" y="7255"/>
                  <a:pt x="15781" y="7188"/>
                  <a:pt x="15825" y="7144"/>
                </a:cubicBezTo>
                <a:cubicBezTo>
                  <a:pt x="15876" y="7093"/>
                  <a:pt x="15952" y="7077"/>
                  <a:pt x="16024" y="7094"/>
                </a:cubicBezTo>
                <a:cubicBezTo>
                  <a:pt x="16115" y="7116"/>
                  <a:pt x="16202" y="7183"/>
                  <a:pt x="16272" y="7243"/>
                </a:cubicBezTo>
                <a:cubicBezTo>
                  <a:pt x="16337" y="7299"/>
                  <a:pt x="16386" y="7389"/>
                  <a:pt x="16446" y="7441"/>
                </a:cubicBezTo>
                <a:cubicBezTo>
                  <a:pt x="16469" y="7461"/>
                  <a:pt x="16537" y="7559"/>
                  <a:pt x="16570" y="7565"/>
                </a:cubicBezTo>
                <a:cubicBezTo>
                  <a:pt x="16618" y="7574"/>
                  <a:pt x="16623" y="7520"/>
                  <a:pt x="16644" y="7491"/>
                </a:cubicBezTo>
              </a:path>
              <a:path w="15827" h="3523">
                <a:moveTo>
                  <a:pt x="17190" y="6052"/>
                </a:moveTo>
                <a:cubicBezTo>
                  <a:pt x="17313" y="6025"/>
                  <a:pt x="17437" y="5991"/>
                  <a:pt x="17562" y="5978"/>
                </a:cubicBezTo>
                <a:cubicBezTo>
                  <a:pt x="17671" y="5967"/>
                  <a:pt x="17802" y="5973"/>
                  <a:pt x="17909" y="5953"/>
                </a:cubicBezTo>
                <a:cubicBezTo>
                  <a:pt x="17926" y="5945"/>
                  <a:pt x="17942" y="5936"/>
                  <a:pt x="17959" y="5928"/>
                </a:cubicBezTo>
              </a:path>
              <a:path w="15827" h="3523">
                <a:moveTo>
                  <a:pt x="17264" y="6028"/>
                </a:moveTo>
                <a:cubicBezTo>
                  <a:pt x="17197" y="6114"/>
                  <a:pt x="17078" y="6240"/>
                  <a:pt x="17041" y="6350"/>
                </a:cubicBezTo>
                <a:cubicBezTo>
                  <a:pt x="17013" y="6434"/>
                  <a:pt x="16996" y="6493"/>
                  <a:pt x="16991" y="6573"/>
                </a:cubicBezTo>
                <a:cubicBezTo>
                  <a:pt x="16991" y="6581"/>
                  <a:pt x="16991" y="6590"/>
                  <a:pt x="16991" y="6598"/>
                </a:cubicBezTo>
                <a:cubicBezTo>
                  <a:pt x="17044" y="6590"/>
                  <a:pt x="17067" y="6583"/>
                  <a:pt x="17115" y="6548"/>
                </a:cubicBezTo>
                <a:cubicBezTo>
                  <a:pt x="17185" y="6496"/>
                  <a:pt x="17226" y="6478"/>
                  <a:pt x="17314" y="6474"/>
                </a:cubicBezTo>
                <a:cubicBezTo>
                  <a:pt x="17393" y="6470"/>
                  <a:pt x="17506" y="6514"/>
                  <a:pt x="17562" y="6573"/>
                </a:cubicBezTo>
                <a:cubicBezTo>
                  <a:pt x="17653" y="6669"/>
                  <a:pt x="17657" y="6798"/>
                  <a:pt x="17661" y="6921"/>
                </a:cubicBezTo>
                <a:cubicBezTo>
                  <a:pt x="17664" y="7019"/>
                  <a:pt x="17601" y="7085"/>
                  <a:pt x="17537" y="7144"/>
                </a:cubicBezTo>
                <a:cubicBezTo>
                  <a:pt x="17429" y="7244"/>
                  <a:pt x="17354" y="7255"/>
                  <a:pt x="17214" y="7293"/>
                </a:cubicBezTo>
                <a:cubicBezTo>
                  <a:pt x="17067" y="7333"/>
                  <a:pt x="16945" y="7342"/>
                  <a:pt x="16793" y="7342"/>
                </a:cubicBezTo>
              </a:path>
              <a:path w="15827" h="3523">
                <a:moveTo>
                  <a:pt x="10443" y="5655"/>
                </a:moveTo>
                <a:cubicBezTo>
                  <a:pt x="10343" y="5655"/>
                  <a:pt x="10263" y="5659"/>
                  <a:pt x="10170" y="5680"/>
                </a:cubicBezTo>
                <a:cubicBezTo>
                  <a:pt x="10130" y="5689"/>
                  <a:pt x="10077" y="5710"/>
                  <a:pt x="10046" y="5730"/>
                </a:cubicBezTo>
                <a:cubicBezTo>
                  <a:pt x="10019" y="5748"/>
                  <a:pt x="9975" y="5792"/>
                  <a:pt x="9996" y="5829"/>
                </a:cubicBezTo>
                <a:cubicBezTo>
                  <a:pt x="10021" y="5873"/>
                  <a:pt x="10106" y="5927"/>
                  <a:pt x="10145" y="5953"/>
                </a:cubicBezTo>
                <a:cubicBezTo>
                  <a:pt x="10205" y="5993"/>
                  <a:pt x="10277" y="6039"/>
                  <a:pt x="10319" y="6102"/>
                </a:cubicBezTo>
                <a:cubicBezTo>
                  <a:pt x="10338" y="6130"/>
                  <a:pt x="10396" y="6227"/>
                  <a:pt x="10344" y="6251"/>
                </a:cubicBezTo>
                <a:cubicBezTo>
                  <a:pt x="10312" y="6266"/>
                  <a:pt x="10259" y="6276"/>
                  <a:pt x="10220" y="6276"/>
                </a:cubicBezTo>
                <a:cubicBezTo>
                  <a:pt x="10195" y="6276"/>
                  <a:pt x="10187" y="6276"/>
                  <a:pt x="10170" y="6276"/>
                </a:cubicBezTo>
                <a:cubicBezTo>
                  <a:pt x="10170" y="6216"/>
                  <a:pt x="10168" y="6177"/>
                  <a:pt x="10195" y="6127"/>
                </a:cubicBezTo>
                <a:cubicBezTo>
                  <a:pt x="10238" y="6046"/>
                  <a:pt x="10309" y="5974"/>
                  <a:pt x="10368" y="5904"/>
                </a:cubicBezTo>
                <a:cubicBezTo>
                  <a:pt x="10403" y="5862"/>
                  <a:pt x="10418" y="5860"/>
                  <a:pt x="10418" y="5804"/>
                </a:cubicBezTo>
                <a:cubicBezTo>
                  <a:pt x="10418" y="5756"/>
                  <a:pt x="10421" y="5755"/>
                  <a:pt x="10443" y="5705"/>
                </a:cubicBezTo>
              </a:path>
              <a:path w="15827" h="3523">
                <a:moveTo>
                  <a:pt x="10666" y="5755"/>
                </a:moveTo>
                <a:cubicBezTo>
                  <a:pt x="10623" y="5883"/>
                  <a:pt x="10597" y="6001"/>
                  <a:pt x="10567" y="6127"/>
                </a:cubicBezTo>
                <a:cubicBezTo>
                  <a:pt x="10532" y="6277"/>
                  <a:pt x="10482" y="6424"/>
                  <a:pt x="10443" y="6573"/>
                </a:cubicBezTo>
                <a:cubicBezTo>
                  <a:pt x="10402" y="6730"/>
                  <a:pt x="10348" y="6869"/>
                  <a:pt x="10294" y="7020"/>
                </a:cubicBezTo>
                <a:cubicBezTo>
                  <a:pt x="10272" y="7081"/>
                  <a:pt x="10231" y="7162"/>
                  <a:pt x="10220" y="7218"/>
                </a:cubicBezTo>
                <a:cubicBezTo>
                  <a:pt x="10207" y="7283"/>
                  <a:pt x="10203" y="7255"/>
                  <a:pt x="10195" y="7317"/>
                </a:cubicBezTo>
                <a:cubicBezTo>
                  <a:pt x="10216" y="7281"/>
                  <a:pt x="10241" y="7232"/>
                  <a:pt x="10269" y="7193"/>
                </a:cubicBezTo>
                <a:cubicBezTo>
                  <a:pt x="10294" y="7160"/>
                  <a:pt x="10319" y="7127"/>
                  <a:pt x="10344" y="7094"/>
                </a:cubicBezTo>
              </a:path>
              <a:path w="15827" h="3523">
                <a:moveTo>
                  <a:pt x="10592" y="6672"/>
                </a:moveTo>
                <a:cubicBezTo>
                  <a:pt x="10619" y="6635"/>
                  <a:pt x="10630" y="6609"/>
                  <a:pt x="10666" y="6573"/>
                </a:cubicBezTo>
                <a:cubicBezTo>
                  <a:pt x="10723" y="6516"/>
                  <a:pt x="10759" y="6524"/>
                  <a:pt x="10840" y="6524"/>
                </a:cubicBezTo>
                <a:cubicBezTo>
                  <a:pt x="10891" y="6524"/>
                  <a:pt x="10925" y="6543"/>
                  <a:pt x="10939" y="6573"/>
                </a:cubicBezTo>
                <a:cubicBezTo>
                  <a:pt x="10975" y="6652"/>
                  <a:pt x="10954" y="6730"/>
                  <a:pt x="10889" y="6796"/>
                </a:cubicBezTo>
                <a:cubicBezTo>
                  <a:pt x="10854" y="6831"/>
                  <a:pt x="10802" y="6859"/>
                  <a:pt x="10765" y="6896"/>
                </a:cubicBezTo>
                <a:cubicBezTo>
                  <a:pt x="10740" y="6921"/>
                  <a:pt x="10732" y="6929"/>
                  <a:pt x="10716" y="6945"/>
                </a:cubicBezTo>
                <a:cubicBezTo>
                  <a:pt x="10758" y="6945"/>
                  <a:pt x="10766" y="6939"/>
                  <a:pt x="10790" y="6921"/>
                </a:cubicBezTo>
                <a:cubicBezTo>
                  <a:pt x="10828" y="6893"/>
                  <a:pt x="10841" y="6896"/>
                  <a:pt x="10889" y="6896"/>
                </a:cubicBezTo>
                <a:cubicBezTo>
                  <a:pt x="10912" y="6896"/>
                  <a:pt x="10939" y="6922"/>
                  <a:pt x="10964" y="6945"/>
                </a:cubicBezTo>
                <a:cubicBezTo>
                  <a:pt x="11005" y="6982"/>
                  <a:pt x="10988" y="7043"/>
                  <a:pt x="10988" y="7094"/>
                </a:cubicBezTo>
                <a:cubicBezTo>
                  <a:pt x="10988" y="7175"/>
                  <a:pt x="10997" y="7243"/>
                  <a:pt x="10964" y="7317"/>
                </a:cubicBezTo>
                <a:cubicBezTo>
                  <a:pt x="10931" y="7392"/>
                  <a:pt x="10886" y="7406"/>
                  <a:pt x="10815" y="7441"/>
                </a:cubicBezTo>
                <a:cubicBezTo>
                  <a:pt x="10748" y="7474"/>
                  <a:pt x="10659" y="7471"/>
                  <a:pt x="10592" y="7441"/>
                </a:cubicBezTo>
                <a:cubicBezTo>
                  <a:pt x="10585" y="7438"/>
                  <a:pt x="10492" y="7368"/>
                  <a:pt x="10492" y="7367"/>
                </a:cubicBezTo>
                <a:cubicBezTo>
                  <a:pt x="10515" y="7344"/>
                  <a:pt x="10523" y="7340"/>
                  <a:pt x="10517" y="7317"/>
                </a:cubicBezTo>
              </a:path>
              <a:path w="15827" h="3523">
                <a:moveTo>
                  <a:pt x="11286" y="6201"/>
                </a:moveTo>
                <a:cubicBezTo>
                  <a:pt x="11296" y="6241"/>
                  <a:pt x="11324" y="6264"/>
                  <a:pt x="11336" y="6300"/>
                </a:cubicBezTo>
                <a:cubicBezTo>
                  <a:pt x="11360" y="6371"/>
                  <a:pt x="11390" y="6460"/>
                  <a:pt x="11435" y="6524"/>
                </a:cubicBezTo>
                <a:cubicBezTo>
                  <a:pt x="11484" y="6592"/>
                  <a:pt x="11542" y="6647"/>
                  <a:pt x="11584" y="6722"/>
                </a:cubicBezTo>
                <a:cubicBezTo>
                  <a:pt x="11618" y="6783"/>
                  <a:pt x="11673" y="6835"/>
                  <a:pt x="11733" y="6871"/>
                </a:cubicBezTo>
                <a:cubicBezTo>
                  <a:pt x="11745" y="6878"/>
                  <a:pt x="11835" y="6949"/>
                  <a:pt x="11857" y="6921"/>
                </a:cubicBezTo>
                <a:cubicBezTo>
                  <a:pt x="11857" y="6896"/>
                  <a:pt x="11857" y="6888"/>
                  <a:pt x="11857" y="6871"/>
                </a:cubicBezTo>
              </a:path>
              <a:path w="15827" h="3523">
                <a:moveTo>
                  <a:pt x="11782" y="6201"/>
                </a:moveTo>
                <a:cubicBezTo>
                  <a:pt x="11782" y="6284"/>
                  <a:pt x="11774" y="6348"/>
                  <a:pt x="11733" y="6424"/>
                </a:cubicBezTo>
                <a:cubicBezTo>
                  <a:pt x="11671" y="6540"/>
                  <a:pt x="11577" y="6639"/>
                  <a:pt x="11509" y="6747"/>
                </a:cubicBezTo>
                <a:cubicBezTo>
                  <a:pt x="11471" y="6807"/>
                  <a:pt x="11427" y="6864"/>
                  <a:pt x="11385" y="6921"/>
                </a:cubicBezTo>
                <a:cubicBezTo>
                  <a:pt x="11361" y="6953"/>
                  <a:pt x="11349" y="7008"/>
                  <a:pt x="11336" y="7045"/>
                </a:cubicBezTo>
                <a:cubicBezTo>
                  <a:pt x="11322" y="7087"/>
                  <a:pt x="11322" y="7086"/>
                  <a:pt x="11311" y="7119"/>
                </a:cubicBezTo>
              </a:path>
              <a:path w="15827" h="3523">
                <a:moveTo>
                  <a:pt x="12030" y="6548"/>
                </a:moveTo>
                <a:cubicBezTo>
                  <a:pt x="12030" y="6565"/>
                  <a:pt x="12012" y="6570"/>
                  <a:pt x="12055" y="6573"/>
                </a:cubicBezTo>
                <a:cubicBezTo>
                  <a:pt x="12122" y="6578"/>
                  <a:pt x="12183" y="6548"/>
                  <a:pt x="12254" y="6548"/>
                </a:cubicBezTo>
                <a:cubicBezTo>
                  <a:pt x="12344" y="6548"/>
                  <a:pt x="12417" y="6529"/>
                  <a:pt x="12502" y="6524"/>
                </a:cubicBezTo>
                <a:cubicBezTo>
                  <a:pt x="12543" y="6522"/>
                  <a:pt x="12634" y="6524"/>
                  <a:pt x="12601" y="6499"/>
                </a:cubicBezTo>
                <a:cubicBezTo>
                  <a:pt x="12593" y="6499"/>
                  <a:pt x="12584" y="6499"/>
                  <a:pt x="12576" y="6499"/>
                </a:cubicBezTo>
              </a:path>
              <a:path w="15827" h="3523">
                <a:moveTo>
                  <a:pt x="12849" y="5680"/>
                </a:moveTo>
                <a:cubicBezTo>
                  <a:pt x="12849" y="5747"/>
                  <a:pt x="12832" y="5793"/>
                  <a:pt x="12824" y="5854"/>
                </a:cubicBezTo>
                <a:cubicBezTo>
                  <a:pt x="12816" y="5915"/>
                  <a:pt x="12799" y="5946"/>
                  <a:pt x="12799" y="6003"/>
                </a:cubicBezTo>
                <a:cubicBezTo>
                  <a:pt x="12799" y="6054"/>
                  <a:pt x="12814" y="6056"/>
                  <a:pt x="12824" y="6077"/>
                </a:cubicBezTo>
                <a:cubicBezTo>
                  <a:pt x="12824" y="6085"/>
                  <a:pt x="12824" y="6094"/>
                  <a:pt x="12824" y="6102"/>
                </a:cubicBezTo>
                <a:cubicBezTo>
                  <a:pt x="12862" y="6073"/>
                  <a:pt x="12875" y="6077"/>
                  <a:pt x="12923" y="6077"/>
                </a:cubicBezTo>
                <a:cubicBezTo>
                  <a:pt x="12975" y="6077"/>
                  <a:pt x="13058" y="6095"/>
                  <a:pt x="13072" y="6052"/>
                </a:cubicBezTo>
              </a:path>
              <a:path w="15827" h="3523">
                <a:moveTo>
                  <a:pt x="13097" y="5606"/>
                </a:moveTo>
                <a:cubicBezTo>
                  <a:pt x="13071" y="5697"/>
                  <a:pt x="13036" y="5790"/>
                  <a:pt x="13022" y="5879"/>
                </a:cubicBezTo>
                <a:cubicBezTo>
                  <a:pt x="13009" y="5959"/>
                  <a:pt x="13025" y="6037"/>
                  <a:pt x="13047" y="6102"/>
                </a:cubicBezTo>
                <a:cubicBezTo>
                  <a:pt x="13057" y="6132"/>
                  <a:pt x="13085" y="6225"/>
                  <a:pt x="13072" y="6251"/>
                </a:cubicBezTo>
                <a:cubicBezTo>
                  <a:pt x="13047" y="6251"/>
                  <a:pt x="13039" y="6251"/>
                  <a:pt x="13047" y="6276"/>
                </a:cubicBezTo>
              </a:path>
              <a:path w="15827" h="3523">
                <a:moveTo>
                  <a:pt x="12898" y="6499"/>
                </a:moveTo>
                <a:cubicBezTo>
                  <a:pt x="12942" y="6490"/>
                  <a:pt x="13004" y="6487"/>
                  <a:pt x="13047" y="6474"/>
                </a:cubicBezTo>
                <a:cubicBezTo>
                  <a:pt x="13115" y="6454"/>
                  <a:pt x="13174" y="6428"/>
                  <a:pt x="13246" y="6424"/>
                </a:cubicBezTo>
                <a:cubicBezTo>
                  <a:pt x="13290" y="6424"/>
                  <a:pt x="13304" y="6421"/>
                  <a:pt x="13320" y="6449"/>
                </a:cubicBezTo>
              </a:path>
              <a:path w="15827" h="3523">
                <a:moveTo>
                  <a:pt x="12973" y="6772"/>
                </a:moveTo>
                <a:cubicBezTo>
                  <a:pt x="13009" y="6763"/>
                  <a:pt x="13039" y="6729"/>
                  <a:pt x="13072" y="6722"/>
                </a:cubicBezTo>
                <a:cubicBezTo>
                  <a:pt x="13143" y="6707"/>
                  <a:pt x="13164" y="6703"/>
                  <a:pt x="13221" y="6722"/>
                </a:cubicBezTo>
                <a:cubicBezTo>
                  <a:pt x="13251" y="6732"/>
                  <a:pt x="13260" y="6782"/>
                  <a:pt x="13246" y="6821"/>
                </a:cubicBezTo>
                <a:cubicBezTo>
                  <a:pt x="13226" y="6876"/>
                  <a:pt x="13185" y="6905"/>
                  <a:pt x="13146" y="6945"/>
                </a:cubicBezTo>
                <a:cubicBezTo>
                  <a:pt x="13108" y="6984"/>
                  <a:pt x="13062" y="7005"/>
                  <a:pt x="13022" y="7045"/>
                </a:cubicBezTo>
                <a:cubicBezTo>
                  <a:pt x="13068" y="7030"/>
                  <a:pt x="13046" y="7020"/>
                  <a:pt x="13122" y="7020"/>
                </a:cubicBezTo>
                <a:cubicBezTo>
                  <a:pt x="13155" y="7020"/>
                  <a:pt x="13196" y="7047"/>
                  <a:pt x="13221" y="7069"/>
                </a:cubicBezTo>
                <a:cubicBezTo>
                  <a:pt x="13265" y="7108"/>
                  <a:pt x="13279" y="7139"/>
                  <a:pt x="13295" y="7193"/>
                </a:cubicBezTo>
                <a:cubicBezTo>
                  <a:pt x="13317" y="7265"/>
                  <a:pt x="13320" y="7311"/>
                  <a:pt x="13271" y="7367"/>
                </a:cubicBezTo>
                <a:cubicBezTo>
                  <a:pt x="13235" y="7409"/>
                  <a:pt x="13198" y="7417"/>
                  <a:pt x="13146" y="7417"/>
                </a:cubicBezTo>
                <a:cubicBezTo>
                  <a:pt x="13081" y="7417"/>
                  <a:pt x="13073" y="7409"/>
                  <a:pt x="13022" y="7392"/>
                </a:cubicBezTo>
                <a:cubicBezTo>
                  <a:pt x="12998" y="7392"/>
                  <a:pt x="12990" y="7392"/>
                  <a:pt x="12998" y="7367"/>
                </a:cubicBezTo>
              </a:path>
              <a:path w="15827" h="3523">
                <a:moveTo>
                  <a:pt x="13593" y="6201"/>
                </a:moveTo>
                <a:cubicBezTo>
                  <a:pt x="13677" y="6148"/>
                  <a:pt x="13746" y="6117"/>
                  <a:pt x="13841" y="6102"/>
                </a:cubicBezTo>
                <a:cubicBezTo>
                  <a:pt x="13898" y="6093"/>
                  <a:pt x="13960" y="6083"/>
                  <a:pt x="14015" y="6077"/>
                </a:cubicBezTo>
                <a:cubicBezTo>
                  <a:pt x="14039" y="6077"/>
                  <a:pt x="14048" y="6077"/>
                  <a:pt x="14064" y="6077"/>
                </a:cubicBezTo>
              </a:path>
              <a:path w="15827" h="3523">
                <a:moveTo>
                  <a:pt x="13692" y="6276"/>
                </a:moveTo>
                <a:cubicBezTo>
                  <a:pt x="13669" y="6407"/>
                  <a:pt x="13673" y="6434"/>
                  <a:pt x="13692" y="6548"/>
                </a:cubicBezTo>
                <a:cubicBezTo>
                  <a:pt x="13702" y="6606"/>
                  <a:pt x="13689" y="6675"/>
                  <a:pt x="13742" y="6722"/>
                </a:cubicBezTo>
                <a:cubicBezTo>
                  <a:pt x="13767" y="6722"/>
                  <a:pt x="13775" y="6722"/>
                  <a:pt x="13767" y="6747"/>
                </a:cubicBezTo>
              </a:path>
              <a:path w="15827" h="3523">
                <a:moveTo>
                  <a:pt x="13940" y="6226"/>
                </a:moveTo>
                <a:cubicBezTo>
                  <a:pt x="13940" y="6337"/>
                  <a:pt x="13909" y="6459"/>
                  <a:pt x="13990" y="6524"/>
                </a:cubicBezTo>
                <a:cubicBezTo>
                  <a:pt x="14054" y="6575"/>
                  <a:pt x="14118" y="6581"/>
                  <a:pt x="14188" y="6623"/>
                </a:cubicBezTo>
                <a:cubicBezTo>
                  <a:pt x="14211" y="6646"/>
                  <a:pt x="14215" y="6654"/>
                  <a:pt x="14238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35000" y="3598920"/>
            <a:ext cx="1509840" cy="938160"/>
          </a:xfrm>
          <a:custGeom>
            <a:avLst/>
            <a:gdLst/>
            <a:ahLst/>
            <a:rect l="l" t="t" r="r" b="b"/>
            <a:pathLst>
              <a:path w="4193" h="2606">
                <a:moveTo>
                  <a:pt x="2977" y="10195"/>
                </a:moveTo>
                <a:cubicBezTo>
                  <a:pt x="2988" y="10091"/>
                  <a:pt x="2991" y="10143"/>
                  <a:pt x="3051" y="10071"/>
                </a:cubicBezTo>
                <a:cubicBezTo>
                  <a:pt x="3074" y="10043"/>
                  <a:pt x="3137" y="10080"/>
                  <a:pt x="3150" y="10046"/>
                </a:cubicBezTo>
                <a:cubicBezTo>
                  <a:pt x="3150" y="10004"/>
                  <a:pt x="3142" y="9988"/>
                  <a:pt x="3175" y="9996"/>
                </a:cubicBezTo>
                <a:cubicBezTo>
                  <a:pt x="3185" y="10001"/>
                  <a:pt x="3269" y="10040"/>
                  <a:pt x="3274" y="10046"/>
                </a:cubicBezTo>
                <a:cubicBezTo>
                  <a:pt x="3317" y="10100"/>
                  <a:pt x="3324" y="10144"/>
                  <a:pt x="3324" y="10220"/>
                </a:cubicBezTo>
                <a:cubicBezTo>
                  <a:pt x="3324" y="10339"/>
                  <a:pt x="3336" y="10457"/>
                  <a:pt x="3299" y="10567"/>
                </a:cubicBezTo>
                <a:cubicBezTo>
                  <a:pt x="3263" y="10674"/>
                  <a:pt x="3228" y="10745"/>
                  <a:pt x="3175" y="10840"/>
                </a:cubicBezTo>
                <a:cubicBezTo>
                  <a:pt x="3126" y="10927"/>
                  <a:pt x="3098" y="10929"/>
                  <a:pt x="3026" y="10964"/>
                </a:cubicBezTo>
                <a:cubicBezTo>
                  <a:pt x="2962" y="10995"/>
                  <a:pt x="2954" y="10991"/>
                  <a:pt x="2902" y="10939"/>
                </a:cubicBezTo>
                <a:cubicBezTo>
                  <a:pt x="2865" y="10902"/>
                  <a:pt x="2877" y="10866"/>
                  <a:pt x="2877" y="10815"/>
                </a:cubicBezTo>
                <a:cubicBezTo>
                  <a:pt x="2877" y="10757"/>
                  <a:pt x="2907" y="10738"/>
                  <a:pt x="2927" y="10691"/>
                </a:cubicBezTo>
                <a:cubicBezTo>
                  <a:pt x="2957" y="10622"/>
                  <a:pt x="2983" y="10641"/>
                  <a:pt x="3051" y="10641"/>
                </a:cubicBezTo>
                <a:cubicBezTo>
                  <a:pt x="3127" y="10641"/>
                  <a:pt x="3135" y="10649"/>
                  <a:pt x="3175" y="10716"/>
                </a:cubicBezTo>
                <a:cubicBezTo>
                  <a:pt x="3199" y="10755"/>
                  <a:pt x="3227" y="10807"/>
                  <a:pt x="3249" y="10840"/>
                </a:cubicBezTo>
                <a:cubicBezTo>
                  <a:pt x="3278" y="10883"/>
                  <a:pt x="3320" y="10879"/>
                  <a:pt x="3349" y="10864"/>
                </a:cubicBezTo>
              </a:path>
              <a:path w="4193" h="2606">
                <a:moveTo>
                  <a:pt x="3646" y="10195"/>
                </a:moveTo>
                <a:cubicBezTo>
                  <a:pt x="3734" y="10195"/>
                  <a:pt x="4246" y="10225"/>
                  <a:pt x="4217" y="10145"/>
                </a:cubicBezTo>
                <a:cubicBezTo>
                  <a:pt x="4209" y="10137"/>
                  <a:pt x="4200" y="10128"/>
                  <a:pt x="4192" y="10120"/>
                </a:cubicBezTo>
              </a:path>
              <a:path w="4193" h="2606">
                <a:moveTo>
                  <a:pt x="3820" y="10145"/>
                </a:moveTo>
                <a:cubicBezTo>
                  <a:pt x="3804" y="10253"/>
                  <a:pt x="3817" y="10386"/>
                  <a:pt x="3795" y="10492"/>
                </a:cubicBezTo>
                <a:cubicBezTo>
                  <a:pt x="3775" y="10587"/>
                  <a:pt x="3770" y="10667"/>
                  <a:pt x="3770" y="10765"/>
                </a:cubicBezTo>
                <a:cubicBezTo>
                  <a:pt x="3770" y="10805"/>
                  <a:pt x="3800" y="10855"/>
                  <a:pt x="3820" y="10889"/>
                </a:cubicBezTo>
                <a:cubicBezTo>
                  <a:pt x="3831" y="10855"/>
                  <a:pt x="3833" y="10866"/>
                  <a:pt x="3870" y="10840"/>
                </a:cubicBezTo>
              </a:path>
              <a:path w="4193" h="2606">
                <a:moveTo>
                  <a:pt x="4068" y="10269"/>
                </a:moveTo>
                <a:cubicBezTo>
                  <a:pt x="4088" y="10361"/>
                  <a:pt x="4068" y="10340"/>
                  <a:pt x="4068" y="10443"/>
                </a:cubicBezTo>
                <a:cubicBezTo>
                  <a:pt x="4068" y="10560"/>
                  <a:pt x="4067" y="10637"/>
                  <a:pt x="4118" y="10740"/>
                </a:cubicBezTo>
                <a:cubicBezTo>
                  <a:pt x="4141" y="10787"/>
                  <a:pt x="4175" y="10856"/>
                  <a:pt x="4217" y="10889"/>
                </a:cubicBezTo>
                <a:cubicBezTo>
                  <a:pt x="4283" y="10941"/>
                  <a:pt x="4279" y="10939"/>
                  <a:pt x="4341" y="10939"/>
                </a:cubicBezTo>
              </a:path>
              <a:path w="4193" h="2606">
                <a:moveTo>
                  <a:pt x="2977" y="11112"/>
                </a:moveTo>
                <a:cubicBezTo>
                  <a:pt x="3112" y="11135"/>
                  <a:pt x="3239" y="11119"/>
                  <a:pt x="3373" y="11137"/>
                </a:cubicBezTo>
                <a:cubicBezTo>
                  <a:pt x="3532" y="11158"/>
                  <a:pt x="3683" y="11162"/>
                  <a:pt x="3845" y="11162"/>
                </a:cubicBezTo>
                <a:cubicBezTo>
                  <a:pt x="4019" y="11162"/>
                  <a:pt x="4490" y="11162"/>
                  <a:pt x="4316" y="11162"/>
                </a:cubicBezTo>
                <a:cubicBezTo>
                  <a:pt x="4308" y="11162"/>
                  <a:pt x="4299" y="11162"/>
                  <a:pt x="4291" y="11162"/>
                </a:cubicBezTo>
              </a:path>
              <a:path w="4193" h="2606">
                <a:moveTo>
                  <a:pt x="3597" y="11460"/>
                </a:moveTo>
                <a:cubicBezTo>
                  <a:pt x="3571" y="11579"/>
                  <a:pt x="3572" y="11683"/>
                  <a:pt x="3572" y="11807"/>
                </a:cubicBezTo>
                <a:cubicBezTo>
                  <a:pt x="3572" y="11972"/>
                  <a:pt x="3572" y="12138"/>
                  <a:pt x="3572" y="12303"/>
                </a:cubicBezTo>
                <a:cubicBezTo>
                  <a:pt x="3579" y="12267"/>
                  <a:pt x="3583" y="12188"/>
                  <a:pt x="3597" y="12154"/>
                </a:cubicBezTo>
                <a:cubicBezTo>
                  <a:pt x="3614" y="12112"/>
                  <a:pt x="3644" y="12036"/>
                  <a:pt x="3671" y="12005"/>
                </a:cubicBezTo>
                <a:cubicBezTo>
                  <a:pt x="3726" y="11942"/>
                  <a:pt x="3789" y="11864"/>
                  <a:pt x="3870" y="11857"/>
                </a:cubicBezTo>
                <a:cubicBezTo>
                  <a:pt x="3911" y="11854"/>
                  <a:pt x="3976" y="11891"/>
                  <a:pt x="3994" y="11931"/>
                </a:cubicBezTo>
                <a:cubicBezTo>
                  <a:pt x="4014" y="11976"/>
                  <a:pt x="4052" y="12053"/>
                  <a:pt x="4043" y="12105"/>
                </a:cubicBezTo>
                <a:cubicBezTo>
                  <a:pt x="4031" y="12174"/>
                  <a:pt x="4014" y="12270"/>
                  <a:pt x="3969" y="12328"/>
                </a:cubicBezTo>
                <a:cubicBezTo>
                  <a:pt x="3907" y="12408"/>
                  <a:pt x="3834" y="12405"/>
                  <a:pt x="3746" y="12427"/>
                </a:cubicBezTo>
                <a:cubicBezTo>
                  <a:pt x="3679" y="12444"/>
                  <a:pt x="3563" y="12449"/>
                  <a:pt x="3497" y="12402"/>
                </a:cubicBezTo>
                <a:cubicBezTo>
                  <a:pt x="3469" y="12382"/>
                  <a:pt x="3512" y="12319"/>
                  <a:pt x="3522" y="12303"/>
                </a:cubicBezTo>
              </a:path>
              <a:path w="4193" h="2606">
                <a:moveTo>
                  <a:pt x="4812" y="11286"/>
                </a:moveTo>
                <a:cubicBezTo>
                  <a:pt x="4941" y="11270"/>
                  <a:pt x="5055" y="11261"/>
                  <a:pt x="5184" y="11261"/>
                </a:cubicBezTo>
                <a:cubicBezTo>
                  <a:pt x="5237" y="11261"/>
                  <a:pt x="5240" y="11275"/>
                  <a:pt x="5283" y="11286"/>
                </a:cubicBezTo>
              </a:path>
              <a:path w="4193" h="2606">
                <a:moveTo>
                  <a:pt x="4936" y="11460"/>
                </a:moveTo>
                <a:cubicBezTo>
                  <a:pt x="4990" y="11523"/>
                  <a:pt x="5063" y="11519"/>
                  <a:pt x="5159" y="11534"/>
                </a:cubicBezTo>
                <a:cubicBezTo>
                  <a:pt x="5182" y="11538"/>
                  <a:pt x="5210" y="11534"/>
                  <a:pt x="5234" y="11534"/>
                </a:cubicBezTo>
                <a:cubicBezTo>
                  <a:pt x="5221" y="11496"/>
                  <a:pt x="5209" y="11514"/>
                  <a:pt x="5209" y="11460"/>
                </a:cubicBezTo>
              </a:path>
              <a:path w="4193" h="2606">
                <a:moveTo>
                  <a:pt x="5606" y="10418"/>
                </a:moveTo>
                <a:cubicBezTo>
                  <a:pt x="5655" y="10344"/>
                  <a:pt x="5700" y="10391"/>
                  <a:pt x="5755" y="10344"/>
                </a:cubicBezTo>
                <a:cubicBezTo>
                  <a:pt x="5830" y="10280"/>
                  <a:pt x="6055" y="10251"/>
                  <a:pt x="6127" y="10344"/>
                </a:cubicBezTo>
                <a:cubicBezTo>
                  <a:pt x="6193" y="10429"/>
                  <a:pt x="6139" y="10467"/>
                  <a:pt x="6102" y="10517"/>
                </a:cubicBezTo>
                <a:cubicBezTo>
                  <a:pt x="6050" y="10588"/>
                  <a:pt x="5985" y="10600"/>
                  <a:pt x="5928" y="10641"/>
                </a:cubicBezTo>
                <a:cubicBezTo>
                  <a:pt x="5866" y="10685"/>
                  <a:pt x="5823" y="10720"/>
                  <a:pt x="5755" y="10740"/>
                </a:cubicBezTo>
                <a:cubicBezTo>
                  <a:pt x="5747" y="10740"/>
                  <a:pt x="5738" y="10740"/>
                  <a:pt x="5730" y="10740"/>
                </a:cubicBezTo>
                <a:cubicBezTo>
                  <a:pt x="5803" y="10740"/>
                  <a:pt x="5868" y="10733"/>
                  <a:pt x="5928" y="10765"/>
                </a:cubicBezTo>
                <a:cubicBezTo>
                  <a:pt x="5999" y="10803"/>
                  <a:pt x="6052" y="10820"/>
                  <a:pt x="6077" y="10914"/>
                </a:cubicBezTo>
                <a:cubicBezTo>
                  <a:pt x="6091" y="10967"/>
                  <a:pt x="6070" y="11052"/>
                  <a:pt x="6028" y="11088"/>
                </a:cubicBezTo>
                <a:cubicBezTo>
                  <a:pt x="5983" y="11126"/>
                  <a:pt x="5884" y="11153"/>
                  <a:pt x="5829" y="11162"/>
                </a:cubicBezTo>
                <a:cubicBezTo>
                  <a:pt x="5785" y="11169"/>
                  <a:pt x="5714" y="11158"/>
                  <a:pt x="5680" y="11137"/>
                </a:cubicBezTo>
                <a:cubicBezTo>
                  <a:pt x="5643" y="11115"/>
                  <a:pt x="5655" y="11075"/>
                  <a:pt x="5655" y="11038"/>
                </a:cubicBezTo>
              </a:path>
              <a:path w="4193" h="2606">
                <a:moveTo>
                  <a:pt x="6400" y="10368"/>
                </a:moveTo>
                <a:cubicBezTo>
                  <a:pt x="6552" y="10350"/>
                  <a:pt x="6693" y="10344"/>
                  <a:pt x="6846" y="10344"/>
                </a:cubicBezTo>
                <a:cubicBezTo>
                  <a:pt x="6924" y="10344"/>
                  <a:pt x="7039" y="10379"/>
                  <a:pt x="7069" y="10294"/>
                </a:cubicBezTo>
                <a:cubicBezTo>
                  <a:pt x="7069" y="10286"/>
                  <a:pt x="7069" y="10277"/>
                  <a:pt x="7069" y="10269"/>
                </a:cubicBezTo>
              </a:path>
              <a:path w="4193" h="2606">
                <a:moveTo>
                  <a:pt x="6722" y="10344"/>
                </a:moveTo>
                <a:cubicBezTo>
                  <a:pt x="6677" y="10496"/>
                  <a:pt x="6659" y="10621"/>
                  <a:pt x="6623" y="10765"/>
                </a:cubicBezTo>
                <a:cubicBezTo>
                  <a:pt x="6602" y="10849"/>
                  <a:pt x="6592" y="10931"/>
                  <a:pt x="6573" y="11013"/>
                </a:cubicBezTo>
                <a:cubicBezTo>
                  <a:pt x="6566" y="11043"/>
                  <a:pt x="6573" y="11081"/>
                  <a:pt x="6573" y="11112"/>
                </a:cubicBezTo>
                <a:cubicBezTo>
                  <a:pt x="6609" y="11101"/>
                  <a:pt x="6595" y="11076"/>
                  <a:pt x="6623" y="11038"/>
                </a:cubicBezTo>
              </a:path>
              <a:path w="4193" h="2606">
                <a:moveTo>
                  <a:pt x="6896" y="10418"/>
                </a:moveTo>
                <a:cubicBezTo>
                  <a:pt x="6925" y="10515"/>
                  <a:pt x="6899" y="10543"/>
                  <a:pt x="6896" y="10641"/>
                </a:cubicBezTo>
                <a:cubicBezTo>
                  <a:pt x="6892" y="10759"/>
                  <a:pt x="6880" y="10826"/>
                  <a:pt x="6896" y="10939"/>
                </a:cubicBezTo>
                <a:cubicBezTo>
                  <a:pt x="6908" y="11021"/>
                  <a:pt x="6953" y="11084"/>
                  <a:pt x="6970" y="11162"/>
                </a:cubicBezTo>
                <a:cubicBezTo>
                  <a:pt x="6981" y="11213"/>
                  <a:pt x="6987" y="11234"/>
                  <a:pt x="6995" y="11286"/>
                </a:cubicBezTo>
              </a:path>
              <a:path w="4193" h="2606">
                <a:moveTo>
                  <a:pt x="5978" y="11286"/>
                </a:moveTo>
                <a:cubicBezTo>
                  <a:pt x="6066" y="11286"/>
                  <a:pt x="6139" y="11308"/>
                  <a:pt x="6226" y="11311"/>
                </a:cubicBezTo>
                <a:cubicBezTo>
                  <a:pt x="6386" y="11316"/>
                  <a:pt x="6537" y="11332"/>
                  <a:pt x="6697" y="11336"/>
                </a:cubicBezTo>
                <a:cubicBezTo>
                  <a:pt x="6765" y="11338"/>
                  <a:pt x="6807" y="11353"/>
                  <a:pt x="6871" y="11361"/>
                </a:cubicBezTo>
              </a:path>
              <a:path w="4193" h="2606">
                <a:moveTo>
                  <a:pt x="6524" y="11559"/>
                </a:moveTo>
                <a:cubicBezTo>
                  <a:pt x="6408" y="11675"/>
                  <a:pt x="6360" y="11725"/>
                  <a:pt x="6251" y="11807"/>
                </a:cubicBezTo>
                <a:cubicBezTo>
                  <a:pt x="6222" y="11829"/>
                  <a:pt x="6208" y="11859"/>
                  <a:pt x="6201" y="11881"/>
                </a:cubicBezTo>
                <a:cubicBezTo>
                  <a:pt x="6252" y="11932"/>
                  <a:pt x="6264" y="11910"/>
                  <a:pt x="6325" y="11931"/>
                </a:cubicBezTo>
                <a:cubicBezTo>
                  <a:pt x="6403" y="11957"/>
                  <a:pt x="6490" y="11970"/>
                  <a:pt x="6573" y="11981"/>
                </a:cubicBezTo>
                <a:cubicBezTo>
                  <a:pt x="6660" y="11993"/>
                  <a:pt x="6739" y="11979"/>
                  <a:pt x="6821" y="11956"/>
                </a:cubicBezTo>
              </a:path>
              <a:path w="4193" h="2606">
                <a:moveTo>
                  <a:pt x="6821" y="11534"/>
                </a:moveTo>
                <a:cubicBezTo>
                  <a:pt x="6805" y="11658"/>
                  <a:pt x="6776" y="11783"/>
                  <a:pt x="6772" y="11906"/>
                </a:cubicBezTo>
                <a:cubicBezTo>
                  <a:pt x="6768" y="12023"/>
                  <a:pt x="6780" y="12161"/>
                  <a:pt x="6796" y="12278"/>
                </a:cubicBezTo>
                <a:cubicBezTo>
                  <a:pt x="6809" y="12377"/>
                  <a:pt x="6856" y="12459"/>
                  <a:pt x="6871" y="12551"/>
                </a:cubicBezTo>
                <a:cubicBezTo>
                  <a:pt x="6871" y="12568"/>
                  <a:pt x="6871" y="12584"/>
                  <a:pt x="6871" y="12601"/>
                </a:cubicBezTo>
              </a:path>
              <a:path w="4193" h="2606">
                <a:moveTo>
                  <a:pt x="4465" y="10939"/>
                </a:moveTo>
                <a:cubicBezTo>
                  <a:pt x="4524" y="10986"/>
                  <a:pt x="4554" y="11043"/>
                  <a:pt x="4614" y="11088"/>
                </a:cubicBezTo>
                <a:cubicBezTo>
                  <a:pt x="4692" y="11147"/>
                  <a:pt x="4786" y="11196"/>
                  <a:pt x="4862" y="11261"/>
                </a:cubicBezTo>
                <a:cubicBezTo>
                  <a:pt x="4967" y="11351"/>
                  <a:pt x="5076" y="11424"/>
                  <a:pt x="5184" y="11509"/>
                </a:cubicBezTo>
                <a:cubicBezTo>
                  <a:pt x="5296" y="11597"/>
                  <a:pt x="5455" y="11664"/>
                  <a:pt x="5556" y="11757"/>
                </a:cubicBezTo>
                <a:cubicBezTo>
                  <a:pt x="5644" y="11838"/>
                  <a:pt x="5719" y="11922"/>
                  <a:pt x="5829" y="11981"/>
                </a:cubicBezTo>
                <a:cubicBezTo>
                  <a:pt x="5864" y="12000"/>
                  <a:pt x="5865" y="11997"/>
                  <a:pt x="5904" y="12005"/>
                </a:cubicBezTo>
              </a:path>
              <a:path w="4193" h="2606">
                <a:moveTo>
                  <a:pt x="5755" y="11063"/>
                </a:moveTo>
                <a:cubicBezTo>
                  <a:pt x="5702" y="11148"/>
                  <a:pt x="5632" y="11241"/>
                  <a:pt x="5556" y="11311"/>
                </a:cubicBezTo>
                <a:cubicBezTo>
                  <a:pt x="5455" y="11404"/>
                  <a:pt x="5346" y="11482"/>
                  <a:pt x="5234" y="11559"/>
                </a:cubicBezTo>
                <a:cubicBezTo>
                  <a:pt x="5127" y="11633"/>
                  <a:pt x="5010" y="11723"/>
                  <a:pt x="4911" y="11807"/>
                </a:cubicBezTo>
                <a:cubicBezTo>
                  <a:pt x="4835" y="11872"/>
                  <a:pt x="4763" y="11943"/>
                  <a:pt x="4688" y="12005"/>
                </a:cubicBezTo>
                <a:cubicBezTo>
                  <a:pt x="4644" y="12042"/>
                  <a:pt x="4576" y="12087"/>
                  <a:pt x="4539" y="12129"/>
                </a:cubicBezTo>
                <a:cubicBezTo>
                  <a:pt x="4522" y="12148"/>
                  <a:pt x="4503" y="12189"/>
                  <a:pt x="4490" y="12204"/>
                </a:cubicBezTo>
                <a:cubicBezTo>
                  <a:pt x="4468" y="12229"/>
                  <a:pt x="4470" y="12240"/>
                  <a:pt x="4440" y="12254"/>
                </a:cubicBezTo>
                <a:cubicBezTo>
                  <a:pt x="4432" y="12254"/>
                  <a:pt x="4423" y="12254"/>
                  <a:pt x="4415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41880" y="4973760"/>
            <a:ext cx="1884240" cy="1482480"/>
          </a:xfrm>
          <a:custGeom>
            <a:avLst/>
            <a:gdLst/>
            <a:ahLst/>
            <a:rect l="l" t="t" r="r" b="b"/>
            <a:pathLst>
              <a:path w="5235" h="4119">
                <a:moveTo>
                  <a:pt x="12378" y="14436"/>
                </a:moveTo>
                <a:cubicBezTo>
                  <a:pt x="12433" y="14394"/>
                  <a:pt x="12469" y="14378"/>
                  <a:pt x="12477" y="14312"/>
                </a:cubicBezTo>
                <a:cubicBezTo>
                  <a:pt x="12481" y="14274"/>
                  <a:pt x="12467" y="14247"/>
                  <a:pt x="12427" y="14238"/>
                </a:cubicBezTo>
                <a:cubicBezTo>
                  <a:pt x="12356" y="14223"/>
                  <a:pt x="12289" y="14231"/>
                  <a:pt x="12229" y="14238"/>
                </a:cubicBezTo>
                <a:cubicBezTo>
                  <a:pt x="12140" y="14248"/>
                  <a:pt x="12140" y="14240"/>
                  <a:pt x="12080" y="14312"/>
                </a:cubicBezTo>
                <a:cubicBezTo>
                  <a:pt x="12040" y="14360"/>
                  <a:pt x="12049" y="14408"/>
                  <a:pt x="12080" y="14461"/>
                </a:cubicBezTo>
                <a:cubicBezTo>
                  <a:pt x="12153" y="14586"/>
                  <a:pt x="12240" y="14703"/>
                  <a:pt x="12303" y="14833"/>
                </a:cubicBezTo>
                <a:cubicBezTo>
                  <a:pt x="12338" y="14905"/>
                  <a:pt x="12402" y="14995"/>
                  <a:pt x="12378" y="15081"/>
                </a:cubicBezTo>
                <a:cubicBezTo>
                  <a:pt x="12363" y="15134"/>
                  <a:pt x="12314" y="15194"/>
                  <a:pt x="12254" y="15180"/>
                </a:cubicBezTo>
                <a:cubicBezTo>
                  <a:pt x="12224" y="15173"/>
                  <a:pt x="12139" y="15115"/>
                  <a:pt x="12129" y="15081"/>
                </a:cubicBezTo>
                <a:cubicBezTo>
                  <a:pt x="12111" y="15020"/>
                  <a:pt x="12099" y="14988"/>
                  <a:pt x="12129" y="14932"/>
                </a:cubicBezTo>
                <a:cubicBezTo>
                  <a:pt x="12167" y="14860"/>
                  <a:pt x="12209" y="14823"/>
                  <a:pt x="12254" y="14759"/>
                </a:cubicBezTo>
                <a:cubicBezTo>
                  <a:pt x="12298" y="14696"/>
                  <a:pt x="12358" y="14647"/>
                  <a:pt x="12402" y="14585"/>
                </a:cubicBezTo>
                <a:cubicBezTo>
                  <a:pt x="12438" y="14535"/>
                  <a:pt x="12466" y="14511"/>
                  <a:pt x="12502" y="14461"/>
                </a:cubicBezTo>
              </a:path>
              <a:path w="5235" h="4119">
                <a:moveTo>
                  <a:pt x="12626" y="14263"/>
                </a:moveTo>
                <a:cubicBezTo>
                  <a:pt x="12704" y="14233"/>
                  <a:pt x="12746" y="14228"/>
                  <a:pt x="12824" y="14263"/>
                </a:cubicBezTo>
                <a:cubicBezTo>
                  <a:pt x="12905" y="14299"/>
                  <a:pt x="12918" y="14356"/>
                  <a:pt x="12923" y="14436"/>
                </a:cubicBezTo>
                <a:cubicBezTo>
                  <a:pt x="12925" y="14472"/>
                  <a:pt x="12835" y="14524"/>
                  <a:pt x="12799" y="14536"/>
                </a:cubicBezTo>
                <a:cubicBezTo>
                  <a:pt x="12759" y="14549"/>
                  <a:pt x="12736" y="14551"/>
                  <a:pt x="12725" y="14585"/>
                </a:cubicBezTo>
                <a:cubicBezTo>
                  <a:pt x="12732" y="14605"/>
                  <a:pt x="12798" y="14663"/>
                  <a:pt x="12824" y="14684"/>
                </a:cubicBezTo>
                <a:cubicBezTo>
                  <a:pt x="12876" y="14725"/>
                  <a:pt x="12935" y="14783"/>
                  <a:pt x="12948" y="14858"/>
                </a:cubicBezTo>
                <a:cubicBezTo>
                  <a:pt x="12962" y="14939"/>
                  <a:pt x="12951" y="14979"/>
                  <a:pt x="12898" y="15032"/>
                </a:cubicBezTo>
                <a:cubicBezTo>
                  <a:pt x="12831" y="15099"/>
                  <a:pt x="12788" y="15106"/>
                  <a:pt x="12700" y="15106"/>
                </a:cubicBezTo>
                <a:cubicBezTo>
                  <a:pt x="12653" y="15106"/>
                  <a:pt x="12587" y="15124"/>
                  <a:pt x="12576" y="15081"/>
                </a:cubicBezTo>
                <a:cubicBezTo>
                  <a:pt x="12576" y="15073"/>
                  <a:pt x="12576" y="15064"/>
                  <a:pt x="12576" y="15056"/>
                </a:cubicBezTo>
              </a:path>
              <a:path w="5235" h="4119">
                <a:moveTo>
                  <a:pt x="13171" y="14362"/>
                </a:moveTo>
                <a:cubicBezTo>
                  <a:pt x="13329" y="14303"/>
                  <a:pt x="13408" y="14268"/>
                  <a:pt x="13568" y="14312"/>
                </a:cubicBezTo>
                <a:cubicBezTo>
                  <a:pt x="13616" y="14336"/>
                  <a:pt x="13630" y="14344"/>
                  <a:pt x="13667" y="14337"/>
                </a:cubicBezTo>
              </a:path>
              <a:path w="5235" h="4119">
                <a:moveTo>
                  <a:pt x="13444" y="14288"/>
                </a:moveTo>
                <a:cubicBezTo>
                  <a:pt x="13454" y="14327"/>
                  <a:pt x="13482" y="14351"/>
                  <a:pt x="13494" y="14387"/>
                </a:cubicBezTo>
                <a:cubicBezTo>
                  <a:pt x="13507" y="14426"/>
                  <a:pt x="13506" y="14397"/>
                  <a:pt x="13519" y="14436"/>
                </a:cubicBezTo>
              </a:path>
              <a:path w="5235" h="4119">
                <a:moveTo>
                  <a:pt x="12725" y="13816"/>
                </a:moveTo>
                <a:cubicBezTo>
                  <a:pt x="12764" y="13921"/>
                  <a:pt x="12725" y="13979"/>
                  <a:pt x="12700" y="14089"/>
                </a:cubicBezTo>
                <a:cubicBezTo>
                  <a:pt x="12664" y="14249"/>
                  <a:pt x="12616" y="14401"/>
                  <a:pt x="12576" y="14560"/>
                </a:cubicBezTo>
                <a:cubicBezTo>
                  <a:pt x="12528" y="14752"/>
                  <a:pt x="12472" y="14959"/>
                  <a:pt x="12452" y="15156"/>
                </a:cubicBezTo>
                <a:cubicBezTo>
                  <a:pt x="12439" y="15281"/>
                  <a:pt x="12416" y="15406"/>
                  <a:pt x="12402" y="15528"/>
                </a:cubicBezTo>
                <a:cubicBezTo>
                  <a:pt x="12402" y="15553"/>
                  <a:pt x="12402" y="15577"/>
                  <a:pt x="12402" y="15602"/>
                </a:cubicBezTo>
              </a:path>
              <a:path w="5235" h="4119">
                <a:moveTo>
                  <a:pt x="13444" y="14288"/>
                </a:moveTo>
                <a:cubicBezTo>
                  <a:pt x="13437" y="14399"/>
                  <a:pt x="13419" y="14498"/>
                  <a:pt x="13419" y="14610"/>
                </a:cubicBezTo>
                <a:cubicBezTo>
                  <a:pt x="13419" y="14825"/>
                  <a:pt x="13419" y="15040"/>
                  <a:pt x="13419" y="15255"/>
                </a:cubicBezTo>
              </a:path>
              <a:path w="5235" h="4119">
                <a:moveTo>
                  <a:pt x="13692" y="14387"/>
                </a:moveTo>
                <a:cubicBezTo>
                  <a:pt x="13660" y="14474"/>
                  <a:pt x="13638" y="14522"/>
                  <a:pt x="13667" y="14610"/>
                </a:cubicBezTo>
                <a:cubicBezTo>
                  <a:pt x="13694" y="14693"/>
                  <a:pt x="13759" y="14796"/>
                  <a:pt x="13816" y="14858"/>
                </a:cubicBezTo>
                <a:cubicBezTo>
                  <a:pt x="13887" y="14936"/>
                  <a:pt x="13947" y="14985"/>
                  <a:pt x="14039" y="15032"/>
                </a:cubicBezTo>
              </a:path>
              <a:path w="5235" h="4119">
                <a:moveTo>
                  <a:pt x="14511" y="14833"/>
                </a:moveTo>
                <a:cubicBezTo>
                  <a:pt x="14632" y="14833"/>
                  <a:pt x="14741" y="14842"/>
                  <a:pt x="14858" y="14858"/>
                </a:cubicBezTo>
                <a:cubicBezTo>
                  <a:pt x="14908" y="14858"/>
                  <a:pt x="14924" y="14858"/>
                  <a:pt x="14957" y="14858"/>
                </a:cubicBezTo>
              </a:path>
              <a:path w="5235" h="4119">
                <a:moveTo>
                  <a:pt x="14734" y="15056"/>
                </a:moveTo>
                <a:cubicBezTo>
                  <a:pt x="14805" y="15063"/>
                  <a:pt x="14882" y="15101"/>
                  <a:pt x="14957" y="15081"/>
                </a:cubicBezTo>
                <a:cubicBezTo>
                  <a:pt x="14974" y="15073"/>
                  <a:pt x="14990" y="15064"/>
                  <a:pt x="15007" y="15056"/>
                </a:cubicBezTo>
              </a:path>
              <a:path w="5235" h="4119">
                <a:moveTo>
                  <a:pt x="15528" y="14511"/>
                </a:moveTo>
                <a:cubicBezTo>
                  <a:pt x="15623" y="14460"/>
                  <a:pt x="15697" y="14393"/>
                  <a:pt x="15801" y="14461"/>
                </a:cubicBezTo>
                <a:cubicBezTo>
                  <a:pt x="15931" y="14545"/>
                  <a:pt x="15959" y="14639"/>
                  <a:pt x="15925" y="14784"/>
                </a:cubicBezTo>
                <a:cubicBezTo>
                  <a:pt x="15903" y="14879"/>
                  <a:pt x="15830" y="14975"/>
                  <a:pt x="15751" y="15032"/>
                </a:cubicBezTo>
                <a:cubicBezTo>
                  <a:pt x="15695" y="15072"/>
                  <a:pt x="15642" y="15081"/>
                  <a:pt x="15577" y="15081"/>
                </a:cubicBezTo>
                <a:cubicBezTo>
                  <a:pt x="15538" y="15081"/>
                  <a:pt x="15565" y="15068"/>
                  <a:pt x="15528" y="15056"/>
                </a:cubicBezTo>
                <a:cubicBezTo>
                  <a:pt x="15528" y="15002"/>
                  <a:pt x="15540" y="14965"/>
                  <a:pt x="15602" y="14957"/>
                </a:cubicBezTo>
                <a:cubicBezTo>
                  <a:pt x="15678" y="14947"/>
                  <a:pt x="15737" y="14968"/>
                  <a:pt x="15801" y="15007"/>
                </a:cubicBezTo>
                <a:cubicBezTo>
                  <a:pt x="15891" y="15062"/>
                  <a:pt x="15921" y="15081"/>
                  <a:pt x="16024" y="15081"/>
                </a:cubicBezTo>
              </a:path>
              <a:path w="5235" h="4119">
                <a:moveTo>
                  <a:pt x="16594" y="14759"/>
                </a:moveTo>
                <a:cubicBezTo>
                  <a:pt x="16633" y="14804"/>
                  <a:pt x="16634" y="14821"/>
                  <a:pt x="16669" y="14833"/>
                </a:cubicBezTo>
                <a:cubicBezTo>
                  <a:pt x="16685" y="14752"/>
                  <a:pt x="16689" y="14763"/>
                  <a:pt x="16669" y="14684"/>
                </a:cubicBezTo>
                <a:cubicBezTo>
                  <a:pt x="16652" y="14617"/>
                  <a:pt x="16609" y="14635"/>
                  <a:pt x="16545" y="14635"/>
                </a:cubicBezTo>
                <a:cubicBezTo>
                  <a:pt x="16467" y="14635"/>
                  <a:pt x="16388" y="14635"/>
                  <a:pt x="16321" y="14684"/>
                </a:cubicBezTo>
                <a:cubicBezTo>
                  <a:pt x="16270" y="14721"/>
                  <a:pt x="16207" y="14816"/>
                  <a:pt x="16222" y="14883"/>
                </a:cubicBezTo>
                <a:cubicBezTo>
                  <a:pt x="16244" y="14979"/>
                  <a:pt x="16308" y="15044"/>
                  <a:pt x="16371" y="15106"/>
                </a:cubicBezTo>
                <a:cubicBezTo>
                  <a:pt x="16497" y="15228"/>
                  <a:pt x="16588" y="15287"/>
                  <a:pt x="16743" y="15354"/>
                </a:cubicBezTo>
                <a:cubicBezTo>
                  <a:pt x="16805" y="15381"/>
                  <a:pt x="16884" y="15428"/>
                  <a:pt x="16917" y="15379"/>
                </a:cubicBezTo>
              </a:path>
              <a:path w="5235" h="4119">
                <a:moveTo>
                  <a:pt x="11782" y="15677"/>
                </a:moveTo>
                <a:cubicBezTo>
                  <a:pt x="11953" y="15697"/>
                  <a:pt x="12130" y="15716"/>
                  <a:pt x="12303" y="15701"/>
                </a:cubicBezTo>
                <a:cubicBezTo>
                  <a:pt x="12527" y="15681"/>
                  <a:pt x="12748" y="15656"/>
                  <a:pt x="12973" y="15652"/>
                </a:cubicBezTo>
                <a:cubicBezTo>
                  <a:pt x="13246" y="15647"/>
                  <a:pt x="13527" y="15667"/>
                  <a:pt x="13791" y="15627"/>
                </a:cubicBezTo>
                <a:cubicBezTo>
                  <a:pt x="13851" y="15618"/>
                  <a:pt x="13892" y="15618"/>
                  <a:pt x="13915" y="15577"/>
                </a:cubicBezTo>
                <a:cubicBezTo>
                  <a:pt x="13915" y="15569"/>
                  <a:pt x="13915" y="15561"/>
                  <a:pt x="13915" y="15553"/>
                </a:cubicBezTo>
              </a:path>
              <a:path w="5235" h="4119">
                <a:moveTo>
                  <a:pt x="13097" y="15900"/>
                </a:moveTo>
                <a:cubicBezTo>
                  <a:pt x="13147" y="15900"/>
                  <a:pt x="13197" y="15887"/>
                  <a:pt x="13246" y="15875"/>
                </a:cubicBezTo>
                <a:cubicBezTo>
                  <a:pt x="13378" y="15843"/>
                  <a:pt x="13496" y="15838"/>
                  <a:pt x="13543" y="15999"/>
                </a:cubicBezTo>
                <a:cubicBezTo>
                  <a:pt x="13577" y="16114"/>
                  <a:pt x="13518" y="16194"/>
                  <a:pt x="13444" y="16272"/>
                </a:cubicBezTo>
                <a:cubicBezTo>
                  <a:pt x="13369" y="16352"/>
                  <a:pt x="13288" y="16347"/>
                  <a:pt x="13196" y="16396"/>
                </a:cubicBezTo>
                <a:cubicBezTo>
                  <a:pt x="13157" y="16416"/>
                  <a:pt x="13168" y="16421"/>
                  <a:pt x="13122" y="16421"/>
                </a:cubicBezTo>
                <a:cubicBezTo>
                  <a:pt x="13136" y="16379"/>
                  <a:pt x="13192" y="16373"/>
                  <a:pt x="13246" y="16371"/>
                </a:cubicBezTo>
                <a:cubicBezTo>
                  <a:pt x="13414" y="16365"/>
                  <a:pt x="13527" y="16420"/>
                  <a:pt x="13692" y="16446"/>
                </a:cubicBezTo>
                <a:cubicBezTo>
                  <a:pt x="13725" y="16446"/>
                  <a:pt x="13758" y="16446"/>
                  <a:pt x="13791" y="16446"/>
                </a:cubicBezTo>
              </a:path>
              <a:path w="5235" h="4119">
                <a:moveTo>
                  <a:pt x="15280" y="15478"/>
                </a:moveTo>
                <a:cubicBezTo>
                  <a:pt x="15511" y="15478"/>
                  <a:pt x="15723" y="15467"/>
                  <a:pt x="15949" y="15453"/>
                </a:cubicBezTo>
                <a:cubicBezTo>
                  <a:pt x="16116" y="15443"/>
                  <a:pt x="16278" y="15429"/>
                  <a:pt x="16446" y="15429"/>
                </a:cubicBezTo>
                <a:cubicBezTo>
                  <a:pt x="16537" y="15429"/>
                  <a:pt x="16619" y="15472"/>
                  <a:pt x="16694" y="15429"/>
                </a:cubicBezTo>
              </a:path>
              <a:path w="5235" h="4119">
                <a:moveTo>
                  <a:pt x="16049" y="15652"/>
                </a:moveTo>
                <a:cubicBezTo>
                  <a:pt x="16104" y="15638"/>
                  <a:pt x="16143" y="15583"/>
                  <a:pt x="16197" y="15553"/>
                </a:cubicBezTo>
                <a:cubicBezTo>
                  <a:pt x="16278" y="15508"/>
                  <a:pt x="16356" y="15475"/>
                  <a:pt x="16446" y="15528"/>
                </a:cubicBezTo>
                <a:cubicBezTo>
                  <a:pt x="16514" y="15568"/>
                  <a:pt x="16572" y="15752"/>
                  <a:pt x="16570" y="15825"/>
                </a:cubicBezTo>
                <a:cubicBezTo>
                  <a:pt x="16566" y="15957"/>
                  <a:pt x="16459" y="16052"/>
                  <a:pt x="16346" y="16098"/>
                </a:cubicBezTo>
                <a:cubicBezTo>
                  <a:pt x="16302" y="16116"/>
                  <a:pt x="16248" y="16123"/>
                  <a:pt x="16197" y="16123"/>
                </a:cubicBezTo>
                <a:cubicBezTo>
                  <a:pt x="16214" y="16056"/>
                  <a:pt x="16274" y="16038"/>
                  <a:pt x="16346" y="16049"/>
                </a:cubicBezTo>
                <a:cubicBezTo>
                  <a:pt x="16466" y="16067"/>
                  <a:pt x="16522" y="16153"/>
                  <a:pt x="16619" y="16197"/>
                </a:cubicBezTo>
                <a:cubicBezTo>
                  <a:pt x="16652" y="16205"/>
                  <a:pt x="16685" y="16214"/>
                  <a:pt x="16718" y="16222"/>
                </a:cubicBezTo>
              </a:path>
              <a:path w="5235" h="4119">
                <a:moveTo>
                  <a:pt x="15776" y="14288"/>
                </a:moveTo>
                <a:cubicBezTo>
                  <a:pt x="15810" y="14416"/>
                  <a:pt x="15837" y="14543"/>
                  <a:pt x="15900" y="14660"/>
                </a:cubicBezTo>
                <a:cubicBezTo>
                  <a:pt x="15996" y="14840"/>
                  <a:pt x="16114" y="15008"/>
                  <a:pt x="16222" y="15180"/>
                </a:cubicBezTo>
                <a:cubicBezTo>
                  <a:pt x="16328" y="15348"/>
                  <a:pt x="16424" y="15527"/>
                  <a:pt x="16520" y="15701"/>
                </a:cubicBezTo>
                <a:cubicBezTo>
                  <a:pt x="16570" y="15792"/>
                  <a:pt x="16631" y="15873"/>
                  <a:pt x="16644" y="15974"/>
                </a:cubicBezTo>
              </a:path>
              <a:path w="5235" h="4119">
                <a:moveTo>
                  <a:pt x="15553" y="17363"/>
                </a:moveTo>
                <a:cubicBezTo>
                  <a:pt x="15672" y="17411"/>
                  <a:pt x="15773" y="17434"/>
                  <a:pt x="15900" y="17388"/>
                </a:cubicBezTo>
                <a:cubicBezTo>
                  <a:pt x="15933" y="17371"/>
                  <a:pt x="15966" y="17355"/>
                  <a:pt x="15999" y="17338"/>
                </a:cubicBezTo>
              </a:path>
              <a:path w="5235" h="4119">
                <a:moveTo>
                  <a:pt x="15528" y="17611"/>
                </a:moveTo>
                <a:cubicBezTo>
                  <a:pt x="15735" y="17686"/>
                  <a:pt x="15772" y="17690"/>
                  <a:pt x="15974" y="17636"/>
                </a:cubicBezTo>
              </a:path>
              <a:path w="5235" h="4119">
                <a:moveTo>
                  <a:pt x="16793" y="17016"/>
                </a:moveTo>
                <a:cubicBezTo>
                  <a:pt x="16816" y="17062"/>
                  <a:pt x="16817" y="17077"/>
                  <a:pt x="16842" y="17115"/>
                </a:cubicBezTo>
                <a:cubicBezTo>
                  <a:pt x="16850" y="17075"/>
                  <a:pt x="16889" y="17010"/>
                  <a:pt x="16867" y="16966"/>
                </a:cubicBezTo>
                <a:cubicBezTo>
                  <a:pt x="16837" y="16907"/>
                  <a:pt x="16754" y="16880"/>
                  <a:pt x="16694" y="16892"/>
                </a:cubicBezTo>
                <a:cubicBezTo>
                  <a:pt x="16594" y="16911"/>
                  <a:pt x="16494" y="16977"/>
                  <a:pt x="16446" y="17066"/>
                </a:cubicBezTo>
                <a:cubicBezTo>
                  <a:pt x="16396" y="17158"/>
                  <a:pt x="16381" y="17285"/>
                  <a:pt x="16396" y="17388"/>
                </a:cubicBezTo>
                <a:cubicBezTo>
                  <a:pt x="16416" y="17528"/>
                  <a:pt x="16495" y="17647"/>
                  <a:pt x="16570" y="17760"/>
                </a:cubicBezTo>
                <a:cubicBezTo>
                  <a:pt x="16636" y="17859"/>
                  <a:pt x="16716" y="17871"/>
                  <a:pt x="16818" y="17909"/>
                </a:cubicBezTo>
                <a:cubicBezTo>
                  <a:pt x="16873" y="17930"/>
                  <a:pt x="16907" y="17934"/>
                  <a:pt x="16966" y="17934"/>
                </a:cubicBezTo>
                <a:cubicBezTo>
                  <a:pt x="17004" y="17934"/>
                  <a:pt x="17035" y="17935"/>
                  <a:pt x="17016" y="17884"/>
                </a:cubicBezTo>
                <a:cubicBezTo>
                  <a:pt x="17008" y="17868"/>
                  <a:pt x="16999" y="17851"/>
                  <a:pt x="16991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41840" y="3062160"/>
            <a:ext cx="2874960" cy="992160"/>
          </a:xfrm>
          <a:custGeom>
            <a:avLst/>
            <a:gdLst/>
            <a:ahLst/>
            <a:rect l="l" t="t" r="r" b="b"/>
            <a:pathLst>
              <a:path w="7988" h="2754">
                <a:moveTo>
                  <a:pt x="10815" y="9302"/>
                </a:moveTo>
                <a:cubicBezTo>
                  <a:pt x="10807" y="9285"/>
                  <a:pt x="10798" y="9269"/>
                  <a:pt x="10790" y="9252"/>
                </a:cubicBezTo>
                <a:cubicBezTo>
                  <a:pt x="10822" y="9327"/>
                  <a:pt x="10796" y="9373"/>
                  <a:pt x="10815" y="9451"/>
                </a:cubicBezTo>
                <a:cubicBezTo>
                  <a:pt x="10840" y="9556"/>
                  <a:pt x="10861" y="9661"/>
                  <a:pt x="10864" y="9773"/>
                </a:cubicBezTo>
                <a:cubicBezTo>
                  <a:pt x="10869" y="9971"/>
                  <a:pt x="10979" y="10485"/>
                  <a:pt x="10840" y="10344"/>
                </a:cubicBezTo>
                <a:cubicBezTo>
                  <a:pt x="10832" y="10327"/>
                  <a:pt x="10823" y="10311"/>
                  <a:pt x="10815" y="10294"/>
                </a:cubicBezTo>
              </a:path>
              <a:path w="7988" h="2754">
                <a:moveTo>
                  <a:pt x="10393" y="9103"/>
                </a:moveTo>
                <a:cubicBezTo>
                  <a:pt x="10513" y="8984"/>
                  <a:pt x="10523" y="9004"/>
                  <a:pt x="10691" y="9004"/>
                </a:cubicBezTo>
                <a:cubicBezTo>
                  <a:pt x="10849" y="9004"/>
                  <a:pt x="11034" y="9081"/>
                  <a:pt x="11112" y="9227"/>
                </a:cubicBezTo>
                <a:cubicBezTo>
                  <a:pt x="11167" y="9330"/>
                  <a:pt x="11104" y="9413"/>
                  <a:pt x="11038" y="9475"/>
                </a:cubicBezTo>
                <a:cubicBezTo>
                  <a:pt x="11003" y="9508"/>
                  <a:pt x="10781" y="9747"/>
                  <a:pt x="10740" y="9674"/>
                </a:cubicBezTo>
                <a:cubicBezTo>
                  <a:pt x="10748" y="9657"/>
                  <a:pt x="10757" y="9641"/>
                  <a:pt x="10765" y="9624"/>
                </a:cubicBezTo>
              </a:path>
              <a:path w="7988" h="2754">
                <a:moveTo>
                  <a:pt x="11534" y="8508"/>
                </a:moveTo>
                <a:cubicBezTo>
                  <a:pt x="11534" y="8626"/>
                  <a:pt x="11551" y="8742"/>
                  <a:pt x="11559" y="8855"/>
                </a:cubicBezTo>
                <a:cubicBezTo>
                  <a:pt x="11569" y="9004"/>
                  <a:pt x="11558" y="9154"/>
                  <a:pt x="11584" y="9302"/>
                </a:cubicBezTo>
                <a:cubicBezTo>
                  <a:pt x="11601" y="9400"/>
                  <a:pt x="11622" y="9505"/>
                  <a:pt x="11633" y="9599"/>
                </a:cubicBezTo>
                <a:cubicBezTo>
                  <a:pt x="11633" y="9632"/>
                  <a:pt x="11633" y="9649"/>
                  <a:pt x="11633" y="9674"/>
                </a:cubicBezTo>
                <a:cubicBezTo>
                  <a:pt x="11609" y="9564"/>
                  <a:pt x="11600" y="9485"/>
                  <a:pt x="11633" y="9376"/>
                </a:cubicBezTo>
                <a:cubicBezTo>
                  <a:pt x="11670" y="9256"/>
                  <a:pt x="11710" y="9175"/>
                  <a:pt x="11782" y="9079"/>
                </a:cubicBezTo>
                <a:cubicBezTo>
                  <a:pt x="11835" y="9008"/>
                  <a:pt x="11891" y="8964"/>
                  <a:pt x="11981" y="9029"/>
                </a:cubicBezTo>
                <a:cubicBezTo>
                  <a:pt x="12089" y="9108"/>
                  <a:pt x="12116" y="9254"/>
                  <a:pt x="12129" y="9376"/>
                </a:cubicBezTo>
                <a:cubicBezTo>
                  <a:pt x="12134" y="9421"/>
                  <a:pt x="12068" y="9558"/>
                  <a:pt x="12105" y="9599"/>
                </a:cubicBezTo>
                <a:cubicBezTo>
                  <a:pt x="12113" y="9608"/>
                  <a:pt x="12222" y="9599"/>
                  <a:pt x="12229" y="9599"/>
                </a:cubicBezTo>
              </a:path>
              <a:path w="7988" h="2754">
                <a:moveTo>
                  <a:pt x="12650" y="9103"/>
                </a:moveTo>
                <a:cubicBezTo>
                  <a:pt x="12585" y="9071"/>
                  <a:pt x="12544" y="9166"/>
                  <a:pt x="12502" y="9227"/>
                </a:cubicBezTo>
                <a:cubicBezTo>
                  <a:pt x="12453" y="9298"/>
                  <a:pt x="12406" y="9397"/>
                  <a:pt x="12378" y="9475"/>
                </a:cubicBezTo>
                <a:cubicBezTo>
                  <a:pt x="12368" y="9504"/>
                  <a:pt x="12403" y="9590"/>
                  <a:pt x="12427" y="9599"/>
                </a:cubicBezTo>
                <a:cubicBezTo>
                  <a:pt x="12512" y="9630"/>
                  <a:pt x="12538" y="9546"/>
                  <a:pt x="12576" y="9500"/>
                </a:cubicBezTo>
                <a:cubicBezTo>
                  <a:pt x="12627" y="9437"/>
                  <a:pt x="12626" y="9414"/>
                  <a:pt x="12626" y="9327"/>
                </a:cubicBezTo>
                <a:cubicBezTo>
                  <a:pt x="12626" y="9233"/>
                  <a:pt x="12615" y="9256"/>
                  <a:pt x="12601" y="9327"/>
                </a:cubicBezTo>
                <a:cubicBezTo>
                  <a:pt x="12590" y="9382"/>
                  <a:pt x="12591" y="9460"/>
                  <a:pt x="12626" y="9500"/>
                </a:cubicBezTo>
                <a:cubicBezTo>
                  <a:pt x="12681" y="9563"/>
                  <a:pt x="12806" y="9521"/>
                  <a:pt x="12874" y="9500"/>
                </a:cubicBezTo>
                <a:cubicBezTo>
                  <a:pt x="12899" y="9492"/>
                  <a:pt x="12923" y="9483"/>
                  <a:pt x="12948" y="9475"/>
                </a:cubicBezTo>
              </a:path>
              <a:path w="7988" h="2754">
                <a:moveTo>
                  <a:pt x="13146" y="9004"/>
                </a:moveTo>
                <a:cubicBezTo>
                  <a:pt x="13055" y="9046"/>
                  <a:pt x="13000" y="9068"/>
                  <a:pt x="12973" y="9153"/>
                </a:cubicBezTo>
                <a:cubicBezTo>
                  <a:pt x="12937" y="9267"/>
                  <a:pt x="12984" y="9282"/>
                  <a:pt x="13022" y="9376"/>
                </a:cubicBezTo>
                <a:cubicBezTo>
                  <a:pt x="13024" y="9380"/>
                  <a:pt x="13076" y="9515"/>
                  <a:pt x="13072" y="9525"/>
                </a:cubicBezTo>
                <a:cubicBezTo>
                  <a:pt x="13050" y="9575"/>
                  <a:pt x="13026" y="9599"/>
                  <a:pt x="12973" y="9599"/>
                </a:cubicBezTo>
                <a:cubicBezTo>
                  <a:pt x="12921" y="9599"/>
                  <a:pt x="12904" y="9598"/>
                  <a:pt x="12898" y="9550"/>
                </a:cubicBezTo>
                <a:cubicBezTo>
                  <a:pt x="12961" y="9499"/>
                  <a:pt x="13026" y="9487"/>
                  <a:pt x="13097" y="9451"/>
                </a:cubicBezTo>
                <a:cubicBezTo>
                  <a:pt x="13303" y="9345"/>
                  <a:pt x="13355" y="9337"/>
                  <a:pt x="13469" y="9178"/>
                </a:cubicBezTo>
                <a:cubicBezTo>
                  <a:pt x="13504" y="9143"/>
                  <a:pt x="13517" y="9121"/>
                  <a:pt x="13519" y="9079"/>
                </a:cubicBezTo>
                <a:cubicBezTo>
                  <a:pt x="13471" y="9079"/>
                  <a:pt x="13402" y="9062"/>
                  <a:pt x="13370" y="9103"/>
                </a:cubicBezTo>
                <a:cubicBezTo>
                  <a:pt x="13314" y="9176"/>
                  <a:pt x="13275" y="9240"/>
                  <a:pt x="13271" y="9327"/>
                </a:cubicBezTo>
                <a:cubicBezTo>
                  <a:pt x="13267" y="9410"/>
                  <a:pt x="13306" y="9473"/>
                  <a:pt x="13395" y="9500"/>
                </a:cubicBezTo>
                <a:cubicBezTo>
                  <a:pt x="13469" y="9500"/>
                  <a:pt x="13494" y="9500"/>
                  <a:pt x="13543" y="9500"/>
                </a:cubicBezTo>
              </a:path>
              <a:path w="7988" h="2754">
                <a:moveTo>
                  <a:pt x="14039" y="9029"/>
                </a:moveTo>
                <a:cubicBezTo>
                  <a:pt x="13984" y="9056"/>
                  <a:pt x="13766" y="9116"/>
                  <a:pt x="13816" y="9227"/>
                </a:cubicBezTo>
                <a:cubicBezTo>
                  <a:pt x="13831" y="9259"/>
                  <a:pt x="13928" y="9322"/>
                  <a:pt x="13940" y="9376"/>
                </a:cubicBezTo>
                <a:cubicBezTo>
                  <a:pt x="13956" y="9445"/>
                  <a:pt x="13911" y="9508"/>
                  <a:pt x="13841" y="9525"/>
                </a:cubicBezTo>
                <a:cubicBezTo>
                  <a:pt x="13772" y="9541"/>
                  <a:pt x="13699" y="9513"/>
                  <a:pt x="13643" y="9475"/>
                </a:cubicBezTo>
                <a:cubicBezTo>
                  <a:pt x="13593" y="9441"/>
                  <a:pt x="13621" y="9412"/>
                  <a:pt x="13643" y="9376"/>
                </a:cubicBezTo>
              </a:path>
              <a:path w="7988" h="2754">
                <a:moveTo>
                  <a:pt x="14238" y="8508"/>
                </a:moveTo>
                <a:cubicBezTo>
                  <a:pt x="14211" y="8670"/>
                  <a:pt x="14180" y="8843"/>
                  <a:pt x="14163" y="9004"/>
                </a:cubicBezTo>
                <a:cubicBezTo>
                  <a:pt x="14147" y="9157"/>
                  <a:pt x="14163" y="9320"/>
                  <a:pt x="14163" y="9475"/>
                </a:cubicBezTo>
                <a:cubicBezTo>
                  <a:pt x="14196" y="9464"/>
                  <a:pt x="14198" y="9416"/>
                  <a:pt x="14213" y="9376"/>
                </a:cubicBezTo>
                <a:cubicBezTo>
                  <a:pt x="14258" y="9256"/>
                  <a:pt x="14261" y="9150"/>
                  <a:pt x="14362" y="9079"/>
                </a:cubicBezTo>
                <a:cubicBezTo>
                  <a:pt x="14431" y="9079"/>
                  <a:pt x="14429" y="9121"/>
                  <a:pt x="14461" y="9178"/>
                </a:cubicBezTo>
                <a:cubicBezTo>
                  <a:pt x="14504" y="9254"/>
                  <a:pt x="14462" y="9324"/>
                  <a:pt x="14486" y="9401"/>
                </a:cubicBezTo>
                <a:cubicBezTo>
                  <a:pt x="14502" y="9453"/>
                  <a:pt x="14517" y="9464"/>
                  <a:pt x="14560" y="9475"/>
                </a:cubicBezTo>
              </a:path>
              <a:path w="7988" h="2754">
                <a:moveTo>
                  <a:pt x="14660" y="9302"/>
                </a:moveTo>
                <a:cubicBezTo>
                  <a:pt x="14674" y="9394"/>
                  <a:pt x="14684" y="9551"/>
                  <a:pt x="14684" y="9401"/>
                </a:cubicBezTo>
                <a:cubicBezTo>
                  <a:pt x="14684" y="9393"/>
                  <a:pt x="14684" y="9384"/>
                  <a:pt x="14684" y="9376"/>
                </a:cubicBezTo>
              </a:path>
              <a:path w="7988" h="2754">
                <a:moveTo>
                  <a:pt x="14660" y="8880"/>
                </a:moveTo>
                <a:cubicBezTo>
                  <a:pt x="14668" y="8872"/>
                  <a:pt x="14676" y="8863"/>
                  <a:pt x="14684" y="8855"/>
                </a:cubicBezTo>
              </a:path>
              <a:path w="7988" h="2754">
                <a:moveTo>
                  <a:pt x="15205" y="8558"/>
                </a:moveTo>
                <a:cubicBezTo>
                  <a:pt x="15105" y="8570"/>
                  <a:pt x="15033" y="8611"/>
                  <a:pt x="14982" y="8706"/>
                </a:cubicBezTo>
                <a:cubicBezTo>
                  <a:pt x="14913" y="8833"/>
                  <a:pt x="14887" y="8933"/>
                  <a:pt x="14883" y="9079"/>
                </a:cubicBezTo>
                <a:cubicBezTo>
                  <a:pt x="14880" y="9165"/>
                  <a:pt x="14895" y="9297"/>
                  <a:pt x="14932" y="9376"/>
                </a:cubicBezTo>
                <a:cubicBezTo>
                  <a:pt x="14952" y="9418"/>
                  <a:pt x="14982" y="9547"/>
                  <a:pt x="14982" y="9500"/>
                </a:cubicBezTo>
                <a:cubicBezTo>
                  <a:pt x="14982" y="9470"/>
                  <a:pt x="14930" y="9432"/>
                  <a:pt x="14908" y="9401"/>
                </a:cubicBezTo>
              </a:path>
              <a:path w="7988" h="2754">
                <a:moveTo>
                  <a:pt x="14734" y="9178"/>
                </a:moveTo>
                <a:cubicBezTo>
                  <a:pt x="14866" y="9166"/>
                  <a:pt x="14961" y="9146"/>
                  <a:pt x="15081" y="9103"/>
                </a:cubicBezTo>
                <a:cubicBezTo>
                  <a:pt x="15106" y="9095"/>
                  <a:pt x="15131" y="9087"/>
                  <a:pt x="15156" y="9079"/>
                </a:cubicBezTo>
              </a:path>
              <a:path w="7988" h="2754">
                <a:moveTo>
                  <a:pt x="15503" y="8806"/>
                </a:moveTo>
                <a:cubicBezTo>
                  <a:pt x="15481" y="8953"/>
                  <a:pt x="15453" y="9081"/>
                  <a:pt x="15453" y="9227"/>
                </a:cubicBezTo>
                <a:cubicBezTo>
                  <a:pt x="15453" y="9290"/>
                  <a:pt x="15474" y="9341"/>
                  <a:pt x="15478" y="9401"/>
                </a:cubicBezTo>
                <a:cubicBezTo>
                  <a:pt x="15478" y="9443"/>
                  <a:pt x="15486" y="9459"/>
                  <a:pt x="15453" y="9451"/>
                </a:cubicBezTo>
              </a:path>
              <a:path w="7988" h="2754">
                <a:moveTo>
                  <a:pt x="15280" y="9227"/>
                </a:moveTo>
                <a:cubicBezTo>
                  <a:pt x="15415" y="9172"/>
                  <a:pt x="15582" y="9132"/>
                  <a:pt x="15726" y="9103"/>
                </a:cubicBezTo>
                <a:cubicBezTo>
                  <a:pt x="15751" y="9103"/>
                  <a:pt x="15776" y="9103"/>
                  <a:pt x="15801" y="9103"/>
                </a:cubicBezTo>
              </a:path>
              <a:path w="7988" h="2754">
                <a:moveTo>
                  <a:pt x="16098" y="9153"/>
                </a:moveTo>
                <a:cubicBezTo>
                  <a:pt x="16214" y="9153"/>
                  <a:pt x="16330" y="9153"/>
                  <a:pt x="16446" y="9153"/>
                </a:cubicBezTo>
              </a:path>
              <a:path w="7988" h="2754">
                <a:moveTo>
                  <a:pt x="16098" y="9376"/>
                </a:moveTo>
                <a:cubicBezTo>
                  <a:pt x="16295" y="9376"/>
                  <a:pt x="16451" y="9369"/>
                  <a:pt x="16644" y="9327"/>
                </a:cubicBezTo>
                <a:cubicBezTo>
                  <a:pt x="16685" y="9319"/>
                  <a:pt x="16727" y="9310"/>
                  <a:pt x="16768" y="9302"/>
                </a:cubicBezTo>
              </a:path>
              <a:path w="7988" h="2754">
                <a:moveTo>
                  <a:pt x="17934" y="8855"/>
                </a:moveTo>
                <a:cubicBezTo>
                  <a:pt x="17934" y="8913"/>
                  <a:pt x="17951" y="8938"/>
                  <a:pt x="17909" y="8930"/>
                </a:cubicBezTo>
                <a:cubicBezTo>
                  <a:pt x="17885" y="8874"/>
                  <a:pt x="17866" y="8833"/>
                  <a:pt x="17835" y="8781"/>
                </a:cubicBezTo>
                <a:cubicBezTo>
                  <a:pt x="17793" y="8711"/>
                  <a:pt x="17744" y="8677"/>
                  <a:pt x="17661" y="8731"/>
                </a:cubicBezTo>
                <a:cubicBezTo>
                  <a:pt x="17574" y="8788"/>
                  <a:pt x="17497" y="8869"/>
                  <a:pt x="17413" y="8930"/>
                </a:cubicBezTo>
                <a:cubicBezTo>
                  <a:pt x="17312" y="9003"/>
                  <a:pt x="17272" y="9028"/>
                  <a:pt x="17264" y="9153"/>
                </a:cubicBezTo>
                <a:cubicBezTo>
                  <a:pt x="17258" y="9248"/>
                  <a:pt x="17518" y="9290"/>
                  <a:pt x="17587" y="9302"/>
                </a:cubicBezTo>
                <a:cubicBezTo>
                  <a:pt x="17727" y="9326"/>
                  <a:pt x="17891" y="9314"/>
                  <a:pt x="18033" y="9327"/>
                </a:cubicBezTo>
                <a:cubicBezTo>
                  <a:pt x="18098" y="9333"/>
                  <a:pt x="18166" y="9327"/>
                  <a:pt x="18231" y="9327"/>
                </a:cubicBezTo>
                <a:cubicBezTo>
                  <a:pt x="18222" y="9300"/>
                  <a:pt x="18214" y="9260"/>
                  <a:pt x="18182" y="9252"/>
                </a:cubicBezTo>
                <a:cubicBezTo>
                  <a:pt x="18149" y="9252"/>
                  <a:pt x="18132" y="9252"/>
                  <a:pt x="18107" y="9252"/>
                </a:cubicBezTo>
              </a:path>
              <a:path w="7988" h="2754">
                <a:moveTo>
                  <a:pt x="17090" y="9525"/>
                </a:moveTo>
                <a:cubicBezTo>
                  <a:pt x="17139" y="9598"/>
                  <a:pt x="17337" y="9531"/>
                  <a:pt x="17438" y="9550"/>
                </a:cubicBezTo>
                <a:cubicBezTo>
                  <a:pt x="17628" y="9586"/>
                  <a:pt x="17786" y="9599"/>
                  <a:pt x="17983" y="9599"/>
                </a:cubicBezTo>
                <a:cubicBezTo>
                  <a:pt x="18115" y="9599"/>
                  <a:pt x="18412" y="9673"/>
                  <a:pt x="18331" y="9525"/>
                </a:cubicBezTo>
              </a:path>
              <a:path w="7988" h="2754">
                <a:moveTo>
                  <a:pt x="17711" y="9922"/>
                </a:moveTo>
                <a:cubicBezTo>
                  <a:pt x="17666" y="10101"/>
                  <a:pt x="17633" y="10263"/>
                  <a:pt x="17611" y="10443"/>
                </a:cubicBezTo>
                <a:cubicBezTo>
                  <a:pt x="17587" y="10633"/>
                  <a:pt x="17568" y="10824"/>
                  <a:pt x="17562" y="11013"/>
                </a:cubicBezTo>
                <a:cubicBezTo>
                  <a:pt x="17559" y="11099"/>
                  <a:pt x="17551" y="11190"/>
                  <a:pt x="17587" y="11261"/>
                </a:cubicBezTo>
                <a:cubicBezTo>
                  <a:pt x="17587" y="11180"/>
                  <a:pt x="17607" y="11118"/>
                  <a:pt x="17611" y="11038"/>
                </a:cubicBezTo>
                <a:cubicBezTo>
                  <a:pt x="17615" y="10958"/>
                  <a:pt x="17632" y="10865"/>
                  <a:pt x="17661" y="10790"/>
                </a:cubicBezTo>
                <a:cubicBezTo>
                  <a:pt x="17700" y="10689"/>
                  <a:pt x="17777" y="10611"/>
                  <a:pt x="17835" y="10567"/>
                </a:cubicBezTo>
                <a:cubicBezTo>
                  <a:pt x="17930" y="10494"/>
                  <a:pt x="18015" y="10576"/>
                  <a:pt x="18107" y="10641"/>
                </a:cubicBezTo>
                <a:cubicBezTo>
                  <a:pt x="18192" y="10701"/>
                  <a:pt x="18279" y="10810"/>
                  <a:pt x="18306" y="10914"/>
                </a:cubicBezTo>
                <a:cubicBezTo>
                  <a:pt x="18333" y="11019"/>
                  <a:pt x="18297" y="11112"/>
                  <a:pt x="18231" y="11187"/>
                </a:cubicBezTo>
                <a:cubicBezTo>
                  <a:pt x="18142" y="11288"/>
                  <a:pt x="18007" y="11261"/>
                  <a:pt x="17884" y="11261"/>
                </a:cubicBezTo>
                <a:cubicBezTo>
                  <a:pt x="17763" y="11261"/>
                  <a:pt x="17626" y="11248"/>
                  <a:pt x="17512" y="11212"/>
                </a:cubicBezTo>
                <a:cubicBezTo>
                  <a:pt x="17468" y="11198"/>
                  <a:pt x="17401" y="11183"/>
                  <a:pt x="17462" y="11137"/>
                </a:cubicBezTo>
                <a:cubicBezTo>
                  <a:pt x="17491" y="11115"/>
                  <a:pt x="17486" y="11138"/>
                  <a:pt x="17512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9000" y="4776840"/>
            <a:ext cx="1832040" cy="1170000"/>
          </a:xfrm>
          <a:custGeom>
            <a:avLst/>
            <a:gdLst/>
            <a:ahLst/>
            <a:rect l="l" t="t" r="r" b="b"/>
            <a:pathLst>
              <a:path w="5086" h="3250">
                <a:moveTo>
                  <a:pt x="3621" y="13543"/>
                </a:moveTo>
                <a:cubicBezTo>
                  <a:pt x="3568" y="13525"/>
                  <a:pt x="3532" y="13494"/>
                  <a:pt x="3473" y="13494"/>
                </a:cubicBezTo>
                <a:cubicBezTo>
                  <a:pt x="3410" y="13494"/>
                  <a:pt x="3356" y="13497"/>
                  <a:pt x="3299" y="13519"/>
                </a:cubicBezTo>
                <a:cubicBezTo>
                  <a:pt x="3276" y="13528"/>
                  <a:pt x="3160" y="13556"/>
                  <a:pt x="3150" y="13568"/>
                </a:cubicBezTo>
                <a:cubicBezTo>
                  <a:pt x="3133" y="13588"/>
                  <a:pt x="3111" y="13660"/>
                  <a:pt x="3125" y="13692"/>
                </a:cubicBezTo>
                <a:cubicBezTo>
                  <a:pt x="3141" y="13730"/>
                  <a:pt x="3174" y="13779"/>
                  <a:pt x="3200" y="13816"/>
                </a:cubicBezTo>
                <a:cubicBezTo>
                  <a:pt x="3265" y="13908"/>
                  <a:pt x="3334" y="13987"/>
                  <a:pt x="3373" y="14089"/>
                </a:cubicBezTo>
                <a:cubicBezTo>
                  <a:pt x="3399" y="14157"/>
                  <a:pt x="3419" y="14241"/>
                  <a:pt x="3423" y="14312"/>
                </a:cubicBezTo>
                <a:cubicBezTo>
                  <a:pt x="3426" y="14367"/>
                  <a:pt x="3426" y="14440"/>
                  <a:pt x="3398" y="14486"/>
                </a:cubicBezTo>
                <a:cubicBezTo>
                  <a:pt x="3388" y="14503"/>
                  <a:pt x="3318" y="14545"/>
                  <a:pt x="3299" y="14536"/>
                </a:cubicBezTo>
                <a:cubicBezTo>
                  <a:pt x="3261" y="14519"/>
                  <a:pt x="3232" y="14493"/>
                  <a:pt x="3200" y="14461"/>
                </a:cubicBezTo>
                <a:cubicBezTo>
                  <a:pt x="3175" y="14436"/>
                  <a:pt x="3152" y="14411"/>
                  <a:pt x="3150" y="14387"/>
                </a:cubicBezTo>
                <a:cubicBezTo>
                  <a:pt x="3145" y="14324"/>
                  <a:pt x="3197" y="14270"/>
                  <a:pt x="3225" y="14213"/>
                </a:cubicBezTo>
                <a:cubicBezTo>
                  <a:pt x="3261" y="14140"/>
                  <a:pt x="3307" y="14082"/>
                  <a:pt x="3349" y="14015"/>
                </a:cubicBezTo>
                <a:cubicBezTo>
                  <a:pt x="3393" y="13944"/>
                  <a:pt x="3439" y="13877"/>
                  <a:pt x="3497" y="13816"/>
                </a:cubicBezTo>
                <a:cubicBezTo>
                  <a:pt x="3544" y="13767"/>
                  <a:pt x="3574" y="13715"/>
                  <a:pt x="3621" y="13667"/>
                </a:cubicBezTo>
              </a:path>
              <a:path w="5086" h="3250">
                <a:moveTo>
                  <a:pt x="3919" y="13593"/>
                </a:moveTo>
                <a:cubicBezTo>
                  <a:pt x="4037" y="13593"/>
                  <a:pt x="4112" y="13604"/>
                  <a:pt x="4217" y="13618"/>
                </a:cubicBezTo>
                <a:cubicBezTo>
                  <a:pt x="4270" y="13625"/>
                  <a:pt x="4336" y="13618"/>
                  <a:pt x="4390" y="13618"/>
                </a:cubicBezTo>
              </a:path>
              <a:path w="5086" h="3250">
                <a:moveTo>
                  <a:pt x="4093" y="13717"/>
                </a:moveTo>
                <a:cubicBezTo>
                  <a:pt x="4016" y="13901"/>
                  <a:pt x="4011" y="14001"/>
                  <a:pt x="3969" y="14188"/>
                </a:cubicBezTo>
                <a:cubicBezTo>
                  <a:pt x="3951" y="14269"/>
                  <a:pt x="3920" y="14334"/>
                  <a:pt x="3969" y="14412"/>
                </a:cubicBezTo>
                <a:cubicBezTo>
                  <a:pt x="3993" y="14450"/>
                  <a:pt x="4030" y="14436"/>
                  <a:pt x="4068" y="14436"/>
                </a:cubicBezTo>
              </a:path>
              <a:path w="5086" h="3250">
                <a:moveTo>
                  <a:pt x="4266" y="13593"/>
                </a:moveTo>
                <a:cubicBezTo>
                  <a:pt x="4266" y="13690"/>
                  <a:pt x="4252" y="13773"/>
                  <a:pt x="4242" y="13866"/>
                </a:cubicBezTo>
                <a:cubicBezTo>
                  <a:pt x="4228" y="13990"/>
                  <a:pt x="4210" y="14117"/>
                  <a:pt x="4242" y="14238"/>
                </a:cubicBezTo>
                <a:cubicBezTo>
                  <a:pt x="4262" y="14313"/>
                  <a:pt x="4310" y="14391"/>
                  <a:pt x="4366" y="14436"/>
                </a:cubicBezTo>
                <a:cubicBezTo>
                  <a:pt x="4421" y="14464"/>
                  <a:pt x="4444" y="14472"/>
                  <a:pt x="4490" y="14461"/>
                </a:cubicBezTo>
              </a:path>
              <a:path w="5086" h="3250">
                <a:moveTo>
                  <a:pt x="4787" y="14064"/>
                </a:moveTo>
                <a:cubicBezTo>
                  <a:pt x="4872" y="14064"/>
                  <a:pt x="4967" y="14047"/>
                  <a:pt x="5035" y="14089"/>
                </a:cubicBezTo>
              </a:path>
              <a:path w="5086" h="3250">
                <a:moveTo>
                  <a:pt x="4837" y="14238"/>
                </a:moveTo>
                <a:cubicBezTo>
                  <a:pt x="4888" y="14283"/>
                  <a:pt x="4934" y="14334"/>
                  <a:pt x="5011" y="14312"/>
                </a:cubicBezTo>
                <a:cubicBezTo>
                  <a:pt x="5092" y="14289"/>
                  <a:pt x="5122" y="14206"/>
                  <a:pt x="5159" y="14139"/>
                </a:cubicBezTo>
              </a:path>
              <a:path w="5086" h="3250">
                <a:moveTo>
                  <a:pt x="5556" y="13618"/>
                </a:moveTo>
                <a:cubicBezTo>
                  <a:pt x="5564" y="13585"/>
                  <a:pt x="5594" y="13551"/>
                  <a:pt x="5631" y="13543"/>
                </a:cubicBezTo>
                <a:cubicBezTo>
                  <a:pt x="5673" y="13534"/>
                  <a:pt x="5715" y="13533"/>
                  <a:pt x="5755" y="13519"/>
                </a:cubicBezTo>
                <a:cubicBezTo>
                  <a:pt x="5816" y="13497"/>
                  <a:pt x="5891" y="13505"/>
                  <a:pt x="5953" y="13543"/>
                </a:cubicBezTo>
                <a:cubicBezTo>
                  <a:pt x="5996" y="13569"/>
                  <a:pt x="6003" y="13598"/>
                  <a:pt x="6003" y="13643"/>
                </a:cubicBezTo>
                <a:cubicBezTo>
                  <a:pt x="6003" y="13690"/>
                  <a:pt x="5967" y="13763"/>
                  <a:pt x="5928" y="13791"/>
                </a:cubicBezTo>
                <a:cubicBezTo>
                  <a:pt x="5874" y="13830"/>
                  <a:pt x="5808" y="13851"/>
                  <a:pt x="5755" y="13891"/>
                </a:cubicBezTo>
                <a:cubicBezTo>
                  <a:pt x="5723" y="13914"/>
                  <a:pt x="5711" y="13916"/>
                  <a:pt x="5680" y="13940"/>
                </a:cubicBezTo>
                <a:cubicBezTo>
                  <a:pt x="5719" y="13930"/>
                  <a:pt x="5735" y="13915"/>
                  <a:pt x="5779" y="13915"/>
                </a:cubicBezTo>
                <a:cubicBezTo>
                  <a:pt x="5840" y="13915"/>
                  <a:pt x="5879" y="13919"/>
                  <a:pt x="5928" y="13940"/>
                </a:cubicBezTo>
                <a:cubicBezTo>
                  <a:pt x="6003" y="13972"/>
                  <a:pt x="6017" y="14019"/>
                  <a:pt x="6052" y="14089"/>
                </a:cubicBezTo>
                <a:cubicBezTo>
                  <a:pt x="6090" y="14167"/>
                  <a:pt x="6085" y="14235"/>
                  <a:pt x="6052" y="14312"/>
                </a:cubicBezTo>
                <a:cubicBezTo>
                  <a:pt x="6027" y="14369"/>
                  <a:pt x="5988" y="14439"/>
                  <a:pt x="5928" y="14461"/>
                </a:cubicBezTo>
                <a:cubicBezTo>
                  <a:pt x="5840" y="14494"/>
                  <a:pt x="5762" y="14500"/>
                  <a:pt x="5680" y="14461"/>
                </a:cubicBezTo>
                <a:cubicBezTo>
                  <a:pt x="5624" y="14434"/>
                  <a:pt x="5571" y="14422"/>
                  <a:pt x="5556" y="14362"/>
                </a:cubicBezTo>
              </a:path>
              <a:path w="5086" h="3250">
                <a:moveTo>
                  <a:pt x="6226" y="13593"/>
                </a:moveTo>
                <a:cubicBezTo>
                  <a:pt x="6362" y="13570"/>
                  <a:pt x="6421" y="13575"/>
                  <a:pt x="6548" y="13593"/>
                </a:cubicBezTo>
                <a:cubicBezTo>
                  <a:pt x="6619" y="13603"/>
                  <a:pt x="6700" y="13593"/>
                  <a:pt x="6772" y="13593"/>
                </a:cubicBezTo>
              </a:path>
              <a:path w="5086" h="3250">
                <a:moveTo>
                  <a:pt x="6449" y="13667"/>
                </a:moveTo>
                <a:cubicBezTo>
                  <a:pt x="6429" y="13803"/>
                  <a:pt x="6400" y="13928"/>
                  <a:pt x="6400" y="14064"/>
                </a:cubicBezTo>
                <a:cubicBezTo>
                  <a:pt x="6400" y="14128"/>
                  <a:pt x="6404" y="14228"/>
                  <a:pt x="6424" y="14288"/>
                </a:cubicBezTo>
                <a:cubicBezTo>
                  <a:pt x="6445" y="14349"/>
                  <a:pt x="6450" y="14337"/>
                  <a:pt x="6499" y="14337"/>
                </a:cubicBezTo>
              </a:path>
              <a:path w="5086" h="3250">
                <a:moveTo>
                  <a:pt x="6623" y="13543"/>
                </a:moveTo>
                <a:cubicBezTo>
                  <a:pt x="6623" y="13610"/>
                  <a:pt x="6632" y="13678"/>
                  <a:pt x="6648" y="13742"/>
                </a:cubicBezTo>
                <a:cubicBezTo>
                  <a:pt x="6679" y="13868"/>
                  <a:pt x="6692" y="14020"/>
                  <a:pt x="6747" y="14139"/>
                </a:cubicBezTo>
                <a:cubicBezTo>
                  <a:pt x="6782" y="14214"/>
                  <a:pt x="6841" y="14302"/>
                  <a:pt x="6896" y="14362"/>
                </a:cubicBezTo>
                <a:cubicBezTo>
                  <a:pt x="6924" y="14390"/>
                  <a:pt x="6937" y="14399"/>
                  <a:pt x="6970" y="14387"/>
                </a:cubicBezTo>
              </a:path>
              <a:path w="5086" h="3250">
                <a:moveTo>
                  <a:pt x="7392" y="13593"/>
                </a:moveTo>
                <a:cubicBezTo>
                  <a:pt x="7384" y="13720"/>
                  <a:pt x="7389" y="13865"/>
                  <a:pt x="7367" y="13990"/>
                </a:cubicBezTo>
                <a:cubicBezTo>
                  <a:pt x="7349" y="14093"/>
                  <a:pt x="7342" y="14181"/>
                  <a:pt x="7342" y="14288"/>
                </a:cubicBezTo>
                <a:cubicBezTo>
                  <a:pt x="7342" y="14354"/>
                  <a:pt x="7355" y="14399"/>
                  <a:pt x="7367" y="14461"/>
                </a:cubicBezTo>
                <a:cubicBezTo>
                  <a:pt x="7367" y="14469"/>
                  <a:pt x="7367" y="14478"/>
                  <a:pt x="7367" y="14486"/>
                </a:cubicBezTo>
                <a:cubicBezTo>
                  <a:pt x="7396" y="14451"/>
                  <a:pt x="7422" y="14408"/>
                  <a:pt x="7441" y="14362"/>
                </a:cubicBezTo>
                <a:cubicBezTo>
                  <a:pt x="7469" y="14295"/>
                  <a:pt x="7503" y="14228"/>
                  <a:pt x="7541" y="14163"/>
                </a:cubicBezTo>
                <a:cubicBezTo>
                  <a:pt x="7574" y="14106"/>
                  <a:pt x="7593" y="14062"/>
                  <a:pt x="7640" y="14015"/>
                </a:cubicBezTo>
                <a:cubicBezTo>
                  <a:pt x="7668" y="13987"/>
                  <a:pt x="7724" y="13973"/>
                  <a:pt x="7764" y="13990"/>
                </a:cubicBezTo>
                <a:cubicBezTo>
                  <a:pt x="7827" y="14017"/>
                  <a:pt x="7876" y="14130"/>
                  <a:pt x="7888" y="14188"/>
                </a:cubicBezTo>
                <a:cubicBezTo>
                  <a:pt x="7903" y="14259"/>
                  <a:pt x="7930" y="14319"/>
                  <a:pt x="7888" y="14387"/>
                </a:cubicBezTo>
                <a:cubicBezTo>
                  <a:pt x="7864" y="14426"/>
                  <a:pt x="7830" y="14485"/>
                  <a:pt x="7789" y="14511"/>
                </a:cubicBezTo>
                <a:cubicBezTo>
                  <a:pt x="7730" y="14549"/>
                  <a:pt x="7708" y="14557"/>
                  <a:pt x="7640" y="14560"/>
                </a:cubicBezTo>
                <a:cubicBezTo>
                  <a:pt x="7557" y="14564"/>
                  <a:pt x="7493" y="14546"/>
                  <a:pt x="7417" y="14536"/>
                </a:cubicBezTo>
                <a:cubicBezTo>
                  <a:pt x="7368" y="14530"/>
                  <a:pt x="7336" y="14518"/>
                  <a:pt x="7293" y="14511"/>
                </a:cubicBezTo>
                <a:cubicBezTo>
                  <a:pt x="7252" y="14504"/>
                  <a:pt x="7230" y="14492"/>
                  <a:pt x="7193" y="14486"/>
                </a:cubicBezTo>
                <a:cubicBezTo>
                  <a:pt x="7132" y="14476"/>
                  <a:pt x="7127" y="14461"/>
                  <a:pt x="7094" y="14436"/>
                </a:cubicBezTo>
              </a:path>
              <a:path w="5086" h="3250">
                <a:moveTo>
                  <a:pt x="5655" y="14709"/>
                </a:moveTo>
                <a:cubicBezTo>
                  <a:pt x="5728" y="14701"/>
                  <a:pt x="5771" y="14684"/>
                  <a:pt x="5854" y="14684"/>
                </a:cubicBezTo>
                <a:cubicBezTo>
                  <a:pt x="5978" y="14684"/>
                  <a:pt x="6098" y="14660"/>
                  <a:pt x="6226" y="14660"/>
                </a:cubicBezTo>
                <a:cubicBezTo>
                  <a:pt x="6409" y="14660"/>
                  <a:pt x="6586" y="14624"/>
                  <a:pt x="6772" y="14635"/>
                </a:cubicBezTo>
                <a:cubicBezTo>
                  <a:pt x="7006" y="14649"/>
                  <a:pt x="7259" y="14675"/>
                  <a:pt x="7491" y="14709"/>
                </a:cubicBezTo>
                <a:cubicBezTo>
                  <a:pt x="7623" y="14728"/>
                  <a:pt x="7754" y="14754"/>
                  <a:pt x="7888" y="14759"/>
                </a:cubicBezTo>
                <a:cubicBezTo>
                  <a:pt x="7912" y="14760"/>
                  <a:pt x="8131" y="14775"/>
                  <a:pt x="8111" y="14734"/>
                </a:cubicBezTo>
                <a:cubicBezTo>
                  <a:pt x="8083" y="14734"/>
                  <a:pt x="8072" y="14732"/>
                  <a:pt x="8062" y="14709"/>
                </a:cubicBezTo>
              </a:path>
              <a:path w="5086" h="3250">
                <a:moveTo>
                  <a:pt x="6226" y="14982"/>
                </a:moveTo>
                <a:cubicBezTo>
                  <a:pt x="6281" y="14982"/>
                  <a:pt x="6319" y="14960"/>
                  <a:pt x="6375" y="14957"/>
                </a:cubicBezTo>
                <a:cubicBezTo>
                  <a:pt x="6455" y="14952"/>
                  <a:pt x="6585" y="14935"/>
                  <a:pt x="6648" y="14982"/>
                </a:cubicBezTo>
                <a:cubicBezTo>
                  <a:pt x="6618" y="15042"/>
                  <a:pt x="6583" y="15035"/>
                  <a:pt x="6524" y="15056"/>
                </a:cubicBezTo>
                <a:cubicBezTo>
                  <a:pt x="6470" y="15075"/>
                  <a:pt x="6389" y="15099"/>
                  <a:pt x="6350" y="15131"/>
                </a:cubicBezTo>
                <a:cubicBezTo>
                  <a:pt x="6342" y="15139"/>
                  <a:pt x="6333" y="15148"/>
                  <a:pt x="6325" y="15156"/>
                </a:cubicBezTo>
                <a:cubicBezTo>
                  <a:pt x="6377" y="15207"/>
                  <a:pt x="6434" y="15240"/>
                  <a:pt x="6499" y="15280"/>
                </a:cubicBezTo>
                <a:cubicBezTo>
                  <a:pt x="6548" y="15310"/>
                  <a:pt x="6634" y="15335"/>
                  <a:pt x="6672" y="15379"/>
                </a:cubicBezTo>
                <a:cubicBezTo>
                  <a:pt x="6726" y="15442"/>
                  <a:pt x="6704" y="15509"/>
                  <a:pt x="6697" y="15577"/>
                </a:cubicBezTo>
                <a:cubicBezTo>
                  <a:pt x="6692" y="15632"/>
                  <a:pt x="6669" y="15712"/>
                  <a:pt x="6623" y="15751"/>
                </a:cubicBezTo>
                <a:cubicBezTo>
                  <a:pt x="6581" y="15787"/>
                  <a:pt x="6477" y="15839"/>
                  <a:pt x="6424" y="15850"/>
                </a:cubicBezTo>
                <a:cubicBezTo>
                  <a:pt x="6394" y="15856"/>
                  <a:pt x="6263" y="15868"/>
                  <a:pt x="6276" y="15825"/>
                </a:cubicBezTo>
                <a:cubicBezTo>
                  <a:pt x="6284" y="15809"/>
                  <a:pt x="6292" y="15792"/>
                  <a:pt x="6300" y="15776"/>
                </a:cubicBezTo>
              </a:path>
              <a:path w="5086" h="3250">
                <a:moveTo>
                  <a:pt x="6896" y="15156"/>
                </a:moveTo>
                <a:cubicBezTo>
                  <a:pt x="7020" y="15093"/>
                  <a:pt x="7040" y="15116"/>
                  <a:pt x="7169" y="15131"/>
                </a:cubicBezTo>
                <a:cubicBezTo>
                  <a:pt x="7249" y="15140"/>
                  <a:pt x="7336" y="15131"/>
                  <a:pt x="7417" y="15131"/>
                </a:cubicBezTo>
              </a:path>
              <a:path w="5086" h="3250">
                <a:moveTo>
                  <a:pt x="7045" y="15205"/>
                </a:moveTo>
                <a:cubicBezTo>
                  <a:pt x="7025" y="15342"/>
                  <a:pt x="7011" y="15426"/>
                  <a:pt x="7045" y="15553"/>
                </a:cubicBezTo>
                <a:cubicBezTo>
                  <a:pt x="7063" y="15627"/>
                  <a:pt x="7071" y="15634"/>
                  <a:pt x="7069" y="15677"/>
                </a:cubicBezTo>
              </a:path>
              <a:path w="5086" h="3250">
                <a:moveTo>
                  <a:pt x="7317" y="15106"/>
                </a:moveTo>
                <a:cubicBezTo>
                  <a:pt x="7317" y="15173"/>
                  <a:pt x="7329" y="15239"/>
                  <a:pt x="7342" y="15304"/>
                </a:cubicBezTo>
                <a:cubicBezTo>
                  <a:pt x="7366" y="15429"/>
                  <a:pt x="7425" y="15551"/>
                  <a:pt x="7441" y="15677"/>
                </a:cubicBezTo>
                <a:cubicBezTo>
                  <a:pt x="7441" y="15735"/>
                  <a:pt x="7441" y="15743"/>
                  <a:pt x="7441" y="15776"/>
                </a:cubicBezTo>
              </a:path>
              <a:path w="5086" h="3250">
                <a:moveTo>
                  <a:pt x="3026" y="14610"/>
                </a:moveTo>
                <a:cubicBezTo>
                  <a:pt x="3128" y="14610"/>
                  <a:pt x="3221" y="14588"/>
                  <a:pt x="3324" y="14585"/>
                </a:cubicBezTo>
                <a:cubicBezTo>
                  <a:pt x="3500" y="14581"/>
                  <a:pt x="3670" y="14563"/>
                  <a:pt x="3845" y="14560"/>
                </a:cubicBezTo>
                <a:cubicBezTo>
                  <a:pt x="3951" y="14558"/>
                  <a:pt x="4607" y="14620"/>
                  <a:pt x="4638" y="14536"/>
                </a:cubicBezTo>
                <a:cubicBezTo>
                  <a:pt x="4630" y="14536"/>
                  <a:pt x="4622" y="14536"/>
                  <a:pt x="4614" y="14536"/>
                </a:cubicBezTo>
              </a:path>
              <a:path w="5086" h="3250">
                <a:moveTo>
                  <a:pt x="3572" y="14908"/>
                </a:moveTo>
                <a:cubicBezTo>
                  <a:pt x="3634" y="14931"/>
                  <a:pt x="3686" y="14929"/>
                  <a:pt x="3746" y="14957"/>
                </a:cubicBezTo>
                <a:cubicBezTo>
                  <a:pt x="3798" y="14982"/>
                  <a:pt x="3852" y="15003"/>
                  <a:pt x="3870" y="15056"/>
                </a:cubicBezTo>
                <a:cubicBezTo>
                  <a:pt x="3881" y="15087"/>
                  <a:pt x="3819" y="15141"/>
                  <a:pt x="3795" y="15156"/>
                </a:cubicBezTo>
                <a:cubicBezTo>
                  <a:pt x="3758" y="15180"/>
                  <a:pt x="3661" y="15166"/>
                  <a:pt x="3646" y="15205"/>
                </a:cubicBezTo>
                <a:cubicBezTo>
                  <a:pt x="3625" y="15259"/>
                  <a:pt x="3716" y="15343"/>
                  <a:pt x="3746" y="15379"/>
                </a:cubicBezTo>
                <a:cubicBezTo>
                  <a:pt x="3790" y="15433"/>
                  <a:pt x="3847" y="15498"/>
                  <a:pt x="3820" y="15577"/>
                </a:cubicBezTo>
                <a:cubicBezTo>
                  <a:pt x="3791" y="15662"/>
                  <a:pt x="3699" y="15673"/>
                  <a:pt x="3621" y="15677"/>
                </a:cubicBezTo>
                <a:cubicBezTo>
                  <a:pt x="3596" y="15678"/>
                  <a:pt x="3493" y="15679"/>
                  <a:pt x="3497" y="15627"/>
                </a:cubicBezTo>
                <a:cubicBezTo>
                  <a:pt x="3521" y="15579"/>
                  <a:pt x="3529" y="15565"/>
                  <a:pt x="3522" y="15528"/>
                </a:cubicBezTo>
              </a:path>
              <a:path w="5086" h="3250">
                <a:moveTo>
                  <a:pt x="4093" y="15081"/>
                </a:moveTo>
                <a:cubicBezTo>
                  <a:pt x="4211" y="15064"/>
                  <a:pt x="4369" y="15029"/>
                  <a:pt x="4490" y="15056"/>
                </a:cubicBezTo>
                <a:cubicBezTo>
                  <a:pt x="4538" y="15067"/>
                  <a:pt x="4561" y="15081"/>
                  <a:pt x="4614" y="15081"/>
                </a:cubicBezTo>
              </a:path>
              <a:path w="5086" h="3250">
                <a:moveTo>
                  <a:pt x="4266" y="15180"/>
                </a:moveTo>
                <a:cubicBezTo>
                  <a:pt x="4194" y="15455"/>
                  <a:pt x="4195" y="15418"/>
                  <a:pt x="4242" y="15627"/>
                </a:cubicBezTo>
                <a:cubicBezTo>
                  <a:pt x="4254" y="15682"/>
                  <a:pt x="4243" y="15733"/>
                  <a:pt x="4291" y="15701"/>
                </a:cubicBezTo>
              </a:path>
              <a:path w="5086" h="3250">
                <a:moveTo>
                  <a:pt x="4539" y="15007"/>
                </a:moveTo>
                <a:cubicBezTo>
                  <a:pt x="4517" y="15132"/>
                  <a:pt x="4493" y="15252"/>
                  <a:pt x="4490" y="15379"/>
                </a:cubicBezTo>
                <a:cubicBezTo>
                  <a:pt x="4487" y="15507"/>
                  <a:pt x="4496" y="15680"/>
                  <a:pt x="4539" y="15801"/>
                </a:cubicBezTo>
                <a:cubicBezTo>
                  <a:pt x="4570" y="15888"/>
                  <a:pt x="4608" y="16006"/>
                  <a:pt x="4713" y="16024"/>
                </a:cubicBezTo>
                <a:cubicBezTo>
                  <a:pt x="4738" y="16024"/>
                  <a:pt x="4762" y="16024"/>
                  <a:pt x="4787" y="16024"/>
                </a:cubicBezTo>
              </a:path>
              <a:path w="5086" h="3250">
                <a:moveTo>
                  <a:pt x="4167" y="13271"/>
                </a:moveTo>
                <a:cubicBezTo>
                  <a:pt x="4167" y="13496"/>
                  <a:pt x="4158" y="13717"/>
                  <a:pt x="4192" y="13940"/>
                </a:cubicBezTo>
                <a:cubicBezTo>
                  <a:pt x="4225" y="14158"/>
                  <a:pt x="4275" y="14370"/>
                  <a:pt x="4316" y="14585"/>
                </a:cubicBezTo>
                <a:cubicBezTo>
                  <a:pt x="4361" y="14822"/>
                  <a:pt x="4424" y="15048"/>
                  <a:pt x="4490" y="15280"/>
                </a:cubicBezTo>
                <a:cubicBezTo>
                  <a:pt x="4547" y="15479"/>
                  <a:pt x="4619" y="15673"/>
                  <a:pt x="4663" y="15875"/>
                </a:cubicBezTo>
                <a:cubicBezTo>
                  <a:pt x="4684" y="15972"/>
                  <a:pt x="4702" y="16057"/>
                  <a:pt x="4738" y="16148"/>
                </a:cubicBezTo>
              </a:path>
              <a:path w="5086" h="3250">
                <a:moveTo>
                  <a:pt x="5928" y="13494"/>
                </a:moveTo>
                <a:cubicBezTo>
                  <a:pt x="5967" y="13659"/>
                  <a:pt x="6025" y="13805"/>
                  <a:pt x="6077" y="13965"/>
                </a:cubicBezTo>
                <a:cubicBezTo>
                  <a:pt x="6152" y="14195"/>
                  <a:pt x="6229" y="14430"/>
                  <a:pt x="6300" y="14660"/>
                </a:cubicBezTo>
                <a:cubicBezTo>
                  <a:pt x="6384" y="14932"/>
                  <a:pt x="6469" y="15204"/>
                  <a:pt x="6548" y="15478"/>
                </a:cubicBezTo>
                <a:cubicBezTo>
                  <a:pt x="6630" y="15762"/>
                  <a:pt x="6669" y="16211"/>
                  <a:pt x="6821" y="16470"/>
                </a:cubicBezTo>
                <a:cubicBezTo>
                  <a:pt x="6890" y="16589"/>
                  <a:pt x="6875" y="16493"/>
                  <a:pt x="6921" y="16470"/>
                </a:cubicBezTo>
              </a:path>
              <a:path w="5086" h="3250">
                <a:moveTo>
                  <a:pt x="6598" y="13494"/>
                </a:moveTo>
                <a:cubicBezTo>
                  <a:pt x="6701" y="13715"/>
                  <a:pt x="6800" y="13940"/>
                  <a:pt x="6896" y="14163"/>
                </a:cubicBezTo>
                <a:cubicBezTo>
                  <a:pt x="7018" y="14444"/>
                  <a:pt x="7118" y="14743"/>
                  <a:pt x="7218" y="15032"/>
                </a:cubicBezTo>
                <a:cubicBezTo>
                  <a:pt x="7295" y="15256"/>
                  <a:pt x="7333" y="15468"/>
                  <a:pt x="7367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67160" y="4089240"/>
            <a:ext cx="1392120" cy="938520"/>
          </a:xfrm>
          <a:custGeom>
            <a:avLst/>
            <a:gdLst/>
            <a:ahLst/>
            <a:rect l="l" t="t" r="r" b="b"/>
            <a:pathLst>
              <a:path w="3871" h="2605">
                <a:moveTo>
                  <a:pt x="12129" y="11559"/>
                </a:moveTo>
                <a:cubicBezTo>
                  <a:pt x="12139" y="11518"/>
                  <a:pt x="12157" y="11490"/>
                  <a:pt x="12204" y="11485"/>
                </a:cubicBezTo>
                <a:cubicBezTo>
                  <a:pt x="12292" y="11476"/>
                  <a:pt x="12371" y="11499"/>
                  <a:pt x="12452" y="11509"/>
                </a:cubicBezTo>
                <a:cubicBezTo>
                  <a:pt x="12566" y="11523"/>
                  <a:pt x="12989" y="11567"/>
                  <a:pt x="13072" y="11485"/>
                </a:cubicBezTo>
                <a:cubicBezTo>
                  <a:pt x="13094" y="11463"/>
                  <a:pt x="13056" y="11422"/>
                  <a:pt x="13047" y="11410"/>
                </a:cubicBezTo>
              </a:path>
              <a:path w="3871" h="2605">
                <a:moveTo>
                  <a:pt x="12502" y="11509"/>
                </a:moveTo>
                <a:cubicBezTo>
                  <a:pt x="12502" y="11665"/>
                  <a:pt x="12498" y="11806"/>
                  <a:pt x="12477" y="11956"/>
                </a:cubicBezTo>
                <a:cubicBezTo>
                  <a:pt x="12467" y="12032"/>
                  <a:pt x="12482" y="12093"/>
                  <a:pt x="12502" y="12154"/>
                </a:cubicBezTo>
                <a:cubicBezTo>
                  <a:pt x="12502" y="12179"/>
                  <a:pt x="12502" y="12187"/>
                  <a:pt x="12526" y="12179"/>
                </a:cubicBezTo>
              </a:path>
              <a:path w="3871" h="2605">
                <a:moveTo>
                  <a:pt x="12824" y="11460"/>
                </a:moveTo>
                <a:cubicBezTo>
                  <a:pt x="12814" y="11593"/>
                  <a:pt x="12799" y="11723"/>
                  <a:pt x="12799" y="11857"/>
                </a:cubicBezTo>
                <a:cubicBezTo>
                  <a:pt x="12799" y="11962"/>
                  <a:pt x="12829" y="12037"/>
                  <a:pt x="12874" y="12129"/>
                </a:cubicBezTo>
                <a:cubicBezTo>
                  <a:pt x="12895" y="12173"/>
                  <a:pt x="12898" y="12185"/>
                  <a:pt x="12923" y="12204"/>
                </a:cubicBezTo>
              </a:path>
              <a:path w="3871" h="2605">
                <a:moveTo>
                  <a:pt x="12129" y="12303"/>
                </a:moveTo>
                <a:cubicBezTo>
                  <a:pt x="12430" y="12303"/>
                  <a:pt x="12765" y="12331"/>
                  <a:pt x="13047" y="12278"/>
                </a:cubicBezTo>
                <a:cubicBezTo>
                  <a:pt x="13089" y="12278"/>
                  <a:pt x="13097" y="12278"/>
                  <a:pt x="13122" y="12278"/>
                </a:cubicBezTo>
              </a:path>
              <a:path w="3871" h="2605">
                <a:moveTo>
                  <a:pt x="12700" y="12650"/>
                </a:moveTo>
                <a:cubicBezTo>
                  <a:pt x="12692" y="12658"/>
                  <a:pt x="12683" y="12667"/>
                  <a:pt x="12675" y="12675"/>
                </a:cubicBezTo>
                <a:cubicBezTo>
                  <a:pt x="12696" y="12640"/>
                  <a:pt x="12716" y="12611"/>
                  <a:pt x="12750" y="12576"/>
                </a:cubicBezTo>
                <a:cubicBezTo>
                  <a:pt x="12792" y="12533"/>
                  <a:pt x="12887" y="12514"/>
                  <a:pt x="12948" y="12526"/>
                </a:cubicBezTo>
                <a:cubicBezTo>
                  <a:pt x="12986" y="12534"/>
                  <a:pt x="13024" y="12565"/>
                  <a:pt x="13047" y="12601"/>
                </a:cubicBezTo>
                <a:cubicBezTo>
                  <a:pt x="13090" y="12667"/>
                  <a:pt x="13094" y="12773"/>
                  <a:pt x="13097" y="12849"/>
                </a:cubicBezTo>
                <a:cubicBezTo>
                  <a:pt x="13101" y="12947"/>
                  <a:pt x="13086" y="13105"/>
                  <a:pt x="13047" y="13196"/>
                </a:cubicBezTo>
                <a:cubicBezTo>
                  <a:pt x="13006" y="13293"/>
                  <a:pt x="12943" y="13389"/>
                  <a:pt x="12874" y="13469"/>
                </a:cubicBezTo>
                <a:cubicBezTo>
                  <a:pt x="12813" y="13541"/>
                  <a:pt x="12745" y="13600"/>
                  <a:pt x="12650" y="13618"/>
                </a:cubicBezTo>
                <a:cubicBezTo>
                  <a:pt x="12587" y="13630"/>
                  <a:pt x="12567" y="13610"/>
                  <a:pt x="12526" y="13568"/>
                </a:cubicBezTo>
                <a:cubicBezTo>
                  <a:pt x="12477" y="13518"/>
                  <a:pt x="12457" y="13469"/>
                  <a:pt x="12477" y="13395"/>
                </a:cubicBezTo>
                <a:cubicBezTo>
                  <a:pt x="12490" y="13346"/>
                  <a:pt x="12543" y="13282"/>
                  <a:pt x="12576" y="13246"/>
                </a:cubicBezTo>
                <a:cubicBezTo>
                  <a:pt x="12605" y="13214"/>
                  <a:pt x="12658" y="13203"/>
                  <a:pt x="12700" y="13196"/>
                </a:cubicBezTo>
                <a:cubicBezTo>
                  <a:pt x="12772" y="13185"/>
                  <a:pt x="12788" y="13221"/>
                  <a:pt x="12849" y="13246"/>
                </a:cubicBezTo>
                <a:cubicBezTo>
                  <a:pt x="12895" y="13265"/>
                  <a:pt x="12942" y="13272"/>
                  <a:pt x="12973" y="13320"/>
                </a:cubicBezTo>
                <a:cubicBezTo>
                  <a:pt x="13001" y="13364"/>
                  <a:pt x="13021" y="13406"/>
                  <a:pt x="13072" y="13419"/>
                </a:cubicBezTo>
                <a:cubicBezTo>
                  <a:pt x="13097" y="13419"/>
                  <a:pt x="13105" y="13419"/>
                  <a:pt x="13122" y="13419"/>
                </a:cubicBezTo>
              </a:path>
              <a:path w="3871" h="2605">
                <a:moveTo>
                  <a:pt x="13593" y="12204"/>
                </a:moveTo>
                <a:cubicBezTo>
                  <a:pt x="13760" y="12185"/>
                  <a:pt x="13803" y="12172"/>
                  <a:pt x="13940" y="12204"/>
                </a:cubicBezTo>
                <a:cubicBezTo>
                  <a:pt x="13948" y="12204"/>
                  <a:pt x="13957" y="12204"/>
                  <a:pt x="13965" y="12204"/>
                </a:cubicBezTo>
              </a:path>
              <a:path w="3871" h="2605">
                <a:moveTo>
                  <a:pt x="13667" y="12477"/>
                </a:moveTo>
                <a:cubicBezTo>
                  <a:pt x="13786" y="12498"/>
                  <a:pt x="13874" y="12520"/>
                  <a:pt x="13990" y="12477"/>
                </a:cubicBezTo>
                <a:cubicBezTo>
                  <a:pt x="14006" y="12469"/>
                  <a:pt x="14023" y="12460"/>
                  <a:pt x="14039" y="12452"/>
                </a:cubicBezTo>
              </a:path>
              <a:path w="3871" h="2605">
                <a:moveTo>
                  <a:pt x="15180" y="11460"/>
                </a:moveTo>
                <a:cubicBezTo>
                  <a:pt x="15204" y="11507"/>
                  <a:pt x="15204" y="11520"/>
                  <a:pt x="15230" y="11559"/>
                </a:cubicBezTo>
                <a:cubicBezTo>
                  <a:pt x="15214" y="11526"/>
                  <a:pt x="15227" y="11504"/>
                  <a:pt x="15205" y="11460"/>
                </a:cubicBezTo>
                <a:cubicBezTo>
                  <a:pt x="15179" y="11408"/>
                  <a:pt x="15107" y="11371"/>
                  <a:pt x="15056" y="11361"/>
                </a:cubicBezTo>
                <a:cubicBezTo>
                  <a:pt x="14989" y="11348"/>
                  <a:pt x="14917" y="11385"/>
                  <a:pt x="14858" y="11410"/>
                </a:cubicBezTo>
                <a:cubicBezTo>
                  <a:pt x="14795" y="11437"/>
                  <a:pt x="14718" y="11524"/>
                  <a:pt x="14684" y="11584"/>
                </a:cubicBezTo>
                <a:cubicBezTo>
                  <a:pt x="14638" y="11663"/>
                  <a:pt x="14553" y="11788"/>
                  <a:pt x="14610" y="11881"/>
                </a:cubicBezTo>
                <a:cubicBezTo>
                  <a:pt x="14658" y="11959"/>
                  <a:pt x="14753" y="12000"/>
                  <a:pt x="14833" y="12030"/>
                </a:cubicBezTo>
                <a:cubicBezTo>
                  <a:pt x="14951" y="12074"/>
                  <a:pt x="15060" y="12118"/>
                  <a:pt x="15180" y="12154"/>
                </a:cubicBezTo>
                <a:cubicBezTo>
                  <a:pt x="15248" y="12174"/>
                  <a:pt x="15360" y="12210"/>
                  <a:pt x="15429" y="12179"/>
                </a:cubicBezTo>
                <a:cubicBezTo>
                  <a:pt x="15457" y="12179"/>
                  <a:pt x="15462" y="12176"/>
                  <a:pt x="15429" y="12154"/>
                </a:cubicBezTo>
              </a:path>
              <a:path w="3871" h="2605">
                <a:moveTo>
                  <a:pt x="14635" y="12303"/>
                </a:moveTo>
                <a:cubicBezTo>
                  <a:pt x="14666" y="12350"/>
                  <a:pt x="14742" y="12338"/>
                  <a:pt x="14808" y="12353"/>
                </a:cubicBezTo>
                <a:cubicBezTo>
                  <a:pt x="14927" y="12381"/>
                  <a:pt x="15057" y="12411"/>
                  <a:pt x="15180" y="12427"/>
                </a:cubicBezTo>
                <a:cubicBezTo>
                  <a:pt x="15286" y="12441"/>
                  <a:pt x="15399" y="12454"/>
                  <a:pt x="15503" y="12477"/>
                </a:cubicBezTo>
                <a:cubicBezTo>
                  <a:pt x="15545" y="12486"/>
                  <a:pt x="15644" y="12541"/>
                  <a:pt x="15602" y="12477"/>
                </a:cubicBezTo>
              </a:path>
              <a:path w="3871" h="2605">
                <a:moveTo>
                  <a:pt x="15379" y="12923"/>
                </a:moveTo>
                <a:cubicBezTo>
                  <a:pt x="15355" y="12869"/>
                  <a:pt x="15351" y="12829"/>
                  <a:pt x="15280" y="12824"/>
                </a:cubicBezTo>
                <a:cubicBezTo>
                  <a:pt x="15264" y="12823"/>
                  <a:pt x="15015" y="12796"/>
                  <a:pt x="14982" y="12849"/>
                </a:cubicBezTo>
                <a:cubicBezTo>
                  <a:pt x="14957" y="12889"/>
                  <a:pt x="14988" y="12988"/>
                  <a:pt x="15007" y="13022"/>
                </a:cubicBezTo>
                <a:cubicBezTo>
                  <a:pt x="15060" y="13116"/>
                  <a:pt x="15122" y="13205"/>
                  <a:pt x="15156" y="13295"/>
                </a:cubicBezTo>
                <a:cubicBezTo>
                  <a:pt x="15177" y="13339"/>
                  <a:pt x="15190" y="13350"/>
                  <a:pt x="15156" y="13370"/>
                </a:cubicBezTo>
                <a:cubicBezTo>
                  <a:pt x="15107" y="13370"/>
                  <a:pt x="15064" y="13364"/>
                  <a:pt x="15032" y="13320"/>
                </a:cubicBezTo>
                <a:cubicBezTo>
                  <a:pt x="15015" y="13296"/>
                  <a:pt x="14962" y="13232"/>
                  <a:pt x="14982" y="13196"/>
                </a:cubicBezTo>
                <a:cubicBezTo>
                  <a:pt x="15016" y="13136"/>
                  <a:pt x="15026" y="13123"/>
                  <a:pt x="15081" y="13072"/>
                </a:cubicBezTo>
                <a:cubicBezTo>
                  <a:pt x="15144" y="13013"/>
                  <a:pt x="15195" y="12951"/>
                  <a:pt x="15255" y="12898"/>
                </a:cubicBezTo>
                <a:cubicBezTo>
                  <a:pt x="15304" y="12849"/>
                  <a:pt x="15321" y="12832"/>
                  <a:pt x="15354" y="12799"/>
                </a:cubicBezTo>
              </a:path>
              <a:path w="3871" h="2605">
                <a:moveTo>
                  <a:pt x="15503" y="12750"/>
                </a:moveTo>
                <a:cubicBezTo>
                  <a:pt x="15478" y="12921"/>
                  <a:pt x="15446" y="13079"/>
                  <a:pt x="15404" y="13246"/>
                </a:cubicBezTo>
                <a:cubicBezTo>
                  <a:pt x="15369" y="13384"/>
                  <a:pt x="15300" y="13527"/>
                  <a:pt x="15280" y="13667"/>
                </a:cubicBezTo>
                <a:cubicBezTo>
                  <a:pt x="15272" y="13725"/>
                  <a:pt x="15282" y="13839"/>
                  <a:pt x="15255" y="13891"/>
                </a:cubicBezTo>
                <a:cubicBezTo>
                  <a:pt x="15247" y="13899"/>
                  <a:pt x="15238" y="13907"/>
                  <a:pt x="15230" y="13915"/>
                </a:cubicBezTo>
              </a:path>
              <a:path w="3871" h="2605">
                <a:moveTo>
                  <a:pt x="15652" y="13271"/>
                </a:moveTo>
                <a:cubicBezTo>
                  <a:pt x="15677" y="13271"/>
                  <a:pt x="15842" y="13259"/>
                  <a:pt x="15875" y="13295"/>
                </a:cubicBezTo>
                <a:cubicBezTo>
                  <a:pt x="15901" y="13323"/>
                  <a:pt x="15927" y="13424"/>
                  <a:pt x="15875" y="13444"/>
                </a:cubicBezTo>
                <a:cubicBezTo>
                  <a:pt x="15832" y="13460"/>
                  <a:pt x="15766" y="13449"/>
                  <a:pt x="15726" y="13469"/>
                </a:cubicBezTo>
                <a:cubicBezTo>
                  <a:pt x="15704" y="13491"/>
                  <a:pt x="15699" y="13500"/>
                  <a:pt x="15677" y="13494"/>
                </a:cubicBezTo>
                <a:cubicBezTo>
                  <a:pt x="15723" y="13531"/>
                  <a:pt x="15780" y="13555"/>
                  <a:pt x="15825" y="13593"/>
                </a:cubicBezTo>
                <a:cubicBezTo>
                  <a:pt x="15907" y="13661"/>
                  <a:pt x="15969" y="13738"/>
                  <a:pt x="15999" y="13841"/>
                </a:cubicBezTo>
                <a:cubicBezTo>
                  <a:pt x="16004" y="13858"/>
                  <a:pt x="15968" y="13934"/>
                  <a:pt x="15949" y="13940"/>
                </a:cubicBezTo>
                <a:cubicBezTo>
                  <a:pt x="15872" y="13964"/>
                  <a:pt x="15783" y="13965"/>
                  <a:pt x="15701" y="13965"/>
                </a:cubicBezTo>
                <a:cubicBezTo>
                  <a:pt x="15627" y="13965"/>
                  <a:pt x="15602" y="13965"/>
                  <a:pt x="15553" y="13965"/>
                </a:cubicBezTo>
              </a:path>
              <a:path w="3871" h="2605">
                <a:moveTo>
                  <a:pt x="13519" y="11956"/>
                </a:moveTo>
                <a:cubicBezTo>
                  <a:pt x="13574" y="12012"/>
                  <a:pt x="13610" y="12035"/>
                  <a:pt x="13667" y="12080"/>
                </a:cubicBezTo>
                <a:cubicBezTo>
                  <a:pt x="13790" y="12178"/>
                  <a:pt x="13895" y="12301"/>
                  <a:pt x="14015" y="12402"/>
                </a:cubicBezTo>
                <a:cubicBezTo>
                  <a:pt x="14141" y="12507"/>
                  <a:pt x="14273" y="12569"/>
                  <a:pt x="14412" y="12650"/>
                </a:cubicBezTo>
                <a:cubicBezTo>
                  <a:pt x="14497" y="12699"/>
                  <a:pt x="14585" y="12758"/>
                  <a:pt x="14660" y="12799"/>
                </a:cubicBezTo>
                <a:cubicBezTo>
                  <a:pt x="14723" y="12833"/>
                  <a:pt x="14698" y="12814"/>
                  <a:pt x="14734" y="12799"/>
                </a:cubicBezTo>
              </a:path>
              <a:path w="3871" h="2605">
                <a:moveTo>
                  <a:pt x="14362" y="11708"/>
                </a:moveTo>
                <a:cubicBezTo>
                  <a:pt x="14320" y="11859"/>
                  <a:pt x="14283" y="11960"/>
                  <a:pt x="14188" y="12080"/>
                </a:cubicBezTo>
                <a:cubicBezTo>
                  <a:pt x="14100" y="12192"/>
                  <a:pt x="14004" y="12292"/>
                  <a:pt x="13915" y="12402"/>
                </a:cubicBezTo>
                <a:cubicBezTo>
                  <a:pt x="13834" y="12502"/>
                  <a:pt x="13764" y="12617"/>
                  <a:pt x="13692" y="12725"/>
                </a:cubicBezTo>
                <a:cubicBezTo>
                  <a:pt x="13646" y="12794"/>
                  <a:pt x="13634" y="12814"/>
                  <a:pt x="13593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5760" y="5875200"/>
            <a:ext cx="249120" cy="563760"/>
          </a:xfrm>
          <a:custGeom>
            <a:avLst/>
            <a:gdLst/>
            <a:ahLst/>
            <a:rect l="l" t="t" r="r" b="b"/>
            <a:pathLst>
              <a:path w="696" h="1564">
                <a:moveTo>
                  <a:pt x="4837" y="16396"/>
                </a:moveTo>
                <a:cubicBezTo>
                  <a:pt x="4774" y="16361"/>
                  <a:pt x="4644" y="16245"/>
                  <a:pt x="4589" y="16371"/>
                </a:cubicBezTo>
                <a:cubicBezTo>
                  <a:pt x="4567" y="16422"/>
                  <a:pt x="4597" y="16526"/>
                  <a:pt x="4614" y="16570"/>
                </a:cubicBezTo>
                <a:cubicBezTo>
                  <a:pt x="4645" y="16648"/>
                  <a:pt x="4760" y="16840"/>
                  <a:pt x="4738" y="16942"/>
                </a:cubicBezTo>
                <a:cubicBezTo>
                  <a:pt x="4718" y="16982"/>
                  <a:pt x="4709" y="16988"/>
                  <a:pt x="4713" y="17016"/>
                </a:cubicBezTo>
                <a:cubicBezTo>
                  <a:pt x="4675" y="17016"/>
                  <a:pt x="4619" y="17006"/>
                  <a:pt x="4589" y="16991"/>
                </a:cubicBezTo>
                <a:cubicBezTo>
                  <a:pt x="4551" y="16972"/>
                  <a:pt x="4524" y="16880"/>
                  <a:pt x="4514" y="16842"/>
                </a:cubicBezTo>
                <a:cubicBezTo>
                  <a:pt x="4508" y="16819"/>
                  <a:pt x="4545" y="16756"/>
                  <a:pt x="4564" y="16743"/>
                </a:cubicBezTo>
                <a:cubicBezTo>
                  <a:pt x="4628" y="16699"/>
                  <a:pt x="4678" y="16650"/>
                  <a:pt x="4738" y="16594"/>
                </a:cubicBezTo>
                <a:cubicBezTo>
                  <a:pt x="4772" y="16562"/>
                  <a:pt x="4804" y="16528"/>
                  <a:pt x="4837" y="16495"/>
                </a:cubicBezTo>
              </a:path>
              <a:path w="696" h="1564">
                <a:moveTo>
                  <a:pt x="5060" y="16346"/>
                </a:moveTo>
                <a:cubicBezTo>
                  <a:pt x="5038" y="16447"/>
                  <a:pt x="5028" y="16548"/>
                  <a:pt x="4986" y="16644"/>
                </a:cubicBezTo>
                <a:cubicBezTo>
                  <a:pt x="4933" y="16764"/>
                  <a:pt x="4880" y="16892"/>
                  <a:pt x="4837" y="17016"/>
                </a:cubicBezTo>
                <a:cubicBezTo>
                  <a:pt x="4788" y="17159"/>
                  <a:pt x="4709" y="17293"/>
                  <a:pt x="4663" y="17438"/>
                </a:cubicBezTo>
                <a:cubicBezTo>
                  <a:pt x="4652" y="17475"/>
                  <a:pt x="4646" y="17524"/>
                  <a:pt x="4638" y="17562"/>
                </a:cubicBezTo>
              </a:path>
              <a:path w="696" h="1564">
                <a:moveTo>
                  <a:pt x="4911" y="17190"/>
                </a:moveTo>
                <a:cubicBezTo>
                  <a:pt x="5034" y="17175"/>
                  <a:pt x="5042" y="17165"/>
                  <a:pt x="5135" y="17214"/>
                </a:cubicBezTo>
                <a:cubicBezTo>
                  <a:pt x="5180" y="17238"/>
                  <a:pt x="5203" y="17263"/>
                  <a:pt x="5209" y="17314"/>
                </a:cubicBezTo>
                <a:cubicBezTo>
                  <a:pt x="5213" y="17354"/>
                  <a:pt x="5161" y="17387"/>
                  <a:pt x="5135" y="17413"/>
                </a:cubicBezTo>
                <a:cubicBezTo>
                  <a:pt x="5107" y="17441"/>
                  <a:pt x="5071" y="17453"/>
                  <a:pt x="5035" y="17462"/>
                </a:cubicBezTo>
                <a:cubicBezTo>
                  <a:pt x="5046" y="17518"/>
                  <a:pt x="5097" y="17543"/>
                  <a:pt x="5110" y="17587"/>
                </a:cubicBezTo>
                <a:cubicBezTo>
                  <a:pt x="5129" y="17653"/>
                  <a:pt x="5113" y="17758"/>
                  <a:pt x="5085" y="17810"/>
                </a:cubicBezTo>
                <a:cubicBezTo>
                  <a:pt x="5041" y="17891"/>
                  <a:pt x="5026" y="17884"/>
                  <a:pt x="4936" y="17884"/>
                </a:cubicBezTo>
                <a:cubicBezTo>
                  <a:pt x="4853" y="17884"/>
                  <a:pt x="4833" y="17873"/>
                  <a:pt x="4762" y="17835"/>
                </a:cubicBezTo>
                <a:cubicBezTo>
                  <a:pt x="4682" y="17793"/>
                  <a:pt x="4696" y="17772"/>
                  <a:pt x="4688" y="176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71800" y="5973840"/>
            <a:ext cx="420480" cy="393480"/>
          </a:xfrm>
          <a:custGeom>
            <a:avLst/>
            <a:gdLst/>
            <a:ahLst/>
            <a:rect l="l" t="t" r="r" b="b"/>
            <a:pathLst>
              <a:path w="1167" h="1093">
                <a:moveTo>
                  <a:pt x="5755" y="16842"/>
                </a:moveTo>
                <a:cubicBezTo>
                  <a:pt x="5882" y="16936"/>
                  <a:pt x="5970" y="16985"/>
                  <a:pt x="6127" y="17016"/>
                </a:cubicBezTo>
                <a:cubicBezTo>
                  <a:pt x="6177" y="17024"/>
                  <a:pt x="6226" y="17033"/>
                  <a:pt x="6276" y="17041"/>
                </a:cubicBezTo>
              </a:path>
              <a:path w="1167" h="1093">
                <a:moveTo>
                  <a:pt x="5779" y="17140"/>
                </a:moveTo>
                <a:cubicBezTo>
                  <a:pt x="5903" y="17181"/>
                  <a:pt x="5996" y="17190"/>
                  <a:pt x="6127" y="17190"/>
                </a:cubicBezTo>
              </a:path>
              <a:path w="1167" h="1093">
                <a:moveTo>
                  <a:pt x="6548" y="16594"/>
                </a:moveTo>
                <a:cubicBezTo>
                  <a:pt x="6528" y="16742"/>
                  <a:pt x="6513" y="16873"/>
                  <a:pt x="6474" y="17016"/>
                </a:cubicBezTo>
                <a:cubicBezTo>
                  <a:pt x="6442" y="17134"/>
                  <a:pt x="6437" y="17269"/>
                  <a:pt x="6424" y="17388"/>
                </a:cubicBezTo>
                <a:cubicBezTo>
                  <a:pt x="6414" y="17479"/>
                  <a:pt x="6442" y="17551"/>
                  <a:pt x="6449" y="17636"/>
                </a:cubicBezTo>
                <a:cubicBezTo>
                  <a:pt x="6449" y="17644"/>
                  <a:pt x="6449" y="17653"/>
                  <a:pt x="6449" y="17661"/>
                </a:cubicBezTo>
                <a:cubicBezTo>
                  <a:pt x="6482" y="17642"/>
                  <a:pt x="6522" y="17627"/>
                  <a:pt x="6548" y="17587"/>
                </a:cubicBezTo>
                <a:cubicBezTo>
                  <a:pt x="6592" y="17518"/>
                  <a:pt x="6652" y="17470"/>
                  <a:pt x="6697" y="17413"/>
                </a:cubicBezTo>
                <a:cubicBezTo>
                  <a:pt x="6734" y="17366"/>
                  <a:pt x="6741" y="17270"/>
                  <a:pt x="6796" y="17239"/>
                </a:cubicBezTo>
                <a:cubicBezTo>
                  <a:pt x="6804" y="17239"/>
                  <a:pt x="6813" y="17239"/>
                  <a:pt x="6821" y="17239"/>
                </a:cubicBezTo>
                <a:cubicBezTo>
                  <a:pt x="6858" y="17260"/>
                  <a:pt x="6913" y="17277"/>
                  <a:pt x="6921" y="17338"/>
                </a:cubicBezTo>
                <a:cubicBezTo>
                  <a:pt x="6930" y="17413"/>
                  <a:pt x="6946" y="17558"/>
                  <a:pt x="6871" y="17611"/>
                </a:cubicBezTo>
                <a:cubicBezTo>
                  <a:pt x="6820" y="17647"/>
                  <a:pt x="6757" y="17676"/>
                  <a:pt x="6697" y="17686"/>
                </a:cubicBezTo>
                <a:cubicBezTo>
                  <a:pt x="6607" y="17701"/>
                  <a:pt x="6533" y="17671"/>
                  <a:pt x="6449" y="17661"/>
                </a:cubicBezTo>
                <a:cubicBezTo>
                  <a:pt x="6371" y="17652"/>
                  <a:pt x="6346" y="17647"/>
                  <a:pt x="6276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83080" y="5938920"/>
            <a:ext cx="554040" cy="731880"/>
          </a:xfrm>
          <a:custGeom>
            <a:avLst/>
            <a:gdLst/>
            <a:ahLst/>
            <a:rect l="l" t="t" r="r" b="b"/>
            <a:pathLst>
              <a:path w="1539" h="2035">
                <a:moveTo>
                  <a:pt x="12601" y="16570"/>
                </a:moveTo>
                <a:cubicBezTo>
                  <a:pt x="12654" y="16587"/>
                  <a:pt x="12605" y="16616"/>
                  <a:pt x="12601" y="16669"/>
                </a:cubicBezTo>
                <a:cubicBezTo>
                  <a:pt x="12596" y="16739"/>
                  <a:pt x="12551" y="16757"/>
                  <a:pt x="12526" y="16818"/>
                </a:cubicBezTo>
                <a:cubicBezTo>
                  <a:pt x="12508" y="16861"/>
                  <a:pt x="12541" y="16886"/>
                  <a:pt x="12551" y="16917"/>
                </a:cubicBezTo>
                <a:cubicBezTo>
                  <a:pt x="12573" y="16983"/>
                  <a:pt x="12611" y="16967"/>
                  <a:pt x="12675" y="16991"/>
                </a:cubicBezTo>
                <a:cubicBezTo>
                  <a:pt x="12743" y="17017"/>
                  <a:pt x="12774" y="17041"/>
                  <a:pt x="12849" y="17041"/>
                </a:cubicBezTo>
                <a:cubicBezTo>
                  <a:pt x="12897" y="17041"/>
                  <a:pt x="12910" y="17039"/>
                  <a:pt x="12948" y="17016"/>
                </a:cubicBezTo>
              </a:path>
              <a:path w="1539" h="2035">
                <a:moveTo>
                  <a:pt x="13047" y="16495"/>
                </a:moveTo>
                <a:cubicBezTo>
                  <a:pt x="12989" y="16656"/>
                  <a:pt x="12953" y="16736"/>
                  <a:pt x="12948" y="16917"/>
                </a:cubicBezTo>
                <a:cubicBezTo>
                  <a:pt x="12945" y="17017"/>
                  <a:pt x="12941" y="17140"/>
                  <a:pt x="12923" y="17239"/>
                </a:cubicBezTo>
                <a:cubicBezTo>
                  <a:pt x="12915" y="17264"/>
                  <a:pt x="12906" y="17289"/>
                  <a:pt x="12898" y="17314"/>
                </a:cubicBezTo>
              </a:path>
              <a:path w="1539" h="2035">
                <a:moveTo>
                  <a:pt x="12452" y="17388"/>
                </a:moveTo>
                <a:cubicBezTo>
                  <a:pt x="12635" y="17394"/>
                  <a:pt x="12795" y="17421"/>
                  <a:pt x="12973" y="17438"/>
                </a:cubicBezTo>
                <a:cubicBezTo>
                  <a:pt x="13050" y="17446"/>
                  <a:pt x="13101" y="17427"/>
                  <a:pt x="13171" y="17413"/>
                </a:cubicBezTo>
              </a:path>
              <a:path w="1539" h="2035">
                <a:moveTo>
                  <a:pt x="12675" y="17686"/>
                </a:moveTo>
                <a:cubicBezTo>
                  <a:pt x="12722" y="17698"/>
                  <a:pt x="12773" y="17697"/>
                  <a:pt x="12824" y="17711"/>
                </a:cubicBezTo>
                <a:cubicBezTo>
                  <a:pt x="12890" y="17729"/>
                  <a:pt x="12963" y="17744"/>
                  <a:pt x="13022" y="17785"/>
                </a:cubicBezTo>
                <a:cubicBezTo>
                  <a:pt x="13030" y="17793"/>
                  <a:pt x="13039" y="17802"/>
                  <a:pt x="13047" y="17810"/>
                </a:cubicBezTo>
                <a:cubicBezTo>
                  <a:pt x="13047" y="17848"/>
                  <a:pt x="13041" y="17875"/>
                  <a:pt x="12998" y="17884"/>
                </a:cubicBezTo>
                <a:cubicBezTo>
                  <a:pt x="12951" y="17894"/>
                  <a:pt x="12923" y="17909"/>
                  <a:pt x="12874" y="17909"/>
                </a:cubicBezTo>
                <a:cubicBezTo>
                  <a:pt x="12866" y="17909"/>
                  <a:pt x="12857" y="17909"/>
                  <a:pt x="12849" y="17909"/>
                </a:cubicBezTo>
                <a:cubicBezTo>
                  <a:pt x="12865" y="17987"/>
                  <a:pt x="12914" y="18017"/>
                  <a:pt x="12948" y="18083"/>
                </a:cubicBezTo>
                <a:cubicBezTo>
                  <a:pt x="12986" y="18155"/>
                  <a:pt x="13002" y="18335"/>
                  <a:pt x="12948" y="18405"/>
                </a:cubicBezTo>
                <a:cubicBezTo>
                  <a:pt x="12915" y="18447"/>
                  <a:pt x="12834" y="18516"/>
                  <a:pt x="12774" y="18529"/>
                </a:cubicBezTo>
                <a:cubicBezTo>
                  <a:pt x="12709" y="18544"/>
                  <a:pt x="12638" y="18538"/>
                  <a:pt x="12601" y="18479"/>
                </a:cubicBezTo>
                <a:cubicBezTo>
                  <a:pt x="12570" y="18431"/>
                  <a:pt x="12580" y="18334"/>
                  <a:pt x="12576" y="18281"/>
                </a:cubicBezTo>
              </a:path>
              <a:path w="1539" h="2035">
                <a:moveTo>
                  <a:pt x="13469" y="17289"/>
                </a:moveTo>
                <a:cubicBezTo>
                  <a:pt x="13602" y="17270"/>
                  <a:pt x="13735" y="17256"/>
                  <a:pt x="13866" y="17239"/>
                </a:cubicBezTo>
                <a:cubicBezTo>
                  <a:pt x="13963" y="17226"/>
                  <a:pt x="13944" y="17230"/>
                  <a:pt x="13990" y="17140"/>
                </a:cubicBezTo>
              </a:path>
              <a:path w="1539" h="2035">
                <a:moveTo>
                  <a:pt x="13593" y="17314"/>
                </a:moveTo>
                <a:cubicBezTo>
                  <a:pt x="13570" y="17435"/>
                  <a:pt x="13543" y="17539"/>
                  <a:pt x="13543" y="17661"/>
                </a:cubicBezTo>
                <a:cubicBezTo>
                  <a:pt x="13543" y="17716"/>
                  <a:pt x="13514" y="17796"/>
                  <a:pt x="13568" y="17760"/>
                </a:cubicBezTo>
              </a:path>
              <a:path w="1539" h="2035">
                <a:moveTo>
                  <a:pt x="13816" y="17214"/>
                </a:moveTo>
                <a:cubicBezTo>
                  <a:pt x="13801" y="17287"/>
                  <a:pt x="13776" y="17358"/>
                  <a:pt x="13791" y="17438"/>
                </a:cubicBezTo>
                <a:cubicBezTo>
                  <a:pt x="13817" y="17575"/>
                  <a:pt x="13873" y="17704"/>
                  <a:pt x="13915" y="17835"/>
                </a:cubicBezTo>
                <a:cubicBezTo>
                  <a:pt x="13939" y="17907"/>
                  <a:pt x="13946" y="17930"/>
                  <a:pt x="13990" y="179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Write an equation of the cosine function with amplitude 3.5, peri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, phase shif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, and vertical shift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1240" y="2178000"/>
            <a:ext cx="785880" cy="1009800"/>
          </a:xfrm>
          <a:custGeom>
            <a:avLst/>
            <a:gdLst/>
            <a:ahLst/>
            <a:rect l="l" t="t" r="r" b="b"/>
            <a:pathLst>
              <a:path w="2184" h="2804">
                <a:moveTo>
                  <a:pt x="2059" y="6152"/>
                </a:moveTo>
                <a:cubicBezTo>
                  <a:pt x="2065" y="6172"/>
                  <a:pt x="2082" y="6194"/>
                  <a:pt x="2084" y="6251"/>
                </a:cubicBezTo>
                <a:cubicBezTo>
                  <a:pt x="2090" y="6435"/>
                  <a:pt x="2094" y="6614"/>
                  <a:pt x="2108" y="6796"/>
                </a:cubicBezTo>
                <a:cubicBezTo>
                  <a:pt x="2118" y="6933"/>
                  <a:pt x="2144" y="7060"/>
                  <a:pt x="2183" y="7193"/>
                </a:cubicBezTo>
                <a:cubicBezTo>
                  <a:pt x="2217" y="7311"/>
                  <a:pt x="2241" y="7345"/>
                  <a:pt x="2332" y="7417"/>
                </a:cubicBezTo>
                <a:cubicBezTo>
                  <a:pt x="2417" y="7484"/>
                  <a:pt x="2458" y="7452"/>
                  <a:pt x="2555" y="7392"/>
                </a:cubicBezTo>
                <a:cubicBezTo>
                  <a:pt x="2664" y="7325"/>
                  <a:pt x="2758" y="7132"/>
                  <a:pt x="2803" y="7020"/>
                </a:cubicBezTo>
                <a:cubicBezTo>
                  <a:pt x="2852" y="6897"/>
                  <a:pt x="2910" y="6774"/>
                  <a:pt x="2952" y="6648"/>
                </a:cubicBezTo>
                <a:cubicBezTo>
                  <a:pt x="2990" y="6533"/>
                  <a:pt x="2997" y="6415"/>
                  <a:pt x="3026" y="6300"/>
                </a:cubicBezTo>
                <a:cubicBezTo>
                  <a:pt x="3043" y="6233"/>
                  <a:pt x="3048" y="6172"/>
                  <a:pt x="3051" y="6102"/>
                </a:cubicBezTo>
                <a:cubicBezTo>
                  <a:pt x="3052" y="6077"/>
                  <a:pt x="3051" y="6102"/>
                  <a:pt x="3051" y="6077"/>
                </a:cubicBezTo>
                <a:cubicBezTo>
                  <a:pt x="3051" y="6147"/>
                  <a:pt x="3031" y="6213"/>
                  <a:pt x="3026" y="6276"/>
                </a:cubicBezTo>
                <a:cubicBezTo>
                  <a:pt x="3015" y="6411"/>
                  <a:pt x="3048" y="6538"/>
                  <a:pt x="3051" y="6672"/>
                </a:cubicBezTo>
                <a:cubicBezTo>
                  <a:pt x="3055" y="6838"/>
                  <a:pt x="3072" y="6981"/>
                  <a:pt x="3101" y="7144"/>
                </a:cubicBezTo>
                <a:cubicBezTo>
                  <a:pt x="3145" y="7392"/>
                  <a:pt x="3171" y="7636"/>
                  <a:pt x="3175" y="7888"/>
                </a:cubicBezTo>
                <a:cubicBezTo>
                  <a:pt x="3178" y="8073"/>
                  <a:pt x="3153" y="8241"/>
                  <a:pt x="3076" y="8409"/>
                </a:cubicBezTo>
                <a:cubicBezTo>
                  <a:pt x="3013" y="8545"/>
                  <a:pt x="2944" y="8653"/>
                  <a:pt x="2828" y="8731"/>
                </a:cubicBezTo>
                <a:cubicBezTo>
                  <a:pt x="2729" y="8797"/>
                  <a:pt x="2685" y="8879"/>
                  <a:pt x="2555" y="8855"/>
                </a:cubicBezTo>
                <a:cubicBezTo>
                  <a:pt x="2476" y="8841"/>
                  <a:pt x="2443" y="8805"/>
                  <a:pt x="2406" y="8731"/>
                </a:cubicBezTo>
                <a:cubicBezTo>
                  <a:pt x="2379" y="8650"/>
                  <a:pt x="2370" y="8619"/>
                  <a:pt x="2381" y="8558"/>
                </a:cubicBezTo>
              </a:path>
              <a:path w="2184" h="2804">
                <a:moveTo>
                  <a:pt x="3621" y="6573"/>
                </a:moveTo>
                <a:cubicBezTo>
                  <a:pt x="3722" y="6553"/>
                  <a:pt x="3822" y="6546"/>
                  <a:pt x="3919" y="6524"/>
                </a:cubicBezTo>
                <a:cubicBezTo>
                  <a:pt x="4000" y="6505"/>
                  <a:pt x="4058" y="6499"/>
                  <a:pt x="4142" y="6499"/>
                </a:cubicBezTo>
              </a:path>
              <a:path w="2184" h="2804">
                <a:moveTo>
                  <a:pt x="3746" y="6821"/>
                </a:moveTo>
                <a:cubicBezTo>
                  <a:pt x="3791" y="6867"/>
                  <a:pt x="3824" y="6886"/>
                  <a:pt x="3894" y="6871"/>
                </a:cubicBezTo>
                <a:cubicBezTo>
                  <a:pt x="3991" y="6850"/>
                  <a:pt x="4072" y="6828"/>
                  <a:pt x="4167" y="6796"/>
                </a:cubicBezTo>
                <a:cubicBezTo>
                  <a:pt x="4192" y="6788"/>
                  <a:pt x="4217" y="6780"/>
                  <a:pt x="4242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76240" y="2009880"/>
            <a:ext cx="2625840" cy="652320"/>
          </a:xfrm>
          <a:custGeom>
            <a:avLst/>
            <a:gdLst/>
            <a:ahLst/>
            <a:rect l="l" t="t" r="r" b="b"/>
            <a:pathLst>
              <a:path w="7294" h="1812">
                <a:moveTo>
                  <a:pt x="4936" y="6003"/>
                </a:moveTo>
                <a:cubicBezTo>
                  <a:pt x="5028" y="5925"/>
                  <a:pt x="5133" y="5806"/>
                  <a:pt x="5259" y="5779"/>
                </a:cubicBezTo>
                <a:cubicBezTo>
                  <a:pt x="5324" y="5765"/>
                  <a:pt x="5397" y="5746"/>
                  <a:pt x="5457" y="5779"/>
                </a:cubicBezTo>
                <a:cubicBezTo>
                  <a:pt x="5535" y="5822"/>
                  <a:pt x="5525" y="5909"/>
                  <a:pt x="5507" y="5978"/>
                </a:cubicBezTo>
                <a:cubicBezTo>
                  <a:pt x="5481" y="6075"/>
                  <a:pt x="5422" y="6151"/>
                  <a:pt x="5358" y="6226"/>
                </a:cubicBezTo>
                <a:cubicBezTo>
                  <a:pt x="5310" y="6283"/>
                  <a:pt x="5237" y="6358"/>
                  <a:pt x="5184" y="6400"/>
                </a:cubicBezTo>
                <a:cubicBezTo>
                  <a:pt x="5177" y="6406"/>
                  <a:pt x="5026" y="6499"/>
                  <a:pt x="5110" y="6449"/>
                </a:cubicBezTo>
                <a:cubicBezTo>
                  <a:pt x="5144" y="6429"/>
                  <a:pt x="5205" y="6398"/>
                  <a:pt x="5234" y="6375"/>
                </a:cubicBezTo>
                <a:cubicBezTo>
                  <a:pt x="5289" y="6331"/>
                  <a:pt x="5345" y="6347"/>
                  <a:pt x="5407" y="6375"/>
                </a:cubicBezTo>
                <a:cubicBezTo>
                  <a:pt x="5494" y="6414"/>
                  <a:pt x="5517" y="6466"/>
                  <a:pt x="5556" y="6548"/>
                </a:cubicBezTo>
                <a:cubicBezTo>
                  <a:pt x="5601" y="6643"/>
                  <a:pt x="5573" y="6705"/>
                  <a:pt x="5531" y="6796"/>
                </a:cubicBezTo>
                <a:cubicBezTo>
                  <a:pt x="5501" y="6861"/>
                  <a:pt x="5422" y="6959"/>
                  <a:pt x="5358" y="6995"/>
                </a:cubicBezTo>
                <a:cubicBezTo>
                  <a:pt x="5292" y="7032"/>
                  <a:pt x="5184" y="7065"/>
                  <a:pt x="5110" y="7069"/>
                </a:cubicBezTo>
                <a:cubicBezTo>
                  <a:pt x="5043" y="7073"/>
                  <a:pt x="5040" y="7059"/>
                  <a:pt x="5011" y="7045"/>
                </a:cubicBezTo>
              </a:path>
              <a:path w="7294" h="1812">
                <a:moveTo>
                  <a:pt x="5705" y="7069"/>
                </a:moveTo>
                <a:cubicBezTo>
                  <a:pt x="5705" y="7077"/>
                  <a:pt x="5705" y="7086"/>
                  <a:pt x="5705" y="7094"/>
                </a:cubicBezTo>
                <a:cubicBezTo>
                  <a:pt x="5705" y="7039"/>
                  <a:pt x="5727" y="7020"/>
                  <a:pt x="5755" y="6970"/>
                </a:cubicBezTo>
              </a:path>
              <a:path w="7294" h="1812">
                <a:moveTo>
                  <a:pt x="6251" y="5879"/>
                </a:moveTo>
                <a:cubicBezTo>
                  <a:pt x="6360" y="5848"/>
                  <a:pt x="6464" y="5811"/>
                  <a:pt x="6573" y="5779"/>
                </a:cubicBezTo>
                <a:cubicBezTo>
                  <a:pt x="6661" y="5753"/>
                  <a:pt x="6755" y="5736"/>
                  <a:pt x="6846" y="5730"/>
                </a:cubicBezTo>
                <a:cubicBezTo>
                  <a:pt x="6881" y="5730"/>
                  <a:pt x="6899" y="5725"/>
                  <a:pt x="6921" y="5705"/>
                </a:cubicBezTo>
              </a:path>
              <a:path w="7294" h="1812">
                <a:moveTo>
                  <a:pt x="6400" y="5829"/>
                </a:moveTo>
                <a:cubicBezTo>
                  <a:pt x="6229" y="6030"/>
                  <a:pt x="6210" y="6041"/>
                  <a:pt x="6152" y="6251"/>
                </a:cubicBezTo>
                <a:cubicBezTo>
                  <a:pt x="6134" y="6318"/>
                  <a:pt x="6104" y="6363"/>
                  <a:pt x="6152" y="6424"/>
                </a:cubicBezTo>
                <a:cubicBezTo>
                  <a:pt x="6167" y="6443"/>
                  <a:pt x="6161" y="6455"/>
                  <a:pt x="6176" y="6474"/>
                </a:cubicBezTo>
                <a:cubicBezTo>
                  <a:pt x="6211" y="6456"/>
                  <a:pt x="6241" y="6448"/>
                  <a:pt x="6276" y="6424"/>
                </a:cubicBezTo>
                <a:cubicBezTo>
                  <a:pt x="6349" y="6373"/>
                  <a:pt x="6376" y="6336"/>
                  <a:pt x="6449" y="6300"/>
                </a:cubicBezTo>
                <a:cubicBezTo>
                  <a:pt x="6524" y="6263"/>
                  <a:pt x="6590" y="6298"/>
                  <a:pt x="6648" y="6350"/>
                </a:cubicBezTo>
                <a:cubicBezTo>
                  <a:pt x="6738" y="6431"/>
                  <a:pt x="6780" y="6509"/>
                  <a:pt x="6821" y="6623"/>
                </a:cubicBezTo>
                <a:cubicBezTo>
                  <a:pt x="6864" y="6743"/>
                  <a:pt x="6837" y="6809"/>
                  <a:pt x="6796" y="6921"/>
                </a:cubicBezTo>
                <a:cubicBezTo>
                  <a:pt x="6756" y="7030"/>
                  <a:pt x="6698" y="7062"/>
                  <a:pt x="6598" y="7119"/>
                </a:cubicBezTo>
                <a:cubicBezTo>
                  <a:pt x="6532" y="7157"/>
                  <a:pt x="6441" y="7160"/>
                  <a:pt x="6375" y="7119"/>
                </a:cubicBezTo>
                <a:cubicBezTo>
                  <a:pt x="6337" y="7095"/>
                  <a:pt x="6355" y="7080"/>
                  <a:pt x="6350" y="7045"/>
                </a:cubicBezTo>
              </a:path>
              <a:path w="7294" h="1812">
                <a:moveTo>
                  <a:pt x="7640" y="6325"/>
                </a:moveTo>
                <a:cubicBezTo>
                  <a:pt x="7695" y="6375"/>
                  <a:pt x="7718" y="6438"/>
                  <a:pt x="7739" y="6375"/>
                </a:cubicBezTo>
                <a:cubicBezTo>
                  <a:pt x="7708" y="6334"/>
                  <a:pt x="7704" y="6326"/>
                  <a:pt x="7665" y="6300"/>
                </a:cubicBezTo>
                <a:cubicBezTo>
                  <a:pt x="7613" y="6266"/>
                  <a:pt x="7602" y="6271"/>
                  <a:pt x="7541" y="6300"/>
                </a:cubicBezTo>
                <a:cubicBezTo>
                  <a:pt x="7469" y="6333"/>
                  <a:pt x="7374" y="6428"/>
                  <a:pt x="7342" y="6499"/>
                </a:cubicBezTo>
                <a:cubicBezTo>
                  <a:pt x="7296" y="6602"/>
                  <a:pt x="7247" y="6707"/>
                  <a:pt x="7243" y="6821"/>
                </a:cubicBezTo>
                <a:cubicBezTo>
                  <a:pt x="7238" y="6944"/>
                  <a:pt x="7285" y="6988"/>
                  <a:pt x="7367" y="7069"/>
                </a:cubicBezTo>
                <a:cubicBezTo>
                  <a:pt x="7402" y="7104"/>
                  <a:pt x="7518" y="7115"/>
                  <a:pt x="7565" y="7094"/>
                </a:cubicBezTo>
                <a:cubicBezTo>
                  <a:pt x="7680" y="7043"/>
                  <a:pt x="7739" y="6987"/>
                  <a:pt x="7813" y="6896"/>
                </a:cubicBezTo>
              </a:path>
              <a:path w="7294" h="1812">
                <a:moveTo>
                  <a:pt x="8037" y="6499"/>
                </a:moveTo>
                <a:cubicBezTo>
                  <a:pt x="8007" y="6615"/>
                  <a:pt x="7932" y="6792"/>
                  <a:pt x="7962" y="6921"/>
                </a:cubicBezTo>
                <a:cubicBezTo>
                  <a:pt x="7974" y="6971"/>
                  <a:pt x="8011" y="7031"/>
                  <a:pt x="8062" y="7045"/>
                </a:cubicBezTo>
                <a:cubicBezTo>
                  <a:pt x="8116" y="7060"/>
                  <a:pt x="8202" y="7011"/>
                  <a:pt x="8235" y="6970"/>
                </a:cubicBezTo>
                <a:cubicBezTo>
                  <a:pt x="8301" y="6887"/>
                  <a:pt x="8385" y="6776"/>
                  <a:pt x="8409" y="6672"/>
                </a:cubicBezTo>
                <a:cubicBezTo>
                  <a:pt x="8427" y="6592"/>
                  <a:pt x="8408" y="6518"/>
                  <a:pt x="8334" y="6474"/>
                </a:cubicBezTo>
                <a:cubicBezTo>
                  <a:pt x="8300" y="6454"/>
                  <a:pt x="8221" y="6435"/>
                  <a:pt x="8186" y="6424"/>
                </a:cubicBezTo>
                <a:cubicBezTo>
                  <a:pt x="8179" y="6422"/>
                  <a:pt x="8093" y="6424"/>
                  <a:pt x="8161" y="6424"/>
                </a:cubicBezTo>
              </a:path>
              <a:path w="7294" h="1812">
                <a:moveTo>
                  <a:pt x="9054" y="6424"/>
                </a:moveTo>
                <a:cubicBezTo>
                  <a:pt x="8966" y="6459"/>
                  <a:pt x="8853" y="6483"/>
                  <a:pt x="8781" y="6548"/>
                </a:cubicBezTo>
                <a:cubicBezTo>
                  <a:pt x="8730" y="6594"/>
                  <a:pt x="8776" y="6647"/>
                  <a:pt x="8806" y="6697"/>
                </a:cubicBezTo>
                <a:cubicBezTo>
                  <a:pt x="8857" y="6781"/>
                  <a:pt x="8954" y="6873"/>
                  <a:pt x="8979" y="6970"/>
                </a:cubicBezTo>
                <a:cubicBezTo>
                  <a:pt x="9001" y="7052"/>
                  <a:pt x="8971" y="7084"/>
                  <a:pt x="8905" y="7119"/>
                </a:cubicBezTo>
                <a:cubicBezTo>
                  <a:pt x="8805" y="7173"/>
                  <a:pt x="8718" y="7169"/>
                  <a:pt x="8607" y="7169"/>
                </a:cubicBezTo>
                <a:cubicBezTo>
                  <a:pt x="8483" y="7169"/>
                  <a:pt x="8415" y="7165"/>
                  <a:pt x="8384" y="7045"/>
                </a:cubicBezTo>
              </a:path>
              <a:path w="7294" h="1812">
                <a:moveTo>
                  <a:pt x="10120" y="5581"/>
                </a:moveTo>
                <a:cubicBezTo>
                  <a:pt x="10035" y="5720"/>
                  <a:pt x="9956" y="5863"/>
                  <a:pt x="9872" y="6003"/>
                </a:cubicBezTo>
                <a:cubicBezTo>
                  <a:pt x="9772" y="6170"/>
                  <a:pt x="9650" y="6359"/>
                  <a:pt x="9599" y="6548"/>
                </a:cubicBezTo>
                <a:cubicBezTo>
                  <a:pt x="9555" y="6709"/>
                  <a:pt x="9552" y="6964"/>
                  <a:pt x="9624" y="7119"/>
                </a:cubicBezTo>
                <a:cubicBezTo>
                  <a:pt x="9678" y="7235"/>
                  <a:pt x="9802" y="7314"/>
                  <a:pt x="9897" y="7392"/>
                </a:cubicBezTo>
              </a:path>
              <a:path w="7294" h="1812">
                <a:moveTo>
                  <a:pt x="10492" y="5854"/>
                </a:moveTo>
                <a:cubicBezTo>
                  <a:pt x="10480" y="5903"/>
                  <a:pt x="10457" y="5951"/>
                  <a:pt x="10443" y="6003"/>
                </a:cubicBezTo>
                <a:cubicBezTo>
                  <a:pt x="10424" y="6074"/>
                  <a:pt x="10386" y="6165"/>
                  <a:pt x="10344" y="6226"/>
                </a:cubicBezTo>
                <a:cubicBezTo>
                  <a:pt x="10321" y="6259"/>
                  <a:pt x="10295" y="6358"/>
                  <a:pt x="10269" y="6375"/>
                </a:cubicBezTo>
                <a:cubicBezTo>
                  <a:pt x="10234" y="6398"/>
                  <a:pt x="10307" y="6384"/>
                  <a:pt x="10344" y="6375"/>
                </a:cubicBezTo>
                <a:cubicBezTo>
                  <a:pt x="10424" y="6355"/>
                  <a:pt x="10514" y="6335"/>
                  <a:pt x="10592" y="6325"/>
                </a:cubicBezTo>
                <a:cubicBezTo>
                  <a:pt x="10775" y="6302"/>
                  <a:pt x="10960" y="6338"/>
                  <a:pt x="11137" y="6300"/>
                </a:cubicBezTo>
                <a:cubicBezTo>
                  <a:pt x="11172" y="6292"/>
                  <a:pt x="11223" y="6301"/>
                  <a:pt x="11237" y="6251"/>
                </a:cubicBezTo>
                <a:cubicBezTo>
                  <a:pt x="11237" y="6234"/>
                  <a:pt x="11237" y="6218"/>
                  <a:pt x="11237" y="6201"/>
                </a:cubicBezTo>
              </a:path>
              <a:path w="7294" h="1812">
                <a:moveTo>
                  <a:pt x="11112" y="5581"/>
                </a:moveTo>
                <a:cubicBezTo>
                  <a:pt x="11112" y="5646"/>
                  <a:pt x="11128" y="5692"/>
                  <a:pt x="11137" y="5755"/>
                </a:cubicBezTo>
                <a:cubicBezTo>
                  <a:pt x="11160" y="5916"/>
                  <a:pt x="11162" y="6064"/>
                  <a:pt x="11162" y="6226"/>
                </a:cubicBezTo>
                <a:cubicBezTo>
                  <a:pt x="11162" y="6357"/>
                  <a:pt x="11156" y="6518"/>
                  <a:pt x="11137" y="6648"/>
                </a:cubicBezTo>
                <a:cubicBezTo>
                  <a:pt x="11120" y="6765"/>
                  <a:pt x="11112" y="6873"/>
                  <a:pt x="11112" y="6995"/>
                </a:cubicBezTo>
                <a:cubicBezTo>
                  <a:pt x="11112" y="7043"/>
                  <a:pt x="11104" y="7090"/>
                  <a:pt x="11137" y="7045"/>
                </a:cubicBezTo>
                <a:cubicBezTo>
                  <a:pt x="11145" y="7028"/>
                  <a:pt x="11154" y="7012"/>
                  <a:pt x="11162" y="6995"/>
                </a:cubicBezTo>
              </a:path>
              <a:path w="7294" h="1812">
                <a:moveTo>
                  <a:pt x="11534" y="6300"/>
                </a:moveTo>
                <a:cubicBezTo>
                  <a:pt x="11564" y="6359"/>
                  <a:pt x="11582" y="6416"/>
                  <a:pt x="11609" y="6474"/>
                </a:cubicBezTo>
                <a:cubicBezTo>
                  <a:pt x="11652" y="6568"/>
                  <a:pt x="11689" y="6642"/>
                  <a:pt x="11757" y="6722"/>
                </a:cubicBezTo>
                <a:cubicBezTo>
                  <a:pt x="11829" y="6806"/>
                  <a:pt x="11885" y="6885"/>
                  <a:pt x="11981" y="6945"/>
                </a:cubicBezTo>
                <a:cubicBezTo>
                  <a:pt x="12043" y="6984"/>
                  <a:pt x="12121" y="7011"/>
                  <a:pt x="12179" y="7045"/>
                </a:cubicBezTo>
                <a:cubicBezTo>
                  <a:pt x="12248" y="7085"/>
                  <a:pt x="12229" y="7055"/>
                  <a:pt x="12229" y="6970"/>
                </a:cubicBezTo>
              </a:path>
              <a:path w="7294" h="1812">
                <a:moveTo>
                  <a:pt x="12129" y="6251"/>
                </a:moveTo>
                <a:cubicBezTo>
                  <a:pt x="12069" y="6329"/>
                  <a:pt x="12037" y="6414"/>
                  <a:pt x="11981" y="6499"/>
                </a:cubicBezTo>
                <a:cubicBezTo>
                  <a:pt x="11897" y="6627"/>
                  <a:pt x="11843" y="6767"/>
                  <a:pt x="11757" y="6896"/>
                </a:cubicBezTo>
                <a:cubicBezTo>
                  <a:pt x="11699" y="6983"/>
                  <a:pt x="11638" y="7058"/>
                  <a:pt x="11584" y="7144"/>
                </a:cubicBezTo>
                <a:cubicBezTo>
                  <a:pt x="11560" y="7182"/>
                  <a:pt x="11531" y="7237"/>
                  <a:pt x="11509" y="7268"/>
                </a:cubicBezTo>
                <a:cubicBezTo>
                  <a:pt x="11474" y="7315"/>
                  <a:pt x="11514" y="7278"/>
                  <a:pt x="11485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46800" y="1919160"/>
            <a:ext cx="206280" cy="696960"/>
          </a:xfrm>
          <a:custGeom>
            <a:avLst/>
            <a:gdLst/>
            <a:ahLst/>
            <a:rect l="l" t="t" r="r" b="b"/>
            <a:pathLst>
              <a:path w="571" h="1936">
                <a:moveTo>
                  <a:pt x="15304" y="5333"/>
                </a:moveTo>
                <a:cubicBezTo>
                  <a:pt x="15441" y="5538"/>
                  <a:pt x="15546" y="5719"/>
                  <a:pt x="15627" y="5953"/>
                </a:cubicBezTo>
                <a:cubicBezTo>
                  <a:pt x="15686" y="6123"/>
                  <a:pt x="15723" y="6292"/>
                  <a:pt x="15701" y="6474"/>
                </a:cubicBezTo>
                <a:cubicBezTo>
                  <a:pt x="15685" y="6603"/>
                  <a:pt x="15631" y="6767"/>
                  <a:pt x="15553" y="6871"/>
                </a:cubicBezTo>
                <a:cubicBezTo>
                  <a:pt x="15477" y="6973"/>
                  <a:pt x="15329" y="7095"/>
                  <a:pt x="15230" y="7169"/>
                </a:cubicBezTo>
                <a:cubicBezTo>
                  <a:pt x="15190" y="7199"/>
                  <a:pt x="15178" y="7284"/>
                  <a:pt x="15131" y="7268"/>
                </a:cubicBezTo>
                <a:cubicBezTo>
                  <a:pt x="15131" y="7243"/>
                  <a:pt x="15131" y="7235"/>
                  <a:pt x="15131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02200" y="1982880"/>
            <a:ext cx="733680" cy="606240"/>
          </a:xfrm>
          <a:custGeom>
            <a:avLst/>
            <a:gdLst/>
            <a:ahLst/>
            <a:rect l="l" t="t" r="r" b="b"/>
            <a:pathLst>
              <a:path w="2035" h="1687">
                <a:moveTo>
                  <a:pt x="16396" y="6499"/>
                </a:moveTo>
                <a:cubicBezTo>
                  <a:pt x="16533" y="6518"/>
                  <a:pt x="16674" y="6499"/>
                  <a:pt x="16818" y="6499"/>
                </a:cubicBezTo>
                <a:cubicBezTo>
                  <a:pt x="16922" y="6499"/>
                  <a:pt x="17042" y="6485"/>
                  <a:pt x="17140" y="6449"/>
                </a:cubicBezTo>
                <a:cubicBezTo>
                  <a:pt x="17202" y="6426"/>
                  <a:pt x="17208" y="6404"/>
                  <a:pt x="17239" y="6350"/>
                </a:cubicBezTo>
              </a:path>
              <a:path w="2035" h="1687">
                <a:moveTo>
                  <a:pt x="16644" y="5928"/>
                </a:moveTo>
                <a:cubicBezTo>
                  <a:pt x="16603" y="6122"/>
                  <a:pt x="16628" y="6206"/>
                  <a:pt x="16644" y="6400"/>
                </a:cubicBezTo>
                <a:cubicBezTo>
                  <a:pt x="16655" y="6534"/>
                  <a:pt x="16613" y="6622"/>
                  <a:pt x="16594" y="6747"/>
                </a:cubicBezTo>
                <a:cubicBezTo>
                  <a:pt x="16584" y="6811"/>
                  <a:pt x="16580" y="6888"/>
                  <a:pt x="16545" y="6945"/>
                </a:cubicBezTo>
                <a:cubicBezTo>
                  <a:pt x="16522" y="6968"/>
                  <a:pt x="16514" y="6979"/>
                  <a:pt x="16520" y="6945"/>
                </a:cubicBezTo>
              </a:path>
              <a:path w="2035" h="1687">
                <a:moveTo>
                  <a:pt x="18380" y="5879"/>
                </a:moveTo>
                <a:cubicBezTo>
                  <a:pt x="18403" y="5725"/>
                  <a:pt x="18416" y="5706"/>
                  <a:pt x="18355" y="5581"/>
                </a:cubicBezTo>
                <a:cubicBezTo>
                  <a:pt x="18300" y="5470"/>
                  <a:pt x="18157" y="5502"/>
                  <a:pt x="18058" y="5531"/>
                </a:cubicBezTo>
                <a:cubicBezTo>
                  <a:pt x="17941" y="5565"/>
                  <a:pt x="17841" y="5644"/>
                  <a:pt x="17785" y="5755"/>
                </a:cubicBezTo>
                <a:cubicBezTo>
                  <a:pt x="17721" y="5881"/>
                  <a:pt x="17608" y="6043"/>
                  <a:pt x="17711" y="6176"/>
                </a:cubicBezTo>
                <a:cubicBezTo>
                  <a:pt x="17752" y="6229"/>
                  <a:pt x="17818" y="6266"/>
                  <a:pt x="17884" y="6276"/>
                </a:cubicBezTo>
                <a:cubicBezTo>
                  <a:pt x="17959" y="6288"/>
                  <a:pt x="18091" y="6261"/>
                  <a:pt x="18157" y="6226"/>
                </a:cubicBezTo>
                <a:cubicBezTo>
                  <a:pt x="18222" y="6191"/>
                  <a:pt x="18364" y="6127"/>
                  <a:pt x="18405" y="6052"/>
                </a:cubicBezTo>
                <a:cubicBezTo>
                  <a:pt x="18421" y="6022"/>
                  <a:pt x="18427" y="5966"/>
                  <a:pt x="18430" y="5928"/>
                </a:cubicBezTo>
                <a:cubicBezTo>
                  <a:pt x="18430" y="5920"/>
                  <a:pt x="18430" y="5912"/>
                  <a:pt x="18430" y="5904"/>
                </a:cubicBezTo>
                <a:cubicBezTo>
                  <a:pt x="18408" y="5947"/>
                  <a:pt x="18374" y="6002"/>
                  <a:pt x="18355" y="6052"/>
                </a:cubicBezTo>
                <a:cubicBezTo>
                  <a:pt x="18318" y="6149"/>
                  <a:pt x="18269" y="6272"/>
                  <a:pt x="18256" y="6375"/>
                </a:cubicBezTo>
                <a:cubicBezTo>
                  <a:pt x="18225" y="6626"/>
                  <a:pt x="18304" y="6903"/>
                  <a:pt x="18281" y="7144"/>
                </a:cubicBezTo>
                <a:cubicBezTo>
                  <a:pt x="18280" y="7159"/>
                  <a:pt x="18243" y="7228"/>
                  <a:pt x="18281" y="7169"/>
                </a:cubicBezTo>
                <a:cubicBezTo>
                  <a:pt x="18289" y="7152"/>
                  <a:pt x="18298" y="7136"/>
                  <a:pt x="18306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26000" y="2133720"/>
            <a:ext cx="652320" cy="339480"/>
          </a:xfrm>
          <a:custGeom>
            <a:avLst/>
            <a:gdLst/>
            <a:ahLst/>
            <a:rect l="l" t="t" r="r" b="b"/>
            <a:pathLst>
              <a:path w="1812" h="944">
                <a:moveTo>
                  <a:pt x="12849" y="6672"/>
                </a:moveTo>
                <a:cubicBezTo>
                  <a:pt x="12981" y="6672"/>
                  <a:pt x="13114" y="6672"/>
                  <a:pt x="13246" y="6672"/>
                </a:cubicBezTo>
              </a:path>
              <a:path w="1812" h="944">
                <a:moveTo>
                  <a:pt x="13692" y="6028"/>
                </a:moveTo>
                <a:cubicBezTo>
                  <a:pt x="13826" y="5999"/>
                  <a:pt x="13958" y="6002"/>
                  <a:pt x="14089" y="5978"/>
                </a:cubicBezTo>
                <a:cubicBezTo>
                  <a:pt x="14175" y="5962"/>
                  <a:pt x="14248" y="5953"/>
                  <a:pt x="14337" y="5953"/>
                </a:cubicBezTo>
                <a:cubicBezTo>
                  <a:pt x="14397" y="5953"/>
                  <a:pt x="14394" y="5960"/>
                  <a:pt x="14436" y="5928"/>
                </a:cubicBezTo>
              </a:path>
              <a:path w="1812" h="944">
                <a:moveTo>
                  <a:pt x="13841" y="6052"/>
                </a:moveTo>
                <a:cubicBezTo>
                  <a:pt x="13825" y="6215"/>
                  <a:pt x="13816" y="6362"/>
                  <a:pt x="13816" y="6524"/>
                </a:cubicBezTo>
                <a:cubicBezTo>
                  <a:pt x="13816" y="6605"/>
                  <a:pt x="13810" y="6678"/>
                  <a:pt x="13791" y="6722"/>
                </a:cubicBezTo>
                <a:cubicBezTo>
                  <a:pt x="13777" y="6754"/>
                  <a:pt x="13780" y="6761"/>
                  <a:pt x="13767" y="6722"/>
                </a:cubicBezTo>
              </a:path>
              <a:path w="1812" h="944">
                <a:moveTo>
                  <a:pt x="14064" y="6077"/>
                </a:moveTo>
                <a:cubicBezTo>
                  <a:pt x="14044" y="6216"/>
                  <a:pt x="14021" y="6319"/>
                  <a:pt x="14089" y="6449"/>
                </a:cubicBezTo>
                <a:cubicBezTo>
                  <a:pt x="14139" y="6546"/>
                  <a:pt x="14236" y="6621"/>
                  <a:pt x="14312" y="6697"/>
                </a:cubicBezTo>
                <a:cubicBezTo>
                  <a:pt x="14383" y="6768"/>
                  <a:pt x="14483" y="6852"/>
                  <a:pt x="14585" y="6871"/>
                </a:cubicBezTo>
                <a:cubicBezTo>
                  <a:pt x="14610" y="6871"/>
                  <a:pt x="14635" y="6871"/>
                  <a:pt x="14660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10080" y="4106880"/>
            <a:ext cx="857160" cy="1081080"/>
          </a:xfrm>
          <a:custGeom>
            <a:avLst/>
            <a:gdLst/>
            <a:ahLst/>
            <a:rect l="l" t="t" r="r" b="b"/>
            <a:pathLst>
              <a:path w="2383" h="3003">
                <a:moveTo>
                  <a:pt x="12526" y="12650"/>
                </a:moveTo>
                <a:cubicBezTo>
                  <a:pt x="12672" y="12632"/>
                  <a:pt x="12802" y="12626"/>
                  <a:pt x="12948" y="12626"/>
                </a:cubicBezTo>
                <a:cubicBezTo>
                  <a:pt x="13022" y="12626"/>
                  <a:pt x="13097" y="12626"/>
                  <a:pt x="13171" y="12626"/>
                </a:cubicBezTo>
              </a:path>
              <a:path w="2383" h="3003">
                <a:moveTo>
                  <a:pt x="12576" y="12700"/>
                </a:moveTo>
                <a:cubicBezTo>
                  <a:pt x="12586" y="12768"/>
                  <a:pt x="12633" y="12814"/>
                  <a:pt x="12700" y="12849"/>
                </a:cubicBezTo>
                <a:cubicBezTo>
                  <a:pt x="12788" y="12895"/>
                  <a:pt x="12883" y="12930"/>
                  <a:pt x="12973" y="12973"/>
                </a:cubicBezTo>
                <a:cubicBezTo>
                  <a:pt x="12995" y="12983"/>
                  <a:pt x="13127" y="13037"/>
                  <a:pt x="13146" y="13022"/>
                </a:cubicBezTo>
                <a:cubicBezTo>
                  <a:pt x="13152" y="13017"/>
                  <a:pt x="13146" y="12957"/>
                  <a:pt x="13146" y="12948"/>
                </a:cubicBezTo>
              </a:path>
              <a:path w="2383" h="3003">
                <a:moveTo>
                  <a:pt x="14114" y="11460"/>
                </a:moveTo>
                <a:cubicBezTo>
                  <a:pt x="14130" y="11435"/>
                  <a:pt x="14238" y="11415"/>
                  <a:pt x="14288" y="11410"/>
                </a:cubicBezTo>
                <a:cubicBezTo>
                  <a:pt x="14416" y="11398"/>
                  <a:pt x="14534" y="11431"/>
                  <a:pt x="14660" y="11435"/>
                </a:cubicBezTo>
                <a:cubicBezTo>
                  <a:pt x="14746" y="11438"/>
                  <a:pt x="14836" y="11446"/>
                  <a:pt x="14908" y="11410"/>
                </a:cubicBezTo>
              </a:path>
              <a:path w="2383" h="3003">
                <a:moveTo>
                  <a:pt x="14387" y="11633"/>
                </a:moveTo>
                <a:cubicBezTo>
                  <a:pt x="14384" y="11646"/>
                  <a:pt x="14324" y="12026"/>
                  <a:pt x="14288" y="12080"/>
                </a:cubicBezTo>
                <a:cubicBezTo>
                  <a:pt x="14283" y="12087"/>
                  <a:pt x="14275" y="12179"/>
                  <a:pt x="14263" y="12229"/>
                </a:cubicBezTo>
                <a:cubicBezTo>
                  <a:pt x="14263" y="12237"/>
                  <a:pt x="14263" y="12246"/>
                  <a:pt x="14263" y="12254"/>
                </a:cubicBezTo>
              </a:path>
              <a:path w="2383" h="3003">
                <a:moveTo>
                  <a:pt x="14660" y="11460"/>
                </a:moveTo>
                <a:cubicBezTo>
                  <a:pt x="14601" y="11560"/>
                  <a:pt x="14564" y="11639"/>
                  <a:pt x="14560" y="11757"/>
                </a:cubicBezTo>
                <a:cubicBezTo>
                  <a:pt x="14557" y="11866"/>
                  <a:pt x="14597" y="11959"/>
                  <a:pt x="14610" y="11981"/>
                </a:cubicBezTo>
                <a:cubicBezTo>
                  <a:pt x="14668" y="12077"/>
                  <a:pt x="14715" y="12190"/>
                  <a:pt x="14784" y="12278"/>
                </a:cubicBezTo>
                <a:cubicBezTo>
                  <a:pt x="14800" y="12295"/>
                  <a:pt x="14817" y="12311"/>
                  <a:pt x="14833" y="12328"/>
                </a:cubicBezTo>
              </a:path>
              <a:path w="2383" h="3003">
                <a:moveTo>
                  <a:pt x="14039" y="12427"/>
                </a:moveTo>
                <a:cubicBezTo>
                  <a:pt x="14168" y="12427"/>
                  <a:pt x="14287" y="12443"/>
                  <a:pt x="14412" y="12452"/>
                </a:cubicBezTo>
                <a:cubicBezTo>
                  <a:pt x="14573" y="12464"/>
                  <a:pt x="14723" y="12452"/>
                  <a:pt x="14883" y="12477"/>
                </a:cubicBezTo>
              </a:path>
              <a:path w="2383" h="3003">
                <a:moveTo>
                  <a:pt x="14461" y="12849"/>
                </a:moveTo>
                <a:cubicBezTo>
                  <a:pt x="14405" y="12941"/>
                  <a:pt x="14338" y="13028"/>
                  <a:pt x="14288" y="13122"/>
                </a:cubicBezTo>
                <a:cubicBezTo>
                  <a:pt x="14259" y="13177"/>
                  <a:pt x="14216" y="13195"/>
                  <a:pt x="14263" y="13246"/>
                </a:cubicBezTo>
                <a:cubicBezTo>
                  <a:pt x="14319" y="13306"/>
                  <a:pt x="14375" y="13357"/>
                  <a:pt x="14461" y="13370"/>
                </a:cubicBezTo>
                <a:cubicBezTo>
                  <a:pt x="14607" y="13393"/>
                  <a:pt x="14738" y="13430"/>
                  <a:pt x="14883" y="13395"/>
                </a:cubicBezTo>
              </a:path>
              <a:path w="2383" h="3003">
                <a:moveTo>
                  <a:pt x="14883" y="12824"/>
                </a:moveTo>
                <a:cubicBezTo>
                  <a:pt x="14845" y="13098"/>
                  <a:pt x="14794" y="13368"/>
                  <a:pt x="14759" y="13643"/>
                </a:cubicBezTo>
                <a:cubicBezTo>
                  <a:pt x="14726" y="13899"/>
                  <a:pt x="14691" y="14155"/>
                  <a:pt x="14660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24240" y="5680080"/>
            <a:ext cx="911160" cy="527040"/>
          </a:xfrm>
          <a:custGeom>
            <a:avLst/>
            <a:gdLst/>
            <a:ahLst/>
            <a:rect l="l" t="t" r="r" b="b"/>
            <a:pathLst>
              <a:path w="2531" h="1464">
                <a:moveTo>
                  <a:pt x="12502" y="15776"/>
                </a:moveTo>
                <a:cubicBezTo>
                  <a:pt x="12386" y="15776"/>
                  <a:pt x="12265" y="15761"/>
                  <a:pt x="12154" y="15801"/>
                </a:cubicBezTo>
                <a:cubicBezTo>
                  <a:pt x="12025" y="15847"/>
                  <a:pt x="11886" y="15934"/>
                  <a:pt x="11807" y="16049"/>
                </a:cubicBezTo>
                <a:cubicBezTo>
                  <a:pt x="11732" y="16157"/>
                  <a:pt x="11716" y="16293"/>
                  <a:pt x="11733" y="16421"/>
                </a:cubicBezTo>
                <a:cubicBezTo>
                  <a:pt x="11753" y="16572"/>
                  <a:pt x="11859" y="16706"/>
                  <a:pt x="11956" y="16818"/>
                </a:cubicBezTo>
                <a:cubicBezTo>
                  <a:pt x="12037" y="16912"/>
                  <a:pt x="12188" y="17043"/>
                  <a:pt x="12328" y="16991"/>
                </a:cubicBezTo>
                <a:cubicBezTo>
                  <a:pt x="12386" y="16958"/>
                  <a:pt x="12444" y="16925"/>
                  <a:pt x="12502" y="16892"/>
                </a:cubicBezTo>
              </a:path>
              <a:path w="2531" h="1464">
                <a:moveTo>
                  <a:pt x="12874" y="16098"/>
                </a:moveTo>
                <a:cubicBezTo>
                  <a:pt x="12996" y="16087"/>
                  <a:pt x="13129" y="16073"/>
                  <a:pt x="13246" y="16123"/>
                </a:cubicBezTo>
                <a:cubicBezTo>
                  <a:pt x="13254" y="16131"/>
                  <a:pt x="13263" y="16140"/>
                  <a:pt x="13271" y="16148"/>
                </a:cubicBezTo>
              </a:path>
              <a:path w="2531" h="1464">
                <a:moveTo>
                  <a:pt x="12725" y="16321"/>
                </a:moveTo>
                <a:cubicBezTo>
                  <a:pt x="12885" y="16423"/>
                  <a:pt x="12989" y="16479"/>
                  <a:pt x="13171" y="16520"/>
                </a:cubicBezTo>
              </a:path>
              <a:path w="2531" h="1464">
                <a:moveTo>
                  <a:pt x="13717" y="15999"/>
                </a:moveTo>
                <a:cubicBezTo>
                  <a:pt x="13921" y="16008"/>
                  <a:pt x="14017" y="16077"/>
                  <a:pt x="14213" y="16123"/>
                </a:cubicBezTo>
                <a:cubicBezTo>
                  <a:pt x="14230" y="16123"/>
                  <a:pt x="14246" y="16123"/>
                  <a:pt x="14263" y="16123"/>
                </a:cubicBezTo>
              </a:path>
              <a:path w="2531" h="1464">
                <a:moveTo>
                  <a:pt x="13742" y="16024"/>
                </a:moveTo>
                <a:cubicBezTo>
                  <a:pt x="13644" y="16183"/>
                  <a:pt x="13618" y="16237"/>
                  <a:pt x="13618" y="16421"/>
                </a:cubicBezTo>
                <a:cubicBezTo>
                  <a:pt x="13618" y="16479"/>
                  <a:pt x="13618" y="16536"/>
                  <a:pt x="13618" y="16594"/>
                </a:cubicBezTo>
              </a:path>
              <a:path w="2531" h="1464">
                <a:moveTo>
                  <a:pt x="14039" y="16222"/>
                </a:moveTo>
                <a:cubicBezTo>
                  <a:pt x="14066" y="16453"/>
                  <a:pt x="14100" y="16686"/>
                  <a:pt x="14114" y="16917"/>
                </a:cubicBezTo>
                <a:cubicBezTo>
                  <a:pt x="14121" y="17026"/>
                  <a:pt x="14131" y="17131"/>
                  <a:pt x="14139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4960" y="3510000"/>
            <a:ext cx="1644840" cy="911160"/>
          </a:xfrm>
          <a:custGeom>
            <a:avLst/>
            <a:gdLst/>
            <a:ahLst/>
            <a:rect l="l" t="t" r="r" b="b"/>
            <a:pathLst>
              <a:path w="4565" h="2531">
                <a:moveTo>
                  <a:pt x="1761" y="9897"/>
                </a:moveTo>
                <a:cubicBezTo>
                  <a:pt x="1761" y="9932"/>
                  <a:pt x="1756" y="9949"/>
                  <a:pt x="1736" y="9971"/>
                </a:cubicBezTo>
                <a:cubicBezTo>
                  <a:pt x="1745" y="9912"/>
                  <a:pt x="1759" y="9874"/>
                  <a:pt x="1786" y="9823"/>
                </a:cubicBezTo>
                <a:cubicBezTo>
                  <a:pt x="1806" y="9785"/>
                  <a:pt x="1853" y="9733"/>
                  <a:pt x="1910" y="9748"/>
                </a:cubicBezTo>
                <a:cubicBezTo>
                  <a:pt x="1973" y="9765"/>
                  <a:pt x="2019" y="9869"/>
                  <a:pt x="2034" y="9922"/>
                </a:cubicBezTo>
                <a:cubicBezTo>
                  <a:pt x="2069" y="10042"/>
                  <a:pt x="2056" y="10151"/>
                  <a:pt x="2034" y="10269"/>
                </a:cubicBezTo>
                <a:cubicBezTo>
                  <a:pt x="2006" y="10418"/>
                  <a:pt x="1926" y="10465"/>
                  <a:pt x="1836" y="10567"/>
                </a:cubicBezTo>
                <a:cubicBezTo>
                  <a:pt x="1745" y="10671"/>
                  <a:pt x="1734" y="10707"/>
                  <a:pt x="1588" y="10716"/>
                </a:cubicBezTo>
                <a:cubicBezTo>
                  <a:pt x="1557" y="10718"/>
                  <a:pt x="1489" y="10645"/>
                  <a:pt x="1488" y="10641"/>
                </a:cubicBezTo>
                <a:cubicBezTo>
                  <a:pt x="1479" y="10601"/>
                  <a:pt x="1513" y="10510"/>
                  <a:pt x="1563" y="10492"/>
                </a:cubicBezTo>
                <a:cubicBezTo>
                  <a:pt x="1652" y="10460"/>
                  <a:pt x="1699" y="10526"/>
                  <a:pt x="1761" y="10567"/>
                </a:cubicBezTo>
                <a:cubicBezTo>
                  <a:pt x="1837" y="10618"/>
                  <a:pt x="1873" y="10673"/>
                  <a:pt x="1935" y="10740"/>
                </a:cubicBezTo>
                <a:cubicBezTo>
                  <a:pt x="1954" y="10761"/>
                  <a:pt x="2003" y="10782"/>
                  <a:pt x="2034" y="10765"/>
                </a:cubicBezTo>
                <a:cubicBezTo>
                  <a:pt x="2067" y="10732"/>
                  <a:pt x="2083" y="10716"/>
                  <a:pt x="2108" y="10691"/>
                </a:cubicBezTo>
              </a:path>
              <a:path w="4565" h="2531">
                <a:moveTo>
                  <a:pt x="2356" y="9971"/>
                </a:moveTo>
                <a:cubicBezTo>
                  <a:pt x="2504" y="9971"/>
                  <a:pt x="2807" y="10026"/>
                  <a:pt x="2902" y="9922"/>
                </a:cubicBezTo>
                <a:cubicBezTo>
                  <a:pt x="2910" y="9914"/>
                  <a:pt x="2919" y="9905"/>
                  <a:pt x="2927" y="9897"/>
                </a:cubicBezTo>
              </a:path>
              <a:path w="4565" h="2531">
                <a:moveTo>
                  <a:pt x="2580" y="9971"/>
                </a:moveTo>
                <a:cubicBezTo>
                  <a:pt x="2574" y="10149"/>
                  <a:pt x="2555" y="10315"/>
                  <a:pt x="2555" y="10492"/>
                </a:cubicBezTo>
                <a:cubicBezTo>
                  <a:pt x="2555" y="10588"/>
                  <a:pt x="2532" y="10711"/>
                  <a:pt x="2580" y="10790"/>
                </a:cubicBezTo>
              </a:path>
              <a:path w="4565" h="2531">
                <a:moveTo>
                  <a:pt x="2877" y="9922"/>
                </a:moveTo>
                <a:cubicBezTo>
                  <a:pt x="2877" y="10016"/>
                  <a:pt x="2866" y="10104"/>
                  <a:pt x="2853" y="10195"/>
                </a:cubicBezTo>
                <a:cubicBezTo>
                  <a:pt x="2837" y="10308"/>
                  <a:pt x="2806" y="10450"/>
                  <a:pt x="2828" y="10567"/>
                </a:cubicBezTo>
                <a:cubicBezTo>
                  <a:pt x="2848" y="10676"/>
                  <a:pt x="2894" y="10718"/>
                  <a:pt x="2952" y="10790"/>
                </a:cubicBezTo>
                <a:cubicBezTo>
                  <a:pt x="2960" y="10807"/>
                  <a:pt x="2969" y="10823"/>
                  <a:pt x="2977" y="10840"/>
                </a:cubicBezTo>
              </a:path>
              <a:path w="4565" h="2531">
                <a:moveTo>
                  <a:pt x="1612" y="10914"/>
                </a:moveTo>
                <a:cubicBezTo>
                  <a:pt x="1743" y="10975"/>
                  <a:pt x="1882" y="10979"/>
                  <a:pt x="2034" y="10964"/>
                </a:cubicBezTo>
                <a:cubicBezTo>
                  <a:pt x="2224" y="10946"/>
                  <a:pt x="2412" y="10918"/>
                  <a:pt x="2604" y="10914"/>
                </a:cubicBezTo>
                <a:cubicBezTo>
                  <a:pt x="2679" y="10912"/>
                  <a:pt x="2859" y="10934"/>
                  <a:pt x="2927" y="10889"/>
                </a:cubicBezTo>
                <a:cubicBezTo>
                  <a:pt x="2927" y="10881"/>
                  <a:pt x="2927" y="10872"/>
                  <a:pt x="2927" y="10864"/>
                </a:cubicBezTo>
              </a:path>
              <a:path w="4565" h="2531">
                <a:moveTo>
                  <a:pt x="2282" y="11162"/>
                </a:moveTo>
                <a:cubicBezTo>
                  <a:pt x="2257" y="11310"/>
                  <a:pt x="2232" y="11435"/>
                  <a:pt x="2232" y="11584"/>
                </a:cubicBezTo>
                <a:cubicBezTo>
                  <a:pt x="2232" y="11732"/>
                  <a:pt x="2204" y="11975"/>
                  <a:pt x="2257" y="12080"/>
                </a:cubicBezTo>
                <a:cubicBezTo>
                  <a:pt x="2275" y="12031"/>
                  <a:pt x="2283" y="11984"/>
                  <a:pt x="2307" y="11931"/>
                </a:cubicBezTo>
                <a:cubicBezTo>
                  <a:pt x="2337" y="11863"/>
                  <a:pt x="2359" y="11799"/>
                  <a:pt x="2381" y="11733"/>
                </a:cubicBezTo>
                <a:cubicBezTo>
                  <a:pt x="2391" y="11703"/>
                  <a:pt x="2450" y="11574"/>
                  <a:pt x="2480" y="11559"/>
                </a:cubicBezTo>
                <a:cubicBezTo>
                  <a:pt x="2540" y="11529"/>
                  <a:pt x="2593" y="11578"/>
                  <a:pt x="2629" y="11609"/>
                </a:cubicBezTo>
                <a:cubicBezTo>
                  <a:pt x="2697" y="11669"/>
                  <a:pt x="2740" y="11767"/>
                  <a:pt x="2753" y="11857"/>
                </a:cubicBezTo>
                <a:cubicBezTo>
                  <a:pt x="2770" y="11975"/>
                  <a:pt x="2668" y="12085"/>
                  <a:pt x="2580" y="12154"/>
                </a:cubicBezTo>
                <a:cubicBezTo>
                  <a:pt x="2517" y="12203"/>
                  <a:pt x="2366" y="12281"/>
                  <a:pt x="2282" y="12278"/>
                </a:cubicBezTo>
                <a:cubicBezTo>
                  <a:pt x="2222" y="12276"/>
                  <a:pt x="2118" y="12256"/>
                  <a:pt x="2108" y="12179"/>
                </a:cubicBezTo>
                <a:cubicBezTo>
                  <a:pt x="2108" y="12138"/>
                  <a:pt x="2108" y="12096"/>
                  <a:pt x="2108" y="12055"/>
                </a:cubicBezTo>
              </a:path>
              <a:path w="4565" h="2531">
                <a:moveTo>
                  <a:pt x="3646" y="11013"/>
                </a:moveTo>
                <a:cubicBezTo>
                  <a:pt x="3830" y="11032"/>
                  <a:pt x="3855" y="11011"/>
                  <a:pt x="3944" y="11063"/>
                </a:cubicBezTo>
              </a:path>
              <a:path w="4565" h="2531">
                <a:moveTo>
                  <a:pt x="3671" y="11311"/>
                </a:moveTo>
                <a:cubicBezTo>
                  <a:pt x="3806" y="11305"/>
                  <a:pt x="3944" y="11302"/>
                  <a:pt x="4068" y="11237"/>
                </a:cubicBezTo>
                <a:cubicBezTo>
                  <a:pt x="4147" y="11184"/>
                  <a:pt x="4175" y="11163"/>
                  <a:pt x="4217" y="11112"/>
                </a:cubicBezTo>
              </a:path>
              <a:path w="4565" h="2531">
                <a:moveTo>
                  <a:pt x="4539" y="10195"/>
                </a:moveTo>
                <a:cubicBezTo>
                  <a:pt x="4745" y="10139"/>
                  <a:pt x="4918" y="10124"/>
                  <a:pt x="5135" y="10120"/>
                </a:cubicBezTo>
                <a:cubicBezTo>
                  <a:pt x="5234" y="10118"/>
                  <a:pt x="5333" y="10120"/>
                  <a:pt x="5432" y="10120"/>
                </a:cubicBezTo>
              </a:path>
              <a:path w="4565" h="2531">
                <a:moveTo>
                  <a:pt x="4887" y="10195"/>
                </a:moveTo>
                <a:cubicBezTo>
                  <a:pt x="4863" y="10383"/>
                  <a:pt x="4837" y="10552"/>
                  <a:pt x="4837" y="10740"/>
                </a:cubicBezTo>
                <a:cubicBezTo>
                  <a:pt x="4837" y="10832"/>
                  <a:pt x="4867" y="10904"/>
                  <a:pt x="4887" y="10988"/>
                </a:cubicBezTo>
                <a:cubicBezTo>
                  <a:pt x="4897" y="11031"/>
                  <a:pt x="4870" y="11024"/>
                  <a:pt x="4911" y="11038"/>
                </a:cubicBezTo>
              </a:path>
              <a:path w="4565" h="2531">
                <a:moveTo>
                  <a:pt x="5184" y="10195"/>
                </a:moveTo>
                <a:cubicBezTo>
                  <a:pt x="5196" y="10380"/>
                  <a:pt x="5193" y="10534"/>
                  <a:pt x="5209" y="10716"/>
                </a:cubicBezTo>
                <a:cubicBezTo>
                  <a:pt x="5221" y="10847"/>
                  <a:pt x="5261" y="10884"/>
                  <a:pt x="5333" y="10988"/>
                </a:cubicBezTo>
                <a:cubicBezTo>
                  <a:pt x="5365" y="11034"/>
                  <a:pt x="5363" y="11065"/>
                  <a:pt x="5407" y="11088"/>
                </a:cubicBezTo>
              </a:path>
              <a:path w="4565" h="2531">
                <a:moveTo>
                  <a:pt x="4787" y="11038"/>
                </a:moveTo>
                <a:cubicBezTo>
                  <a:pt x="4944" y="11018"/>
                  <a:pt x="5101" y="10992"/>
                  <a:pt x="5259" y="10988"/>
                </a:cubicBezTo>
                <a:cubicBezTo>
                  <a:pt x="5380" y="10985"/>
                  <a:pt x="5489" y="10977"/>
                  <a:pt x="5606" y="10964"/>
                </a:cubicBezTo>
              </a:path>
              <a:path w="4565" h="2531">
                <a:moveTo>
                  <a:pt x="5135" y="11534"/>
                </a:moveTo>
                <a:cubicBezTo>
                  <a:pt x="5119" y="11502"/>
                  <a:pt x="5141" y="11447"/>
                  <a:pt x="5184" y="11410"/>
                </a:cubicBezTo>
                <a:cubicBezTo>
                  <a:pt x="5211" y="11387"/>
                  <a:pt x="5329" y="11362"/>
                  <a:pt x="5358" y="11385"/>
                </a:cubicBezTo>
                <a:cubicBezTo>
                  <a:pt x="5412" y="11426"/>
                  <a:pt x="5496" y="11591"/>
                  <a:pt x="5507" y="11658"/>
                </a:cubicBezTo>
                <a:cubicBezTo>
                  <a:pt x="5526" y="11777"/>
                  <a:pt x="5468" y="11862"/>
                  <a:pt x="5407" y="11956"/>
                </a:cubicBezTo>
                <a:cubicBezTo>
                  <a:pt x="5354" y="12037"/>
                  <a:pt x="5263" y="12184"/>
                  <a:pt x="5159" y="12179"/>
                </a:cubicBezTo>
                <a:cubicBezTo>
                  <a:pt x="5117" y="12177"/>
                  <a:pt x="5090" y="12135"/>
                  <a:pt x="5060" y="12105"/>
                </a:cubicBezTo>
                <a:cubicBezTo>
                  <a:pt x="5037" y="12082"/>
                  <a:pt x="5029" y="12078"/>
                  <a:pt x="5035" y="12055"/>
                </a:cubicBezTo>
                <a:cubicBezTo>
                  <a:pt x="5066" y="12030"/>
                  <a:pt x="5099" y="12020"/>
                  <a:pt x="5159" y="12005"/>
                </a:cubicBezTo>
                <a:cubicBezTo>
                  <a:pt x="5295" y="11971"/>
                  <a:pt x="5393" y="11998"/>
                  <a:pt x="5531" y="12030"/>
                </a:cubicBezTo>
                <a:cubicBezTo>
                  <a:pt x="5682" y="12065"/>
                  <a:pt x="5790" y="12144"/>
                  <a:pt x="5928" y="12204"/>
                </a:cubicBezTo>
                <a:cubicBezTo>
                  <a:pt x="5993" y="12226"/>
                  <a:pt x="6008" y="12234"/>
                  <a:pt x="6052" y="12229"/>
                </a:cubicBezTo>
              </a:path>
              <a:path w="4565" h="2531">
                <a:moveTo>
                  <a:pt x="3324" y="10641"/>
                </a:moveTo>
                <a:cubicBezTo>
                  <a:pt x="3346" y="10731"/>
                  <a:pt x="3368" y="10791"/>
                  <a:pt x="3448" y="10864"/>
                </a:cubicBezTo>
                <a:cubicBezTo>
                  <a:pt x="3561" y="10968"/>
                  <a:pt x="3693" y="11029"/>
                  <a:pt x="3820" y="11112"/>
                </a:cubicBezTo>
                <a:cubicBezTo>
                  <a:pt x="3963" y="11205"/>
                  <a:pt x="4112" y="11308"/>
                  <a:pt x="4266" y="11385"/>
                </a:cubicBezTo>
                <a:cubicBezTo>
                  <a:pt x="4406" y="11455"/>
                  <a:pt x="4562" y="11511"/>
                  <a:pt x="4688" y="11609"/>
                </a:cubicBezTo>
                <a:cubicBezTo>
                  <a:pt x="4751" y="11658"/>
                  <a:pt x="4789" y="11682"/>
                  <a:pt x="4862" y="11708"/>
                </a:cubicBezTo>
              </a:path>
              <a:path w="4565" h="2531">
                <a:moveTo>
                  <a:pt x="4440" y="10492"/>
                </a:moveTo>
                <a:cubicBezTo>
                  <a:pt x="4335" y="10650"/>
                  <a:pt x="4215" y="10772"/>
                  <a:pt x="4093" y="10914"/>
                </a:cubicBezTo>
                <a:cubicBezTo>
                  <a:pt x="3968" y="11060"/>
                  <a:pt x="3818" y="11187"/>
                  <a:pt x="3696" y="11336"/>
                </a:cubicBezTo>
                <a:cubicBezTo>
                  <a:pt x="3621" y="11427"/>
                  <a:pt x="3551" y="11520"/>
                  <a:pt x="3473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7760" y="3268800"/>
            <a:ext cx="1635120" cy="785520"/>
          </a:xfrm>
          <a:custGeom>
            <a:avLst/>
            <a:gdLst/>
            <a:ahLst/>
            <a:rect l="l" t="t" r="r" b="b"/>
            <a:pathLst>
              <a:path w="4540" h="2183">
                <a:moveTo>
                  <a:pt x="11410" y="9227"/>
                </a:moveTo>
                <a:cubicBezTo>
                  <a:pt x="11432" y="9300"/>
                  <a:pt x="11435" y="9307"/>
                  <a:pt x="11435" y="9376"/>
                </a:cubicBezTo>
                <a:cubicBezTo>
                  <a:pt x="11454" y="9332"/>
                  <a:pt x="11477" y="9278"/>
                  <a:pt x="11460" y="9227"/>
                </a:cubicBezTo>
                <a:cubicBezTo>
                  <a:pt x="11453" y="9207"/>
                  <a:pt x="11419" y="9087"/>
                  <a:pt x="11410" y="9079"/>
                </a:cubicBezTo>
                <a:cubicBezTo>
                  <a:pt x="11383" y="9057"/>
                  <a:pt x="11259" y="9079"/>
                  <a:pt x="11237" y="9103"/>
                </a:cubicBezTo>
                <a:cubicBezTo>
                  <a:pt x="11209" y="9133"/>
                  <a:pt x="11126" y="9206"/>
                  <a:pt x="11112" y="9227"/>
                </a:cubicBezTo>
                <a:cubicBezTo>
                  <a:pt x="11065" y="9300"/>
                  <a:pt x="10999" y="9398"/>
                  <a:pt x="10988" y="9475"/>
                </a:cubicBezTo>
                <a:cubicBezTo>
                  <a:pt x="10979" y="9536"/>
                  <a:pt x="10984" y="9632"/>
                  <a:pt x="11038" y="9674"/>
                </a:cubicBezTo>
                <a:cubicBezTo>
                  <a:pt x="11077" y="9704"/>
                  <a:pt x="11163" y="9743"/>
                  <a:pt x="11212" y="9748"/>
                </a:cubicBezTo>
                <a:cubicBezTo>
                  <a:pt x="11332" y="9761"/>
                  <a:pt x="11494" y="9775"/>
                  <a:pt x="11584" y="9699"/>
                </a:cubicBezTo>
                <a:cubicBezTo>
                  <a:pt x="11617" y="9671"/>
                  <a:pt x="11616" y="9674"/>
                  <a:pt x="11658" y="9674"/>
                </a:cubicBezTo>
              </a:path>
              <a:path w="4540" h="2183">
                <a:moveTo>
                  <a:pt x="10716" y="10046"/>
                </a:moveTo>
                <a:cubicBezTo>
                  <a:pt x="11006" y="10046"/>
                  <a:pt x="11280" y="10046"/>
                  <a:pt x="11559" y="9996"/>
                </a:cubicBezTo>
                <a:cubicBezTo>
                  <a:pt x="11668" y="9977"/>
                  <a:pt x="11794" y="9996"/>
                  <a:pt x="11906" y="9996"/>
                </a:cubicBezTo>
              </a:path>
              <a:path w="4540" h="2183">
                <a:moveTo>
                  <a:pt x="11361" y="10220"/>
                </a:moveTo>
                <a:cubicBezTo>
                  <a:pt x="11371" y="10413"/>
                  <a:pt x="11361" y="10555"/>
                  <a:pt x="11361" y="10740"/>
                </a:cubicBezTo>
                <a:cubicBezTo>
                  <a:pt x="11361" y="10846"/>
                  <a:pt x="11367" y="10946"/>
                  <a:pt x="11385" y="11038"/>
                </a:cubicBezTo>
                <a:cubicBezTo>
                  <a:pt x="11395" y="11089"/>
                  <a:pt x="11389" y="11061"/>
                  <a:pt x="11410" y="11088"/>
                </a:cubicBezTo>
                <a:cubicBezTo>
                  <a:pt x="11415" y="11037"/>
                  <a:pt x="11428" y="11007"/>
                  <a:pt x="11435" y="10964"/>
                </a:cubicBezTo>
                <a:cubicBezTo>
                  <a:pt x="11445" y="10902"/>
                  <a:pt x="11457" y="10866"/>
                  <a:pt x="11485" y="10815"/>
                </a:cubicBezTo>
                <a:cubicBezTo>
                  <a:pt x="11513" y="10764"/>
                  <a:pt x="11554" y="10738"/>
                  <a:pt x="11584" y="10691"/>
                </a:cubicBezTo>
                <a:cubicBezTo>
                  <a:pt x="11612" y="10648"/>
                  <a:pt x="11668" y="10605"/>
                  <a:pt x="11733" y="10641"/>
                </a:cubicBezTo>
                <a:cubicBezTo>
                  <a:pt x="11796" y="10676"/>
                  <a:pt x="11900" y="10786"/>
                  <a:pt x="11931" y="10840"/>
                </a:cubicBezTo>
                <a:cubicBezTo>
                  <a:pt x="11979" y="10924"/>
                  <a:pt x="11993" y="11001"/>
                  <a:pt x="11956" y="11088"/>
                </a:cubicBezTo>
                <a:cubicBezTo>
                  <a:pt x="11932" y="11143"/>
                  <a:pt x="11842" y="11220"/>
                  <a:pt x="11782" y="11237"/>
                </a:cubicBezTo>
                <a:cubicBezTo>
                  <a:pt x="11697" y="11261"/>
                  <a:pt x="11598" y="11261"/>
                  <a:pt x="11509" y="11261"/>
                </a:cubicBezTo>
                <a:cubicBezTo>
                  <a:pt x="11462" y="11261"/>
                  <a:pt x="11370" y="11271"/>
                  <a:pt x="11336" y="11237"/>
                </a:cubicBezTo>
                <a:cubicBezTo>
                  <a:pt x="11314" y="11193"/>
                  <a:pt x="11301" y="11181"/>
                  <a:pt x="11336" y="11162"/>
                </a:cubicBezTo>
              </a:path>
              <a:path w="4540" h="2183">
                <a:moveTo>
                  <a:pt x="12328" y="10046"/>
                </a:moveTo>
                <a:cubicBezTo>
                  <a:pt x="12460" y="10046"/>
                  <a:pt x="12593" y="10046"/>
                  <a:pt x="12725" y="10046"/>
                </a:cubicBezTo>
              </a:path>
              <a:path w="4540" h="2183">
                <a:moveTo>
                  <a:pt x="12452" y="10195"/>
                </a:moveTo>
                <a:cubicBezTo>
                  <a:pt x="12641" y="10195"/>
                  <a:pt x="12803" y="10230"/>
                  <a:pt x="12948" y="10120"/>
                </a:cubicBezTo>
              </a:path>
              <a:path w="4540" h="2183">
                <a:moveTo>
                  <a:pt x="13444" y="9500"/>
                </a:moveTo>
                <a:cubicBezTo>
                  <a:pt x="13444" y="9823"/>
                  <a:pt x="13444" y="10741"/>
                  <a:pt x="13444" y="10418"/>
                </a:cubicBezTo>
                <a:cubicBezTo>
                  <a:pt x="13417" y="10321"/>
                  <a:pt x="13421" y="10215"/>
                  <a:pt x="13395" y="10120"/>
                </a:cubicBezTo>
                <a:cubicBezTo>
                  <a:pt x="13368" y="10020"/>
                  <a:pt x="13370" y="9930"/>
                  <a:pt x="13370" y="9823"/>
                </a:cubicBezTo>
                <a:cubicBezTo>
                  <a:pt x="13370" y="9699"/>
                  <a:pt x="13334" y="9510"/>
                  <a:pt x="13395" y="9401"/>
                </a:cubicBezTo>
                <a:cubicBezTo>
                  <a:pt x="13418" y="9360"/>
                  <a:pt x="13446" y="9275"/>
                  <a:pt x="13494" y="9252"/>
                </a:cubicBezTo>
                <a:cubicBezTo>
                  <a:pt x="13578" y="9212"/>
                  <a:pt x="13637" y="9348"/>
                  <a:pt x="13667" y="9376"/>
                </a:cubicBezTo>
                <a:cubicBezTo>
                  <a:pt x="13766" y="9469"/>
                  <a:pt x="13785" y="9517"/>
                  <a:pt x="13742" y="9674"/>
                </a:cubicBezTo>
                <a:cubicBezTo>
                  <a:pt x="13731" y="9713"/>
                  <a:pt x="13646" y="9801"/>
                  <a:pt x="13618" y="9823"/>
                </a:cubicBezTo>
                <a:cubicBezTo>
                  <a:pt x="13589" y="9846"/>
                  <a:pt x="13496" y="9892"/>
                  <a:pt x="13469" y="9897"/>
                </a:cubicBezTo>
                <a:cubicBezTo>
                  <a:pt x="13441" y="9897"/>
                  <a:pt x="13430" y="9899"/>
                  <a:pt x="13419" y="9922"/>
                </a:cubicBezTo>
              </a:path>
              <a:path w="4540" h="2183">
                <a:moveTo>
                  <a:pt x="13965" y="10269"/>
                </a:moveTo>
                <a:lnTo>
                  <a:pt x="13965" y="10269"/>
                </a:lnTo>
              </a:path>
              <a:path w="4540" h="2183">
                <a:moveTo>
                  <a:pt x="14709" y="9327"/>
                </a:moveTo>
                <a:cubicBezTo>
                  <a:pt x="14736" y="9389"/>
                  <a:pt x="14722" y="9401"/>
                  <a:pt x="14784" y="9401"/>
                </a:cubicBezTo>
                <a:cubicBezTo>
                  <a:pt x="14768" y="9353"/>
                  <a:pt x="14735" y="9348"/>
                  <a:pt x="14684" y="9327"/>
                </a:cubicBezTo>
                <a:cubicBezTo>
                  <a:pt x="14572" y="9281"/>
                  <a:pt x="14589" y="9326"/>
                  <a:pt x="14486" y="9376"/>
                </a:cubicBezTo>
                <a:cubicBezTo>
                  <a:pt x="14412" y="9412"/>
                  <a:pt x="14350" y="9434"/>
                  <a:pt x="14337" y="9525"/>
                </a:cubicBezTo>
                <a:cubicBezTo>
                  <a:pt x="14324" y="9616"/>
                  <a:pt x="14362" y="9696"/>
                  <a:pt x="14436" y="9748"/>
                </a:cubicBezTo>
                <a:cubicBezTo>
                  <a:pt x="14512" y="9801"/>
                  <a:pt x="14591" y="9862"/>
                  <a:pt x="14660" y="9922"/>
                </a:cubicBezTo>
                <a:cubicBezTo>
                  <a:pt x="14724" y="9978"/>
                  <a:pt x="14813" y="10063"/>
                  <a:pt x="14833" y="10145"/>
                </a:cubicBezTo>
                <a:cubicBezTo>
                  <a:pt x="14846" y="10198"/>
                  <a:pt x="14831" y="10249"/>
                  <a:pt x="14808" y="10269"/>
                </a:cubicBezTo>
                <a:cubicBezTo>
                  <a:pt x="14775" y="10299"/>
                  <a:pt x="14682" y="10312"/>
                  <a:pt x="14635" y="10294"/>
                </a:cubicBezTo>
                <a:cubicBezTo>
                  <a:pt x="14567" y="10268"/>
                  <a:pt x="14525" y="10267"/>
                  <a:pt x="14461" y="10220"/>
                </a:cubicBezTo>
              </a:path>
              <a:path w="4540" h="2183">
                <a:moveTo>
                  <a:pt x="15230" y="10294"/>
                </a:moveTo>
                <a:cubicBezTo>
                  <a:pt x="15250" y="10334"/>
                  <a:pt x="15259" y="10341"/>
                  <a:pt x="15255" y="10368"/>
                </a:cubicBezTo>
                <a:cubicBezTo>
                  <a:pt x="15214" y="10358"/>
                  <a:pt x="15203" y="10351"/>
                  <a:pt x="15156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3240" y="4545000"/>
            <a:ext cx="1528920" cy="911160"/>
          </a:xfrm>
          <a:custGeom>
            <a:avLst/>
            <a:gdLst/>
            <a:ahLst/>
            <a:rect l="l" t="t" r="r" b="b"/>
            <a:pathLst>
              <a:path w="4243" h="2531">
                <a:moveTo>
                  <a:pt x="1761" y="12626"/>
                </a:moveTo>
                <a:cubicBezTo>
                  <a:pt x="1784" y="12678"/>
                  <a:pt x="1786" y="12696"/>
                  <a:pt x="1786" y="12750"/>
                </a:cubicBezTo>
                <a:cubicBezTo>
                  <a:pt x="1786" y="12819"/>
                  <a:pt x="1778" y="12877"/>
                  <a:pt x="1786" y="12874"/>
                </a:cubicBezTo>
                <a:cubicBezTo>
                  <a:pt x="1821" y="12861"/>
                  <a:pt x="1852" y="12837"/>
                  <a:pt x="1910" y="12824"/>
                </a:cubicBezTo>
                <a:cubicBezTo>
                  <a:pt x="1980" y="12808"/>
                  <a:pt x="2042" y="12840"/>
                  <a:pt x="2108" y="12849"/>
                </a:cubicBezTo>
                <a:cubicBezTo>
                  <a:pt x="2221" y="12865"/>
                  <a:pt x="2344" y="12861"/>
                  <a:pt x="2456" y="12874"/>
                </a:cubicBezTo>
                <a:cubicBezTo>
                  <a:pt x="2500" y="12879"/>
                  <a:pt x="2626" y="12894"/>
                  <a:pt x="2654" y="12849"/>
                </a:cubicBezTo>
                <a:cubicBezTo>
                  <a:pt x="2654" y="12841"/>
                  <a:pt x="2654" y="12832"/>
                  <a:pt x="2654" y="12824"/>
                </a:cubicBezTo>
              </a:path>
              <a:path w="4243" h="2531">
                <a:moveTo>
                  <a:pt x="2059" y="12849"/>
                </a:moveTo>
                <a:cubicBezTo>
                  <a:pt x="2053" y="12984"/>
                  <a:pt x="2034" y="13111"/>
                  <a:pt x="2034" y="13246"/>
                </a:cubicBezTo>
                <a:cubicBezTo>
                  <a:pt x="2034" y="13321"/>
                  <a:pt x="2008" y="13436"/>
                  <a:pt x="2059" y="13494"/>
                </a:cubicBezTo>
                <a:cubicBezTo>
                  <a:pt x="2067" y="13502"/>
                  <a:pt x="2076" y="13511"/>
                  <a:pt x="2084" y="13519"/>
                </a:cubicBezTo>
              </a:path>
              <a:path w="4243" h="2531">
                <a:moveTo>
                  <a:pt x="2381" y="12948"/>
                </a:moveTo>
                <a:cubicBezTo>
                  <a:pt x="2360" y="13138"/>
                  <a:pt x="2359" y="13283"/>
                  <a:pt x="2381" y="13469"/>
                </a:cubicBezTo>
                <a:cubicBezTo>
                  <a:pt x="2388" y="13533"/>
                  <a:pt x="2390" y="13576"/>
                  <a:pt x="2456" y="13593"/>
                </a:cubicBezTo>
              </a:path>
              <a:path w="4243" h="2531">
                <a:moveTo>
                  <a:pt x="2952" y="12675"/>
                </a:moveTo>
                <a:cubicBezTo>
                  <a:pt x="2945" y="12829"/>
                  <a:pt x="2917" y="12971"/>
                  <a:pt x="2902" y="13122"/>
                </a:cubicBezTo>
                <a:cubicBezTo>
                  <a:pt x="2891" y="13234"/>
                  <a:pt x="2894" y="13340"/>
                  <a:pt x="2902" y="13444"/>
                </a:cubicBezTo>
                <a:cubicBezTo>
                  <a:pt x="2907" y="13515"/>
                  <a:pt x="2886" y="13564"/>
                  <a:pt x="2927" y="13618"/>
                </a:cubicBezTo>
                <a:cubicBezTo>
                  <a:pt x="2975" y="13586"/>
                  <a:pt x="2958" y="13535"/>
                  <a:pt x="2977" y="13469"/>
                </a:cubicBezTo>
                <a:cubicBezTo>
                  <a:pt x="2997" y="13402"/>
                  <a:pt x="3022" y="13342"/>
                  <a:pt x="3026" y="13271"/>
                </a:cubicBezTo>
                <a:cubicBezTo>
                  <a:pt x="3030" y="13191"/>
                  <a:pt x="3072" y="13209"/>
                  <a:pt x="3101" y="13146"/>
                </a:cubicBezTo>
                <a:cubicBezTo>
                  <a:pt x="3120" y="13104"/>
                  <a:pt x="3181" y="13117"/>
                  <a:pt x="3225" y="13146"/>
                </a:cubicBezTo>
                <a:cubicBezTo>
                  <a:pt x="3284" y="13186"/>
                  <a:pt x="3341" y="13242"/>
                  <a:pt x="3349" y="13320"/>
                </a:cubicBezTo>
                <a:cubicBezTo>
                  <a:pt x="3366" y="13485"/>
                  <a:pt x="3329" y="13514"/>
                  <a:pt x="3225" y="13618"/>
                </a:cubicBezTo>
                <a:cubicBezTo>
                  <a:pt x="3163" y="13679"/>
                  <a:pt x="3087" y="13712"/>
                  <a:pt x="3001" y="13717"/>
                </a:cubicBezTo>
                <a:cubicBezTo>
                  <a:pt x="2969" y="13719"/>
                  <a:pt x="2895" y="13718"/>
                  <a:pt x="2902" y="13667"/>
                </a:cubicBezTo>
                <a:cubicBezTo>
                  <a:pt x="2910" y="13651"/>
                  <a:pt x="2919" y="13634"/>
                  <a:pt x="2927" y="13618"/>
                </a:cubicBezTo>
              </a:path>
              <a:path w="4243" h="2531">
                <a:moveTo>
                  <a:pt x="3597" y="13122"/>
                </a:moveTo>
                <a:cubicBezTo>
                  <a:pt x="3719" y="13110"/>
                  <a:pt x="3822" y="13122"/>
                  <a:pt x="3944" y="13122"/>
                </a:cubicBezTo>
              </a:path>
              <a:path w="4243" h="2531">
                <a:moveTo>
                  <a:pt x="3696" y="13345"/>
                </a:moveTo>
                <a:cubicBezTo>
                  <a:pt x="3794" y="13370"/>
                  <a:pt x="3851" y="13380"/>
                  <a:pt x="3944" y="13345"/>
                </a:cubicBezTo>
              </a:path>
              <a:path w="4243" h="2531">
                <a:moveTo>
                  <a:pt x="4539" y="12849"/>
                </a:moveTo>
                <a:cubicBezTo>
                  <a:pt x="4500" y="12916"/>
                  <a:pt x="4473" y="12951"/>
                  <a:pt x="4415" y="12998"/>
                </a:cubicBezTo>
                <a:cubicBezTo>
                  <a:pt x="4382" y="13025"/>
                  <a:pt x="4346" y="13056"/>
                  <a:pt x="4341" y="13097"/>
                </a:cubicBezTo>
                <a:cubicBezTo>
                  <a:pt x="4335" y="13151"/>
                  <a:pt x="4349" y="13153"/>
                  <a:pt x="4390" y="13171"/>
                </a:cubicBezTo>
                <a:cubicBezTo>
                  <a:pt x="4464" y="13203"/>
                  <a:pt x="4536" y="13236"/>
                  <a:pt x="4614" y="13246"/>
                </a:cubicBezTo>
                <a:cubicBezTo>
                  <a:pt x="4691" y="13256"/>
                  <a:pt x="4744" y="13226"/>
                  <a:pt x="4812" y="13196"/>
                </a:cubicBezTo>
              </a:path>
              <a:path w="4243" h="2531">
                <a:moveTo>
                  <a:pt x="4812" y="12626"/>
                </a:moveTo>
                <a:cubicBezTo>
                  <a:pt x="4776" y="12751"/>
                  <a:pt x="4743" y="12870"/>
                  <a:pt x="4713" y="12998"/>
                </a:cubicBezTo>
                <a:cubicBezTo>
                  <a:pt x="4681" y="13138"/>
                  <a:pt x="4650" y="13277"/>
                  <a:pt x="4638" y="13419"/>
                </a:cubicBezTo>
                <a:cubicBezTo>
                  <a:pt x="4627" y="13549"/>
                  <a:pt x="4629" y="13668"/>
                  <a:pt x="4638" y="13791"/>
                </a:cubicBezTo>
                <a:cubicBezTo>
                  <a:pt x="4638" y="13819"/>
                  <a:pt x="4640" y="13825"/>
                  <a:pt x="4663" y="13791"/>
                </a:cubicBezTo>
              </a:path>
              <a:path w="4243" h="2531">
                <a:moveTo>
                  <a:pt x="5011" y="12774"/>
                </a:moveTo>
                <a:cubicBezTo>
                  <a:pt x="5180" y="12774"/>
                  <a:pt x="5343" y="12793"/>
                  <a:pt x="5507" y="12799"/>
                </a:cubicBezTo>
                <a:cubicBezTo>
                  <a:pt x="5532" y="12799"/>
                  <a:pt x="5556" y="12799"/>
                  <a:pt x="5581" y="12799"/>
                </a:cubicBezTo>
              </a:path>
              <a:path w="4243" h="2531">
                <a:moveTo>
                  <a:pt x="5259" y="12824"/>
                </a:moveTo>
                <a:cubicBezTo>
                  <a:pt x="5215" y="13020"/>
                  <a:pt x="5168" y="13197"/>
                  <a:pt x="5159" y="13395"/>
                </a:cubicBezTo>
                <a:cubicBezTo>
                  <a:pt x="5157" y="13447"/>
                  <a:pt x="5141" y="13505"/>
                  <a:pt x="5184" y="13519"/>
                </a:cubicBezTo>
              </a:path>
              <a:path w="4243" h="2531">
                <a:moveTo>
                  <a:pt x="5457" y="12799"/>
                </a:moveTo>
                <a:cubicBezTo>
                  <a:pt x="5426" y="12913"/>
                  <a:pt x="5393" y="13030"/>
                  <a:pt x="5383" y="13146"/>
                </a:cubicBezTo>
                <a:cubicBezTo>
                  <a:pt x="5370" y="13294"/>
                  <a:pt x="5383" y="13453"/>
                  <a:pt x="5432" y="13593"/>
                </a:cubicBezTo>
                <a:cubicBezTo>
                  <a:pt x="5457" y="13643"/>
                  <a:pt x="5465" y="13659"/>
                  <a:pt x="5482" y="13692"/>
                </a:cubicBezTo>
              </a:path>
              <a:path w="4243" h="2531">
                <a:moveTo>
                  <a:pt x="6003" y="13742"/>
                </a:moveTo>
                <a:cubicBezTo>
                  <a:pt x="5873" y="13777"/>
                  <a:pt x="5733" y="13800"/>
                  <a:pt x="5606" y="13841"/>
                </a:cubicBezTo>
                <a:cubicBezTo>
                  <a:pt x="5432" y="13897"/>
                  <a:pt x="5257" y="13958"/>
                  <a:pt x="5085" y="14015"/>
                </a:cubicBezTo>
                <a:cubicBezTo>
                  <a:pt x="4933" y="14065"/>
                  <a:pt x="4774" y="14119"/>
                  <a:pt x="4614" y="14139"/>
                </a:cubicBezTo>
                <a:cubicBezTo>
                  <a:pt x="4547" y="14147"/>
                  <a:pt x="4482" y="14156"/>
                  <a:pt x="4415" y="14163"/>
                </a:cubicBezTo>
              </a:path>
              <a:path w="4243" h="2531">
                <a:moveTo>
                  <a:pt x="1910" y="13841"/>
                </a:moveTo>
                <a:cubicBezTo>
                  <a:pt x="2010" y="13824"/>
                  <a:pt x="2106" y="13804"/>
                  <a:pt x="2208" y="13791"/>
                </a:cubicBezTo>
                <a:cubicBezTo>
                  <a:pt x="2403" y="13766"/>
                  <a:pt x="2581" y="13742"/>
                  <a:pt x="2778" y="13742"/>
                </a:cubicBezTo>
                <a:cubicBezTo>
                  <a:pt x="2930" y="13742"/>
                  <a:pt x="3073" y="13767"/>
                  <a:pt x="3225" y="13767"/>
                </a:cubicBezTo>
                <a:cubicBezTo>
                  <a:pt x="3241" y="13767"/>
                  <a:pt x="3258" y="13767"/>
                  <a:pt x="3274" y="13767"/>
                </a:cubicBezTo>
              </a:path>
              <a:path w="4243" h="2531">
                <a:moveTo>
                  <a:pt x="2381" y="13965"/>
                </a:moveTo>
                <a:cubicBezTo>
                  <a:pt x="2489" y="13995"/>
                  <a:pt x="2591" y="14012"/>
                  <a:pt x="2704" y="14015"/>
                </a:cubicBezTo>
                <a:cubicBezTo>
                  <a:pt x="2822" y="14018"/>
                  <a:pt x="2932" y="14039"/>
                  <a:pt x="3051" y="14039"/>
                </a:cubicBezTo>
              </a:path>
              <a:path w="4243" h="2531">
                <a:moveTo>
                  <a:pt x="2604" y="14163"/>
                </a:moveTo>
                <a:cubicBezTo>
                  <a:pt x="2551" y="14311"/>
                  <a:pt x="2498" y="14459"/>
                  <a:pt x="2480" y="14610"/>
                </a:cubicBezTo>
                <a:cubicBezTo>
                  <a:pt x="2472" y="14679"/>
                  <a:pt x="2472" y="14690"/>
                  <a:pt x="2505" y="14734"/>
                </a:cubicBezTo>
              </a:path>
              <a:path w="4243" h="2531">
                <a:moveTo>
                  <a:pt x="2828" y="14163"/>
                </a:moveTo>
                <a:cubicBezTo>
                  <a:pt x="2853" y="14301"/>
                  <a:pt x="2889" y="14448"/>
                  <a:pt x="2902" y="14585"/>
                </a:cubicBezTo>
                <a:cubicBezTo>
                  <a:pt x="2914" y="14720"/>
                  <a:pt x="2930" y="14737"/>
                  <a:pt x="3026" y="14833"/>
                </a:cubicBezTo>
              </a:path>
              <a:path w="4243" h="2531">
                <a:moveTo>
                  <a:pt x="5011" y="14337"/>
                </a:moveTo>
                <a:cubicBezTo>
                  <a:pt x="5095" y="14401"/>
                  <a:pt x="5153" y="14393"/>
                  <a:pt x="5259" y="14412"/>
                </a:cubicBezTo>
                <a:cubicBezTo>
                  <a:pt x="5391" y="14436"/>
                  <a:pt x="5521" y="14457"/>
                  <a:pt x="5655" y="14461"/>
                </a:cubicBezTo>
                <a:cubicBezTo>
                  <a:pt x="5738" y="14461"/>
                  <a:pt x="5771" y="14461"/>
                  <a:pt x="5829" y="14461"/>
                </a:cubicBezTo>
              </a:path>
              <a:path w="4243" h="2531">
                <a:moveTo>
                  <a:pt x="5209" y="14461"/>
                </a:moveTo>
                <a:cubicBezTo>
                  <a:pt x="5182" y="14575"/>
                  <a:pt x="5074" y="14785"/>
                  <a:pt x="5209" y="14883"/>
                </a:cubicBezTo>
                <a:cubicBezTo>
                  <a:pt x="5217" y="14883"/>
                  <a:pt x="5226" y="14883"/>
                  <a:pt x="5234" y="14883"/>
                </a:cubicBezTo>
              </a:path>
              <a:path w="4243" h="2531">
                <a:moveTo>
                  <a:pt x="5482" y="14635"/>
                </a:moveTo>
                <a:cubicBezTo>
                  <a:pt x="5482" y="14798"/>
                  <a:pt x="5484" y="14952"/>
                  <a:pt x="5507" y="15106"/>
                </a:cubicBezTo>
                <a:cubicBezTo>
                  <a:pt x="5507" y="15123"/>
                  <a:pt x="5507" y="15139"/>
                  <a:pt x="5507" y="15156"/>
                </a:cubicBezTo>
              </a:path>
              <a:path w="4243" h="2531">
                <a:moveTo>
                  <a:pt x="2257" y="12750"/>
                </a:moveTo>
                <a:cubicBezTo>
                  <a:pt x="2291" y="12909"/>
                  <a:pt x="2304" y="13062"/>
                  <a:pt x="2332" y="13221"/>
                </a:cubicBezTo>
                <a:cubicBezTo>
                  <a:pt x="2362" y="13394"/>
                  <a:pt x="2364" y="13552"/>
                  <a:pt x="2431" y="13717"/>
                </a:cubicBezTo>
                <a:cubicBezTo>
                  <a:pt x="2488" y="13857"/>
                  <a:pt x="2540" y="14003"/>
                  <a:pt x="2604" y="14139"/>
                </a:cubicBezTo>
                <a:cubicBezTo>
                  <a:pt x="2660" y="14258"/>
                  <a:pt x="2675" y="14380"/>
                  <a:pt x="2704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48040" y="4295880"/>
            <a:ext cx="546120" cy="1106280"/>
          </a:xfrm>
          <a:custGeom>
            <a:avLst/>
            <a:gdLst/>
            <a:ahLst/>
            <a:rect l="l" t="t" r="r" b="b"/>
            <a:pathLst>
              <a:path w="1514" h="3077">
                <a:moveTo>
                  <a:pt x="11509" y="11931"/>
                </a:moveTo>
                <a:cubicBezTo>
                  <a:pt x="11542" y="11985"/>
                  <a:pt x="11542" y="12042"/>
                  <a:pt x="11559" y="12105"/>
                </a:cubicBezTo>
                <a:cubicBezTo>
                  <a:pt x="11578" y="12176"/>
                  <a:pt x="11588" y="12241"/>
                  <a:pt x="11609" y="12303"/>
                </a:cubicBezTo>
                <a:cubicBezTo>
                  <a:pt x="11609" y="12331"/>
                  <a:pt x="11611" y="12342"/>
                  <a:pt x="11633" y="12353"/>
                </a:cubicBezTo>
                <a:cubicBezTo>
                  <a:pt x="11628" y="12313"/>
                  <a:pt x="11626" y="12263"/>
                  <a:pt x="11609" y="12229"/>
                </a:cubicBezTo>
                <a:cubicBezTo>
                  <a:pt x="11569" y="12149"/>
                  <a:pt x="11566" y="12078"/>
                  <a:pt x="11485" y="12030"/>
                </a:cubicBezTo>
                <a:cubicBezTo>
                  <a:pt x="11409" y="11985"/>
                  <a:pt x="11347" y="11959"/>
                  <a:pt x="11261" y="11956"/>
                </a:cubicBezTo>
                <a:cubicBezTo>
                  <a:pt x="11174" y="11953"/>
                  <a:pt x="11051" y="11991"/>
                  <a:pt x="10988" y="12055"/>
                </a:cubicBezTo>
                <a:cubicBezTo>
                  <a:pt x="10937" y="12106"/>
                  <a:pt x="10897" y="12187"/>
                  <a:pt x="10864" y="12254"/>
                </a:cubicBezTo>
                <a:cubicBezTo>
                  <a:pt x="10820" y="12344"/>
                  <a:pt x="10847" y="12394"/>
                  <a:pt x="10889" y="12477"/>
                </a:cubicBezTo>
                <a:cubicBezTo>
                  <a:pt x="10928" y="12554"/>
                  <a:pt x="11009" y="12596"/>
                  <a:pt x="11088" y="12626"/>
                </a:cubicBezTo>
                <a:cubicBezTo>
                  <a:pt x="11192" y="12665"/>
                  <a:pt x="11325" y="12672"/>
                  <a:pt x="11435" y="12675"/>
                </a:cubicBezTo>
                <a:cubicBezTo>
                  <a:pt x="11562" y="12679"/>
                  <a:pt x="11710" y="12681"/>
                  <a:pt x="11832" y="12650"/>
                </a:cubicBezTo>
                <a:cubicBezTo>
                  <a:pt x="11903" y="12632"/>
                  <a:pt x="11897" y="12616"/>
                  <a:pt x="11931" y="12576"/>
                </a:cubicBezTo>
              </a:path>
              <a:path w="1514" h="3077">
                <a:moveTo>
                  <a:pt x="10691" y="13072"/>
                </a:moveTo>
                <a:cubicBezTo>
                  <a:pt x="10886" y="13078"/>
                  <a:pt x="11067" y="13097"/>
                  <a:pt x="11261" y="13097"/>
                </a:cubicBezTo>
                <a:cubicBezTo>
                  <a:pt x="11496" y="13097"/>
                  <a:pt x="11724" y="13101"/>
                  <a:pt x="11956" y="13122"/>
                </a:cubicBezTo>
                <a:cubicBezTo>
                  <a:pt x="12009" y="13127"/>
                  <a:pt x="12198" y="13149"/>
                  <a:pt x="12204" y="13097"/>
                </a:cubicBezTo>
                <a:cubicBezTo>
                  <a:pt x="12204" y="13069"/>
                  <a:pt x="12202" y="13058"/>
                  <a:pt x="12179" y="13047"/>
                </a:cubicBezTo>
              </a:path>
              <a:path w="1514" h="3077">
                <a:moveTo>
                  <a:pt x="11261" y="13444"/>
                </a:moveTo>
                <a:cubicBezTo>
                  <a:pt x="11213" y="13555"/>
                  <a:pt x="11178" y="13647"/>
                  <a:pt x="11112" y="13742"/>
                </a:cubicBezTo>
                <a:cubicBezTo>
                  <a:pt x="11067" y="13807"/>
                  <a:pt x="11052" y="13800"/>
                  <a:pt x="11038" y="13841"/>
                </a:cubicBezTo>
                <a:cubicBezTo>
                  <a:pt x="11051" y="13879"/>
                  <a:pt x="11067" y="13866"/>
                  <a:pt x="11112" y="13866"/>
                </a:cubicBezTo>
                <a:cubicBezTo>
                  <a:pt x="11183" y="13866"/>
                  <a:pt x="11245" y="13874"/>
                  <a:pt x="11311" y="13891"/>
                </a:cubicBezTo>
                <a:cubicBezTo>
                  <a:pt x="11456" y="13928"/>
                  <a:pt x="11583" y="13972"/>
                  <a:pt x="11733" y="13990"/>
                </a:cubicBezTo>
                <a:cubicBezTo>
                  <a:pt x="11784" y="13990"/>
                  <a:pt x="11803" y="13989"/>
                  <a:pt x="11832" y="13965"/>
                </a:cubicBezTo>
              </a:path>
              <a:path w="1514" h="3077">
                <a:moveTo>
                  <a:pt x="11807" y="13395"/>
                </a:moveTo>
                <a:cubicBezTo>
                  <a:pt x="11788" y="13602"/>
                  <a:pt x="11761" y="13808"/>
                  <a:pt x="11757" y="14015"/>
                </a:cubicBezTo>
                <a:cubicBezTo>
                  <a:pt x="11752" y="14257"/>
                  <a:pt x="11764" y="14495"/>
                  <a:pt x="11782" y="14734"/>
                </a:cubicBezTo>
                <a:cubicBezTo>
                  <a:pt x="11789" y="14823"/>
                  <a:pt x="11782" y="14918"/>
                  <a:pt x="11782" y="150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4080" y="4554360"/>
            <a:ext cx="973080" cy="1428840"/>
          </a:xfrm>
          <a:custGeom>
            <a:avLst/>
            <a:gdLst/>
            <a:ahLst/>
            <a:rect l="l" t="t" r="r" b="b"/>
            <a:pathLst>
              <a:path w="2705" h="3970">
                <a:moveTo>
                  <a:pt x="2927" y="15528"/>
                </a:moveTo>
                <a:cubicBezTo>
                  <a:pt x="2927" y="15683"/>
                  <a:pt x="2938" y="15825"/>
                  <a:pt x="2952" y="15974"/>
                </a:cubicBezTo>
                <a:cubicBezTo>
                  <a:pt x="2960" y="16062"/>
                  <a:pt x="2941" y="16167"/>
                  <a:pt x="2977" y="16247"/>
                </a:cubicBezTo>
                <a:cubicBezTo>
                  <a:pt x="2992" y="16281"/>
                  <a:pt x="3000" y="16288"/>
                  <a:pt x="3026" y="16297"/>
                </a:cubicBezTo>
                <a:cubicBezTo>
                  <a:pt x="3049" y="16236"/>
                  <a:pt x="3087" y="16162"/>
                  <a:pt x="3101" y="16098"/>
                </a:cubicBezTo>
                <a:cubicBezTo>
                  <a:pt x="3119" y="16018"/>
                  <a:pt x="3125" y="15994"/>
                  <a:pt x="3200" y="15949"/>
                </a:cubicBezTo>
                <a:cubicBezTo>
                  <a:pt x="3268" y="15908"/>
                  <a:pt x="3336" y="15926"/>
                  <a:pt x="3398" y="15974"/>
                </a:cubicBezTo>
                <a:cubicBezTo>
                  <a:pt x="3499" y="16053"/>
                  <a:pt x="3551" y="16195"/>
                  <a:pt x="3522" y="16321"/>
                </a:cubicBezTo>
                <a:cubicBezTo>
                  <a:pt x="3503" y="16404"/>
                  <a:pt x="3447" y="16441"/>
                  <a:pt x="3373" y="16470"/>
                </a:cubicBezTo>
                <a:cubicBezTo>
                  <a:pt x="3280" y="16506"/>
                  <a:pt x="3199" y="16530"/>
                  <a:pt x="3101" y="16495"/>
                </a:cubicBezTo>
                <a:cubicBezTo>
                  <a:pt x="2999" y="16459"/>
                  <a:pt x="3031" y="16371"/>
                  <a:pt x="3051" y="16297"/>
                </a:cubicBezTo>
              </a:path>
              <a:path w="2705" h="3970">
                <a:moveTo>
                  <a:pt x="3820" y="15900"/>
                </a:moveTo>
                <a:cubicBezTo>
                  <a:pt x="3929" y="15914"/>
                  <a:pt x="4013" y="15925"/>
                  <a:pt x="4118" y="15925"/>
                </a:cubicBezTo>
              </a:path>
              <a:path w="2705" h="3970">
                <a:moveTo>
                  <a:pt x="3919" y="16173"/>
                </a:moveTo>
                <a:cubicBezTo>
                  <a:pt x="4049" y="16173"/>
                  <a:pt x="4096" y="16183"/>
                  <a:pt x="4192" y="16098"/>
                </a:cubicBezTo>
              </a:path>
              <a:path w="2705" h="3970">
                <a:moveTo>
                  <a:pt x="4341" y="15825"/>
                </a:moveTo>
                <a:cubicBezTo>
                  <a:pt x="4322" y="15867"/>
                  <a:pt x="4261" y="15964"/>
                  <a:pt x="4291" y="16024"/>
                </a:cubicBezTo>
                <a:cubicBezTo>
                  <a:pt x="4319" y="16081"/>
                  <a:pt x="4360" y="16118"/>
                  <a:pt x="4415" y="16148"/>
                </a:cubicBezTo>
                <a:cubicBezTo>
                  <a:pt x="4481" y="16183"/>
                  <a:pt x="4563" y="16235"/>
                  <a:pt x="4638" y="16247"/>
                </a:cubicBezTo>
                <a:cubicBezTo>
                  <a:pt x="4713" y="16247"/>
                  <a:pt x="4737" y="16247"/>
                  <a:pt x="4787" y="16247"/>
                </a:cubicBezTo>
              </a:path>
              <a:path w="2705" h="3970">
                <a:moveTo>
                  <a:pt x="4837" y="15751"/>
                </a:moveTo>
                <a:cubicBezTo>
                  <a:pt x="4815" y="15938"/>
                  <a:pt x="4762" y="16155"/>
                  <a:pt x="4787" y="16346"/>
                </a:cubicBezTo>
                <a:cubicBezTo>
                  <a:pt x="4798" y="16432"/>
                  <a:pt x="4829" y="16576"/>
                  <a:pt x="4887" y="16619"/>
                </a:cubicBezTo>
              </a:path>
              <a:path w="2705" h="3970">
                <a:moveTo>
                  <a:pt x="5383" y="12650"/>
                </a:moveTo>
                <a:cubicBezTo>
                  <a:pt x="5354" y="12816"/>
                  <a:pt x="5358" y="12976"/>
                  <a:pt x="5358" y="13146"/>
                </a:cubicBezTo>
                <a:cubicBezTo>
                  <a:pt x="5358" y="13370"/>
                  <a:pt x="5362" y="13594"/>
                  <a:pt x="5383" y="13816"/>
                </a:cubicBezTo>
                <a:cubicBezTo>
                  <a:pt x="5406" y="14069"/>
                  <a:pt x="5472" y="14310"/>
                  <a:pt x="5507" y="14560"/>
                </a:cubicBezTo>
                <a:cubicBezTo>
                  <a:pt x="5535" y="14765"/>
                  <a:pt x="5560" y="14975"/>
                  <a:pt x="5581" y="15180"/>
                </a:cubicBezTo>
                <a:cubicBezTo>
                  <a:pt x="5590" y="15275"/>
                  <a:pt x="5604" y="15348"/>
                  <a:pt x="5631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8320" y="5027760"/>
            <a:ext cx="2205360" cy="795240"/>
          </a:xfrm>
          <a:custGeom>
            <a:avLst/>
            <a:gdLst/>
            <a:ahLst/>
            <a:rect l="l" t="t" r="r" b="b"/>
            <a:pathLst>
              <a:path w="6128" h="2209">
                <a:moveTo>
                  <a:pt x="4911" y="16173"/>
                </a:moveTo>
                <a:cubicBezTo>
                  <a:pt x="4958" y="16156"/>
                  <a:pt x="5007" y="16142"/>
                  <a:pt x="5060" y="16123"/>
                </a:cubicBezTo>
                <a:cubicBezTo>
                  <a:pt x="5218" y="16066"/>
                  <a:pt x="5375" y="16010"/>
                  <a:pt x="5531" y="15949"/>
                </a:cubicBezTo>
                <a:cubicBezTo>
                  <a:pt x="5768" y="15855"/>
                  <a:pt x="6009" y="15759"/>
                  <a:pt x="6251" y="15677"/>
                </a:cubicBezTo>
                <a:cubicBezTo>
                  <a:pt x="6501" y="15592"/>
                  <a:pt x="6764" y="15516"/>
                  <a:pt x="7020" y="15453"/>
                </a:cubicBezTo>
                <a:cubicBezTo>
                  <a:pt x="7755" y="15273"/>
                  <a:pt x="8504" y="15042"/>
                  <a:pt x="9252" y="14932"/>
                </a:cubicBezTo>
                <a:cubicBezTo>
                  <a:pt x="9476" y="14899"/>
                  <a:pt x="9710" y="14864"/>
                  <a:pt x="9922" y="14784"/>
                </a:cubicBezTo>
                <a:cubicBezTo>
                  <a:pt x="10107" y="14714"/>
                  <a:pt x="10282" y="14650"/>
                  <a:pt x="10443" y="14536"/>
                </a:cubicBezTo>
                <a:cubicBezTo>
                  <a:pt x="10475" y="14513"/>
                  <a:pt x="10620" y="14344"/>
                  <a:pt x="10641" y="14337"/>
                </a:cubicBezTo>
                <a:cubicBezTo>
                  <a:pt x="10665" y="14330"/>
                  <a:pt x="10643" y="14396"/>
                  <a:pt x="10666" y="14387"/>
                </a:cubicBezTo>
                <a:cubicBezTo>
                  <a:pt x="10587" y="14370"/>
                  <a:pt x="10526" y="14361"/>
                  <a:pt x="10443" y="14337"/>
                </a:cubicBezTo>
                <a:cubicBezTo>
                  <a:pt x="10094" y="14234"/>
                  <a:pt x="9728" y="14177"/>
                  <a:pt x="9376" y="14089"/>
                </a:cubicBezTo>
                <a:cubicBezTo>
                  <a:pt x="9424" y="14056"/>
                  <a:pt x="9465" y="13985"/>
                  <a:pt x="9575" y="13965"/>
                </a:cubicBezTo>
                <a:cubicBezTo>
                  <a:pt x="9776" y="13928"/>
                  <a:pt x="10047" y="13956"/>
                  <a:pt x="10244" y="13990"/>
                </a:cubicBezTo>
                <a:cubicBezTo>
                  <a:pt x="10378" y="14013"/>
                  <a:pt x="10580" y="14036"/>
                  <a:pt x="10691" y="14139"/>
                </a:cubicBezTo>
                <a:cubicBezTo>
                  <a:pt x="10790" y="14231"/>
                  <a:pt x="10820" y="14391"/>
                  <a:pt x="10864" y="14511"/>
                </a:cubicBezTo>
                <a:cubicBezTo>
                  <a:pt x="10942" y="14725"/>
                  <a:pt x="10973" y="14934"/>
                  <a:pt x="11013" y="15156"/>
                </a:cubicBezTo>
                <a:cubicBezTo>
                  <a:pt x="11035" y="15263"/>
                  <a:pt x="11043" y="15287"/>
                  <a:pt x="11038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4:43:54Z</dcterms:created>
  <dc:creator>abeason</dc:creator>
  <dc:description/>
  <dc:language>en-US</dc:language>
  <cp:lastModifiedBy>abeason</cp:lastModifiedBy>
  <dcterms:modified xsi:type="dcterms:W3CDTF">2008-10-23T18:10:53Z</dcterms:modified>
  <cp:revision>2</cp:revision>
  <dc:subject/>
  <dc:title>Slide 1</dc:title>
</cp:coreProperties>
</file>